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6"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FBA3-5F22-4BC6-A012-E966FF2A9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76480" y="696960"/>
            <a:ext cx="4638600" cy="3479760"/>
          </a:xfrm>
          <a:prstGeom prst="rect">
            <a:avLst/>
          </a:prstGeom>
          <a:ln w="0">
            <a:noFill/>
          </a:ln>
        </p:spPr>
      </p:sp>
      <p:sp>
        <p:nvSpPr>
          <p:cNvPr id="10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the number of regular teachers, these schools </a:t>
            </a:r>
            <a:r>
              <a:rPr b="0" lang="en-US" sz="1200" spc="-1" strike="noStrike">
                <a:solidFill>
                  <a:srgbClr val="000000"/>
                </a:solidFill>
                <a:latin typeface="Times New Roman"/>
                <a:ea typeface="Times New Roman"/>
              </a:rPr>
              <a:t>traded specialist positions for regular classroom teachers, including teachers for students with mild disabilities such as 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 result, each school had specific strategies for instructing low-achieving or learning-disabled students within the regular classroom or as part of the core features of the school desig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76480" y="696960"/>
            <a:ext cx="4638600" cy="3479760"/>
          </a:xfrm>
          <a:prstGeom prst="rect">
            <a:avLst/>
          </a:prstGeom>
          <a:ln w="0">
            <a:noFill/>
          </a:ln>
        </p:spPr>
      </p:sp>
      <p:sp>
        <p:nvSpPr>
          <p:cNvPr id="10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ter required a strong instructional program that took into account the special needs of these students, some teacher training to help teachers learn to teach students with special needs, rewriting IEPs to reflect the new service strategies, and smaller class sizes to help teachers manage this broad range of student nee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76480" y="696960"/>
            <a:ext cx="4638600" cy="3479760"/>
          </a:xfrm>
          <a:prstGeom prst="rect">
            <a:avLst/>
          </a:prstGeom>
          <a:ln w="0">
            <a:noFill/>
          </a:ln>
        </p:spPr>
      </p:sp>
      <p:sp>
        <p:nvSpPr>
          <p:cNvPr id="10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costs include rent on the school transportation garage, repair equipment, financing to purchase bu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costs include driver time, gas and oil, wear and tear on the buses,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6480" y="696960"/>
            <a:ext cx="4638600" cy="3479760"/>
          </a:xfrm>
          <a:prstGeom prst="rect">
            <a:avLst/>
          </a:prstGeom>
          <a:ln w="0">
            <a:noFill/>
          </a:ln>
        </p:spPr>
      </p:sp>
      <p:sp>
        <p:nvSpPr>
          <p:cNvPr id="9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n chapter 6 we discussed that the school budget can be divided into three parts: core instruction, other instruction (specialist subject and special needs), and overhead. This chapter is organized in the same way, with each of the first three sections discussing examples of resource reallocation in each respective p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76480" y="696960"/>
            <a:ext cx="4638600" cy="3479760"/>
          </a:xfrm>
          <a:prstGeom prst="rect">
            <a:avLst/>
          </a:prstGeom>
          <a:ln w="0">
            <a:noFill/>
          </a:ln>
        </p:spPr>
      </p:sp>
      <p:sp>
        <p:nvSpPr>
          <p:cNvPr id="10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s are the extra costs of doing something additional (shifting from half- to full-day kindergarten); average costs are the total current operating co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E4AE1-0F6C-403E-A4FA-8E8576FC1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A89E2-FF1A-4610-9777-2EC71261B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FEE76-54F5-4D03-A340-1CE9CA1E3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41686-B09B-41F5-81FE-206FF6B5E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93178-E326-42DE-95C8-59355FC9A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0C531-335B-4413-9268-3B295FEC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E464A-9104-44E0-8CA9-CE7FEDEA9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0DE6-C234-459E-8A77-CD0E024C4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A4AE-58C8-4EDD-96B0-1A244D10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5B81-99C3-4FB5-908B-F4158000D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A37A6-5CC6-479A-A85C-92CA6AEB1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9C53C-0F3D-4345-9849-449492279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200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7242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808040" y="63244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7CEE-C079-4769-B0F1-A47B9140B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cer.wisc.edu/cpre"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837720"/>
            <a:ext cx="8610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Using Educational Resources More Effectively </a:t>
            </a:r>
            <a:endParaRPr b="0" lang="en-US" sz="4800" spc="-1" strike="noStrike">
              <a:solidFill>
                <a:srgbClr val="3333cc"/>
              </a:solidFill>
              <a:latin typeface="Times New Roman"/>
            </a:endParaRPr>
          </a:p>
        </p:txBody>
      </p:sp>
      <p:sp>
        <p:nvSpPr>
          <p:cNvPr id="50" name="PlaceHolder 2"/>
          <p:cNvSpPr>
            <a:spLocks noGrp="1"/>
          </p:cNvSpPr>
          <p:nvPr>
            <p:ph/>
          </p:nvPr>
        </p:nvSpPr>
        <p:spPr>
          <a:xfrm>
            <a:off x="685800" y="4191120"/>
            <a:ext cx="7772400" cy="129528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7</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88451E-8AA1-4076-916A-30651AEC0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district level, one of the most important reallocations to make is resources for professional development</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show that districts spend more than think on professional development but in incoherent, fragmented way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ing these resources to more in-depth professional development around the core curriculum can help boost student achievement</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843550-A093-488F-B16A-29FCBD72F1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808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70" name="PlaceHolder 2"/>
          <p:cNvSpPr>
            <a:spLocks noGrp="1"/>
          </p:cNvSpPr>
          <p:nvPr>
            <p:ph/>
          </p:nvPr>
        </p:nvSpPr>
        <p:spPr>
          <a:xfrm>
            <a:off x="533520" y="1294920"/>
            <a:ext cx="82296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the early 1990s, Karen Miles and Linda Darling-Hammond studied 3 elementary and 2 high school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schools adopted or created a new school vision and reallocated their resources to the needs of their new vision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schools were in urban districts serving large numbers of low-income and disabled students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of the schools were “new starts”</a:t>
            </a:r>
            <a:endParaRPr b="0" lang="en-US" sz="28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chools restructured themselves from their previous to their new desig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066B74-F8AB-4097-A9D2-AF42FD616C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amples of Reallocating Core Resources</a:t>
            </a:r>
            <a:endParaRPr b="0" lang="en-US" sz="4400" spc="-1" strike="noStrike">
              <a:solidFill>
                <a:srgbClr val="3333cc"/>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varying degrees, the schools made these 5 changes to their use of resource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increased the number of regular-classroom teachers, thereby devoting more of their budget to the core education service: teaching a classroom of studen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provided varied class sizes for different subjec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grouped students differently from the age-grade strategy of most school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expanded common planning time for teacher team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increased teacher professional developm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C206E2-A609-4DD0-9713-C9F03F0DBD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amples of Reallocating Core Resources</a:t>
            </a:r>
            <a:endParaRPr b="0" lang="en-US" sz="4400" spc="-1" strike="noStrike">
              <a:solidFill>
                <a:srgbClr val="3333cc"/>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of these strateg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volved using resources differently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re designed to help strengthen the schools’ core instructional program</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each school produced higher levels of student performance, including special education students, as a result</a:t>
            </a:r>
            <a:endParaRPr b="0" lang="en-US" sz="24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e of the schools studied were given extra resources above those provided through normal district budge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729583-FF5A-44F0-ACB2-2D7A0CAF54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tegory 2: Resources for Specialists and Student Support</a:t>
            </a:r>
            <a:endParaRPr b="0" lang="en-US" sz="4000" spc="-1" strike="noStrike">
              <a:solidFill>
                <a:srgbClr val="3333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 music, physical education, drama, technology and other special subject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and Math specialists or tuto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Guidance, Psychologists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Aid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95A1F0-1CB1-448C-A0D8-693284539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Specialist and Student Support Resources</a:t>
            </a:r>
            <a:endParaRPr b="0" lang="en-US" sz="4000" spc="-1" strike="noStrike">
              <a:solidFill>
                <a:srgbClr val="3333cc"/>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den and Archibald (2000, 2001) studied schools who reallocated resources to fund comprehensive school designs and class size reduc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jor source of funding for these changes was reallocation of category two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3AAE24-07F2-4154-8158-7194A924B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amples of Reallocating Specialist and Student Support Resource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fically, the schools in Odden &amp; Archibald (2000, 2001):</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ept nearly all regular-education specialists as well as the bulk of special-education and pupil support staff</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ed their categorical program specialists, including ELL, Title I, and Special Ed for mild disabilities, for regular classroom teac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6E34D5-FB34-401F-9D78-89080A1634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ategory 3: Overhead</a:t>
            </a:r>
            <a:endParaRPr b="0" lang="en-US" sz="44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Administr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ntendent</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School Board</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Fiscal and Personnel Service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Heating, Cooling, Electricity, Janitor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Plumbers, Electricians, Carpenter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term deb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7369D8-0C1D-4361-877D-42D2DECB2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Overhead </a:t>
            </a:r>
            <a:endParaRPr b="0" lang="en-US" sz="4000" spc="-1" strike="noStrike">
              <a:solidFill>
                <a:srgbClr val="3333cc"/>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ing Pupils: The Foshay Bu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knowledge of fixed and variable costs, a principal decided to hire a bus driver to stay at the school every day to be available for field trips, rather than pay for the back and forth and have the driver available less often</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ed this through a combination of reallocating student activities resources, fundraising and grant money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BF2C1E-77CB-4C52-B8CC-D8E8D3E62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Overhead </a:t>
            </a:r>
            <a:endParaRPr b="0" lang="en-US" sz="40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ing the Community through Food Services: Combining school lunch with neighborhood meal program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food service is cheaper per meal the more meals are served, combining these programs saves money</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mean combining with meals on wheels (sending food out) or inviting community members to come to the scho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903098-5217-486B-979C-820681FC54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Using Educational Resources More Effectively</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use of resources for core instruction</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ing categorical and specialist subject resources</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ective ways to structure the “overhead” functions of schools</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ing resources to the evidence-based adequacy mode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58CEB0-46F0-41BD-8588-36B9661F28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Overhead </a:t>
            </a:r>
            <a:endParaRPr b="0" lang="en-US" sz="4000" spc="-1" strike="noStrike">
              <a:solidFill>
                <a:srgbClr val="3333cc"/>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Energy Management: In Warwick, RI, they did this b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ing heating oil futures to mitigate increases in the cost of heating oil over the year</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ing into cooperative agreements to purchase natural gas and electricit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ofitting school buildings with energy-efficient lighting</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solar energ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ing to biodiesel fuel for space he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0C77CD-CCEC-45C5-8240-FDFF2915FC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ng Resources Using the Evidence-Based Adequacy Model</a:t>
            </a:r>
            <a:endParaRPr b="0" lang="en-US" sz="40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apter also identifies a school redesign simulation available online at </a:t>
            </a:r>
            <a:r>
              <a:rPr b="0" lang="en-US" sz="3200" spc="-1" strike="noStrike" u="sng">
                <a:solidFill>
                  <a:srgbClr val="ccccff"/>
                </a:solidFill>
                <a:uFillTx/>
                <a:latin typeface="Times New Roman"/>
                <a:ea typeface="Times New Roman"/>
                <a:hlinkClick r:id="rId1"/>
              </a:rPr>
              <a:t>http://www.wcer.wisc.edu/cpre</a:t>
            </a:r>
            <a:r>
              <a:rPr b="0" lang="en-US" sz="3200" spc="-1" strike="noStrike" u="sng">
                <a:solidFill>
                  <a:srgbClr val="000000"/>
                </a:solidFill>
                <a:uFillTx/>
                <a:latin typeface="Times New Roman"/>
                <a:ea typeface="Times New Roman"/>
              </a:rPr>
              <a:t> that can be used to determine whether it can afford to implement the Evidence-Based Adequacy Mod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ata from your school or another student’s school to try this process yoursel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589585-DB80-4FCB-8ABF-30172EE91E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ng Resources Using the Evidence-Based Adequacy Model</a:t>
            </a:r>
            <a:endParaRPr b="0" lang="en-US" sz="4000" spc="-1" strike="noStrike">
              <a:solidFill>
                <a:srgbClr val="3333cc"/>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slide provides the current resources for a 600-student middle school with 50% poverty and 25% EL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this school’s data to input into the school finance redesign report, as shown on slide 24, titled “Evidence-Based Model Resour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70A157-2AAF-4401-9810-3B8034D017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urrent Resources</a:t>
            </a:r>
            <a:endParaRPr b="0" lang="en-US" sz="4400" spc="-1" strike="noStrike">
              <a:solidFill>
                <a:srgbClr val="3333cc"/>
              </a:solidFill>
              <a:latin typeface="Times New Roman"/>
            </a:endParaRPr>
          </a:p>
        </p:txBody>
      </p:sp>
      <p:pic>
        <p:nvPicPr>
          <p:cNvPr id="94" name="" descr=""/>
          <p:cNvPicPr/>
          <p:nvPr/>
        </p:nvPicPr>
        <p:blipFill>
          <a:blip r:embed="rId1"/>
          <a:stretch/>
        </p:blipFill>
        <p:spPr>
          <a:xfrm>
            <a:off x="533520" y="977760"/>
            <a:ext cx="7924680" cy="5423040"/>
          </a:xfrm>
          <a:prstGeom prst="rect">
            <a:avLst/>
          </a:prstGeom>
          <a:ln w="0">
            <a:noFill/>
          </a:ln>
        </p:spPr>
      </p:pic>
      <p:sp>
        <p:nvSpPr>
          <p:cNvPr id="3" name="PlaceHolder 2"/>
          <p:cNvSpPr>
            <a:spLocks noGrp="1"/>
          </p:cNvSpPr>
          <p:nvPr>
            <p:ph type="sldNum" idx="3"/>
          </p:nvPr>
        </p:nvSpPr>
        <p:spPr/>
        <p:txBody>
          <a:bodyPr/>
          <a:p>
            <a:fld id="{51DA5193-501C-4247-8A54-2984ABCEB2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vidence-Based Model Resources</a:t>
            </a:r>
            <a:endParaRPr b="0" lang="en-US" sz="4000" spc="-1" strike="noStrike">
              <a:solidFill>
                <a:srgbClr val="3333cc"/>
              </a:solidFill>
              <a:latin typeface="Times New Roman"/>
            </a:endParaRPr>
          </a:p>
        </p:txBody>
      </p:sp>
      <p:pic>
        <p:nvPicPr>
          <p:cNvPr id="96" name="" descr=""/>
          <p:cNvPicPr/>
          <p:nvPr/>
        </p:nvPicPr>
        <p:blipFill>
          <a:blip r:embed="rId1"/>
          <a:stretch/>
        </p:blipFill>
        <p:spPr>
          <a:xfrm>
            <a:off x="1219320" y="838080"/>
            <a:ext cx="6476760" cy="5748480"/>
          </a:xfrm>
          <a:prstGeom prst="rect">
            <a:avLst/>
          </a:prstGeom>
          <a:ln w="0">
            <a:noFill/>
          </a:ln>
        </p:spPr>
      </p:pic>
      <p:sp>
        <p:nvSpPr>
          <p:cNvPr id="3" name="PlaceHolder 2"/>
          <p:cNvSpPr>
            <a:spLocks noGrp="1"/>
          </p:cNvSpPr>
          <p:nvPr>
            <p:ph type="sldNum" idx="3"/>
          </p:nvPr>
        </p:nvSpPr>
        <p:spPr/>
        <p:txBody>
          <a:bodyPr/>
          <a:p>
            <a:fld id="{6E0DE96C-F896-4357-8FA6-4B377DBC767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hy Reallocate Resources?</a:t>
            </a: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 saw in Chapter 6, the influx of dollars into schools over the past few decades has led to many extra professional positions outside the regular classroom</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with these extra positions, schools are not achieving at desired levels and thus need to rethink their use of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E0501-E8B1-4F94-947F-8DF29CCD56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ategory 1: Core Resources</a:t>
            </a:r>
            <a:endParaRPr b="0" lang="en-US" sz="44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teacher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level or multiage for elementary school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Science, History, Language Arts (and in some cases World Language)</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Development</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C2EAF6-454B-47F9-80C3-8DD012F9E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ison, WI: Low reading scores, particularly for minority students, was the impetus for the following chang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a research-based reading curriculum in all elementary school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Sizes of 15 in grades K-3</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sive, ongoing professional development for teachers related to the new reading program</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tutors for struggling students</a:t>
            </a:r>
            <a:endParaRPr b="0" lang="en-US" sz="24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2AF685-3255-48E4-BD6D-5F206C423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sized urban district, WI: Low test scores, particularly for minority students, was the impetus for these changes also:</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 sizes of 15 in K-3</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from half-day to full-day kindergart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9C43BF-82C8-48EF-930B-6F79E47B4C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id the district finance these chang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ir knowledge of marginal vs. average costs, administrators figured out that by switching from half- to full-day kindergarten, they would get twice the resources (since their student count goes up), but it wouldn’t cost twice as much, and the surplus could be used to reduce class sizes in K-3</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rollment growth also brought in more fun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148B2B5-A198-482B-AE06-2EB6BC956E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multiage classrooms in small schools can save teacher resourc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K-5 school has 60 students, 10 in each grade, they would need 6 teachers if organized by grade level, but could combine classrooms and have three teachers with class sizes of 20: K-1, 2-3 and 4-5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nfigurations also possible – research shows that students in multiage classes do wel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6FA38-D815-4B02-B402-4069A7EE9A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high school level, resources can also be saved by offering classes less frequently:</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high school with 100 students, class sizes would be approximately 8 in the sciences if they offered all of them – physics, chemistry, biology, general science, advanced science – every yea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lso choose to offer these courses every other year and combine ages of studen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58BEE7-D3B1-453E-BDE9-F17081E644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10-03-10T19:37:42Z</dcterms:modified>
  <cp:revision>67</cp:revision>
  <dc:subject/>
  <dc:title>No Slide Title</dc:title>
</cp:coreProperties>
</file>