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5854-5857-4588-97A9-D85F0970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4313-A55F-490A-91C0-9A33AD7D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676B-13C7-496E-B81E-72FD3D7CA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9FDF-00EF-4545-B1F5-92C66644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481C-0812-43F9-B41C-21E77D23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C395-6DC4-41C9-81C9-E2EA719A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0BB9-A653-487D-B21C-AB108DF2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6280-8AC8-46C5-9496-BDFA403B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8687-9729-4456-81B1-8D566D7E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026C-C157-452D-A3B0-5D4ED105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2D3A-F4FD-4D9E-9147-B61A7620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487A-C2E9-4C53-8D2B-5452647C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cccc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cccc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cccc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0300-2526-4830-B9CB-0DB39736A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cs.org/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1828440"/>
            <a:ext cx="87138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Education Funding – A National Perspective</a:t>
            </a:r>
            <a:r>
              <a:rPr b="0" lang="en-US" sz="4000" spc="-1" strike="noStrike">
                <a:solidFill>
                  <a:srgbClr val="00cc99"/>
                </a:solidFill>
                <a:latin typeface="Arial Black"/>
              </a:rPr>
              <a:t> </a:t>
            </a:r>
            <a:br>
              <a:rPr sz="4800"/>
            </a:b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Providence, Rhode Island</a:t>
            </a:r>
            <a:br>
              <a:rPr sz="2400"/>
            </a:b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November 13, 2007</a:t>
            </a:r>
            <a:endParaRPr b="0" lang="en-US" sz="24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4876920"/>
            <a:ext cx="82864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chael Griffith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hool Finance Analyst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ducation Commission of the States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Increase in Spending</a:t>
            </a: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Each $1 increase in relative spending effort would equate to $23.9 million extra in education spending in Rhode Island.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If Rhode Island were to spend at the national level it would increase education spending by $95.5 million.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School Finance Formulas</a:t>
            </a:r>
            <a:endParaRPr b="0" lang="en-US" sz="4400" spc="-1" strike="noStrike">
              <a:solidFill>
                <a:srgbClr val="00cc9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7617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School Funding Formulas</a:t>
            </a: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Foundation/Base Formula (38 states)</a:t>
            </a: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Teacher Allocation (6 states)</a:t>
            </a: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School Funding Formulas</a:t>
            </a: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Dollar allocation per student (MA &amp; WY)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Combination of Foundation Program &amp; Teacher Allocation (DE)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Based on previous years allocations (PA &amp; RI) (now only RI)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Hawaii has no funding formula due to the fact that it operates as a single school district.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ool Funding Formulas</a:t>
            </a:r>
            <a:endParaRPr b="0" lang="en-US" sz="28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7777080" y="2550960"/>
            <a:ext cx="106560" cy="127080"/>
          </a:xfrm>
          <a:custGeom>
            <a:avLst/>
            <a:gdLst/>
            <a:ahLst/>
            <a:rect l="l" t="t" r="r" b="b"/>
            <a:pathLst>
              <a:path w="67" h="160">
                <a:moveTo>
                  <a:pt x="55" y="57"/>
                </a:moveTo>
                <a:lnTo>
                  <a:pt x="62" y="61"/>
                </a:lnTo>
                <a:lnTo>
                  <a:pt x="64" y="74"/>
                </a:lnTo>
                <a:lnTo>
                  <a:pt x="67" y="93"/>
                </a:lnTo>
                <a:lnTo>
                  <a:pt x="63" y="103"/>
                </a:lnTo>
                <a:lnTo>
                  <a:pt x="61" y="95"/>
                </a:lnTo>
                <a:lnTo>
                  <a:pt x="58" y="95"/>
                </a:lnTo>
                <a:lnTo>
                  <a:pt x="54" y="109"/>
                </a:lnTo>
                <a:lnTo>
                  <a:pt x="46" y="109"/>
                </a:lnTo>
                <a:lnTo>
                  <a:pt x="42" y="134"/>
                </a:lnTo>
                <a:lnTo>
                  <a:pt x="32" y="139"/>
                </a:lnTo>
                <a:lnTo>
                  <a:pt x="14" y="160"/>
                </a:lnTo>
                <a:lnTo>
                  <a:pt x="12" y="156"/>
                </a:lnTo>
                <a:lnTo>
                  <a:pt x="14" y="156"/>
                </a:lnTo>
                <a:lnTo>
                  <a:pt x="17" y="135"/>
                </a:lnTo>
                <a:lnTo>
                  <a:pt x="13" y="99"/>
                </a:lnTo>
                <a:lnTo>
                  <a:pt x="12" y="93"/>
                </a:lnTo>
                <a:lnTo>
                  <a:pt x="12" y="90"/>
                </a:lnTo>
                <a:lnTo>
                  <a:pt x="12" y="88"/>
                </a:lnTo>
                <a:lnTo>
                  <a:pt x="11" y="86"/>
                </a:lnTo>
                <a:lnTo>
                  <a:pt x="8" y="74"/>
                </a:lnTo>
                <a:lnTo>
                  <a:pt x="8" y="69"/>
                </a:lnTo>
                <a:lnTo>
                  <a:pt x="2" y="32"/>
                </a:lnTo>
                <a:lnTo>
                  <a:pt x="0" y="17"/>
                </a:lnTo>
                <a:lnTo>
                  <a:pt x="3" y="15"/>
                </a:lnTo>
                <a:lnTo>
                  <a:pt x="21" y="6"/>
                </a:lnTo>
                <a:lnTo>
                  <a:pt x="24" y="4"/>
                </a:lnTo>
                <a:lnTo>
                  <a:pt x="28" y="2"/>
                </a:lnTo>
                <a:lnTo>
                  <a:pt x="33" y="0"/>
                </a:lnTo>
                <a:lnTo>
                  <a:pt x="34" y="6"/>
                </a:lnTo>
                <a:lnTo>
                  <a:pt x="36" y="25"/>
                </a:lnTo>
                <a:lnTo>
                  <a:pt x="39" y="21"/>
                </a:lnTo>
                <a:lnTo>
                  <a:pt x="44" y="46"/>
                </a:lnTo>
                <a:lnTo>
                  <a:pt x="49" y="48"/>
                </a:lnTo>
                <a:lnTo>
                  <a:pt x="51" y="50"/>
                </a:lnTo>
                <a:lnTo>
                  <a:pt x="55" y="57"/>
                </a:lnTo>
                <a:close/>
              </a:path>
            </a:pathLst>
          </a:custGeom>
          <a:solidFill>
            <a:srgbClr val="0000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89640" y="3554280"/>
            <a:ext cx="1189080" cy="506520"/>
          </a:xfrm>
          <a:custGeom>
            <a:avLst/>
            <a:gdLst/>
            <a:ahLst/>
            <a:rect l="l" t="t" r="r" b="b"/>
            <a:pathLst>
              <a:path w="749" h="638">
                <a:moveTo>
                  <a:pt x="147" y="294"/>
                </a:moveTo>
                <a:lnTo>
                  <a:pt x="150" y="287"/>
                </a:lnTo>
                <a:lnTo>
                  <a:pt x="161" y="279"/>
                </a:lnTo>
                <a:lnTo>
                  <a:pt x="162" y="273"/>
                </a:lnTo>
                <a:lnTo>
                  <a:pt x="170" y="277"/>
                </a:lnTo>
                <a:lnTo>
                  <a:pt x="172" y="281"/>
                </a:lnTo>
                <a:lnTo>
                  <a:pt x="175" y="281"/>
                </a:lnTo>
                <a:lnTo>
                  <a:pt x="177" y="275"/>
                </a:lnTo>
                <a:lnTo>
                  <a:pt x="179" y="275"/>
                </a:lnTo>
                <a:lnTo>
                  <a:pt x="185" y="243"/>
                </a:lnTo>
                <a:lnTo>
                  <a:pt x="186" y="239"/>
                </a:lnTo>
                <a:lnTo>
                  <a:pt x="189" y="231"/>
                </a:lnTo>
                <a:lnTo>
                  <a:pt x="199" y="224"/>
                </a:lnTo>
                <a:lnTo>
                  <a:pt x="200" y="212"/>
                </a:lnTo>
                <a:lnTo>
                  <a:pt x="201" y="189"/>
                </a:lnTo>
                <a:lnTo>
                  <a:pt x="201" y="170"/>
                </a:lnTo>
                <a:lnTo>
                  <a:pt x="205" y="170"/>
                </a:lnTo>
                <a:lnTo>
                  <a:pt x="218" y="166"/>
                </a:lnTo>
                <a:lnTo>
                  <a:pt x="221" y="166"/>
                </a:lnTo>
                <a:lnTo>
                  <a:pt x="228" y="165"/>
                </a:lnTo>
                <a:lnTo>
                  <a:pt x="232" y="165"/>
                </a:lnTo>
                <a:lnTo>
                  <a:pt x="253" y="159"/>
                </a:lnTo>
                <a:lnTo>
                  <a:pt x="266" y="155"/>
                </a:lnTo>
                <a:lnTo>
                  <a:pt x="269" y="155"/>
                </a:lnTo>
                <a:lnTo>
                  <a:pt x="270" y="155"/>
                </a:lnTo>
                <a:lnTo>
                  <a:pt x="272" y="155"/>
                </a:lnTo>
                <a:lnTo>
                  <a:pt x="273" y="153"/>
                </a:lnTo>
                <a:lnTo>
                  <a:pt x="277" y="153"/>
                </a:lnTo>
                <a:lnTo>
                  <a:pt x="283" y="149"/>
                </a:lnTo>
                <a:lnTo>
                  <a:pt x="291" y="147"/>
                </a:lnTo>
                <a:lnTo>
                  <a:pt x="295" y="147"/>
                </a:lnTo>
                <a:lnTo>
                  <a:pt x="300" y="145"/>
                </a:lnTo>
                <a:lnTo>
                  <a:pt x="305" y="145"/>
                </a:lnTo>
                <a:lnTo>
                  <a:pt x="318" y="142"/>
                </a:lnTo>
                <a:lnTo>
                  <a:pt x="333" y="138"/>
                </a:lnTo>
                <a:lnTo>
                  <a:pt x="339" y="136"/>
                </a:lnTo>
                <a:lnTo>
                  <a:pt x="341" y="136"/>
                </a:lnTo>
                <a:lnTo>
                  <a:pt x="343" y="134"/>
                </a:lnTo>
                <a:lnTo>
                  <a:pt x="354" y="130"/>
                </a:lnTo>
                <a:lnTo>
                  <a:pt x="367" y="126"/>
                </a:lnTo>
                <a:lnTo>
                  <a:pt x="375" y="124"/>
                </a:lnTo>
                <a:lnTo>
                  <a:pt x="380" y="123"/>
                </a:lnTo>
                <a:lnTo>
                  <a:pt x="384" y="121"/>
                </a:lnTo>
                <a:lnTo>
                  <a:pt x="395" y="117"/>
                </a:lnTo>
                <a:lnTo>
                  <a:pt x="406" y="113"/>
                </a:lnTo>
                <a:lnTo>
                  <a:pt x="408" y="111"/>
                </a:lnTo>
                <a:lnTo>
                  <a:pt x="415" y="109"/>
                </a:lnTo>
                <a:lnTo>
                  <a:pt x="441" y="100"/>
                </a:lnTo>
                <a:lnTo>
                  <a:pt x="442" y="100"/>
                </a:lnTo>
                <a:lnTo>
                  <a:pt x="444" y="98"/>
                </a:lnTo>
                <a:lnTo>
                  <a:pt x="445" y="98"/>
                </a:lnTo>
                <a:lnTo>
                  <a:pt x="448" y="98"/>
                </a:lnTo>
                <a:lnTo>
                  <a:pt x="449" y="96"/>
                </a:lnTo>
                <a:lnTo>
                  <a:pt x="458" y="94"/>
                </a:lnTo>
                <a:lnTo>
                  <a:pt x="468" y="90"/>
                </a:lnTo>
                <a:lnTo>
                  <a:pt x="472" y="88"/>
                </a:lnTo>
                <a:lnTo>
                  <a:pt x="476" y="86"/>
                </a:lnTo>
                <a:lnTo>
                  <a:pt x="479" y="86"/>
                </a:lnTo>
                <a:lnTo>
                  <a:pt x="483" y="84"/>
                </a:lnTo>
                <a:lnTo>
                  <a:pt x="489" y="81"/>
                </a:lnTo>
                <a:lnTo>
                  <a:pt x="491" y="81"/>
                </a:lnTo>
                <a:lnTo>
                  <a:pt x="507" y="75"/>
                </a:lnTo>
                <a:lnTo>
                  <a:pt x="511" y="73"/>
                </a:lnTo>
                <a:lnTo>
                  <a:pt x="515" y="73"/>
                </a:lnTo>
                <a:lnTo>
                  <a:pt x="519" y="71"/>
                </a:lnTo>
                <a:lnTo>
                  <a:pt x="524" y="69"/>
                </a:lnTo>
                <a:lnTo>
                  <a:pt x="527" y="67"/>
                </a:lnTo>
                <a:lnTo>
                  <a:pt x="530" y="65"/>
                </a:lnTo>
                <a:lnTo>
                  <a:pt x="547" y="60"/>
                </a:lnTo>
                <a:lnTo>
                  <a:pt x="549" y="60"/>
                </a:lnTo>
                <a:lnTo>
                  <a:pt x="570" y="50"/>
                </a:lnTo>
                <a:lnTo>
                  <a:pt x="573" y="50"/>
                </a:lnTo>
                <a:lnTo>
                  <a:pt x="581" y="46"/>
                </a:lnTo>
                <a:lnTo>
                  <a:pt x="584" y="44"/>
                </a:lnTo>
                <a:lnTo>
                  <a:pt x="586" y="44"/>
                </a:lnTo>
                <a:lnTo>
                  <a:pt x="601" y="39"/>
                </a:lnTo>
                <a:lnTo>
                  <a:pt x="601" y="37"/>
                </a:lnTo>
                <a:lnTo>
                  <a:pt x="604" y="35"/>
                </a:lnTo>
                <a:lnTo>
                  <a:pt x="615" y="31"/>
                </a:lnTo>
                <a:lnTo>
                  <a:pt x="632" y="23"/>
                </a:lnTo>
                <a:lnTo>
                  <a:pt x="633" y="23"/>
                </a:lnTo>
                <a:lnTo>
                  <a:pt x="636" y="23"/>
                </a:lnTo>
                <a:lnTo>
                  <a:pt x="646" y="18"/>
                </a:lnTo>
                <a:lnTo>
                  <a:pt x="649" y="18"/>
                </a:lnTo>
                <a:lnTo>
                  <a:pt x="651" y="16"/>
                </a:lnTo>
                <a:lnTo>
                  <a:pt x="655" y="16"/>
                </a:lnTo>
                <a:lnTo>
                  <a:pt x="656" y="14"/>
                </a:lnTo>
                <a:lnTo>
                  <a:pt x="667" y="10"/>
                </a:lnTo>
                <a:lnTo>
                  <a:pt x="677" y="6"/>
                </a:lnTo>
                <a:lnTo>
                  <a:pt x="688" y="0"/>
                </a:lnTo>
                <a:lnTo>
                  <a:pt x="690" y="10"/>
                </a:lnTo>
                <a:lnTo>
                  <a:pt x="704" y="61"/>
                </a:lnTo>
                <a:lnTo>
                  <a:pt x="744" y="174"/>
                </a:lnTo>
                <a:lnTo>
                  <a:pt x="749" y="251"/>
                </a:lnTo>
                <a:lnTo>
                  <a:pt x="731" y="272"/>
                </a:lnTo>
                <a:lnTo>
                  <a:pt x="712" y="306"/>
                </a:lnTo>
                <a:lnTo>
                  <a:pt x="712" y="308"/>
                </a:lnTo>
                <a:lnTo>
                  <a:pt x="693" y="356"/>
                </a:lnTo>
                <a:lnTo>
                  <a:pt x="676" y="415"/>
                </a:lnTo>
                <a:lnTo>
                  <a:pt x="668" y="407"/>
                </a:lnTo>
                <a:lnTo>
                  <a:pt x="657" y="407"/>
                </a:lnTo>
                <a:lnTo>
                  <a:pt x="627" y="430"/>
                </a:lnTo>
                <a:lnTo>
                  <a:pt x="617" y="445"/>
                </a:lnTo>
                <a:lnTo>
                  <a:pt x="597" y="485"/>
                </a:lnTo>
                <a:lnTo>
                  <a:pt x="583" y="522"/>
                </a:lnTo>
                <a:lnTo>
                  <a:pt x="580" y="531"/>
                </a:lnTo>
                <a:lnTo>
                  <a:pt x="572" y="604"/>
                </a:lnTo>
                <a:lnTo>
                  <a:pt x="571" y="613"/>
                </a:lnTo>
                <a:lnTo>
                  <a:pt x="556" y="613"/>
                </a:lnTo>
                <a:lnTo>
                  <a:pt x="535" y="623"/>
                </a:lnTo>
                <a:lnTo>
                  <a:pt x="521" y="638"/>
                </a:lnTo>
                <a:lnTo>
                  <a:pt x="519" y="634"/>
                </a:lnTo>
                <a:lnTo>
                  <a:pt x="511" y="625"/>
                </a:lnTo>
                <a:lnTo>
                  <a:pt x="510" y="623"/>
                </a:lnTo>
                <a:lnTo>
                  <a:pt x="486" y="591"/>
                </a:lnTo>
                <a:lnTo>
                  <a:pt x="472" y="571"/>
                </a:lnTo>
                <a:lnTo>
                  <a:pt x="466" y="564"/>
                </a:lnTo>
                <a:lnTo>
                  <a:pt x="446" y="537"/>
                </a:lnTo>
                <a:lnTo>
                  <a:pt x="439" y="526"/>
                </a:lnTo>
                <a:lnTo>
                  <a:pt x="427" y="510"/>
                </a:lnTo>
                <a:lnTo>
                  <a:pt x="426" y="508"/>
                </a:lnTo>
                <a:lnTo>
                  <a:pt x="411" y="487"/>
                </a:lnTo>
                <a:lnTo>
                  <a:pt x="404" y="480"/>
                </a:lnTo>
                <a:lnTo>
                  <a:pt x="403" y="480"/>
                </a:lnTo>
                <a:lnTo>
                  <a:pt x="398" y="482"/>
                </a:lnTo>
                <a:lnTo>
                  <a:pt x="387" y="485"/>
                </a:lnTo>
                <a:lnTo>
                  <a:pt x="383" y="485"/>
                </a:lnTo>
                <a:lnTo>
                  <a:pt x="376" y="487"/>
                </a:lnTo>
                <a:lnTo>
                  <a:pt x="354" y="495"/>
                </a:lnTo>
                <a:lnTo>
                  <a:pt x="349" y="497"/>
                </a:lnTo>
                <a:lnTo>
                  <a:pt x="348" y="497"/>
                </a:lnTo>
                <a:lnTo>
                  <a:pt x="337" y="499"/>
                </a:lnTo>
                <a:lnTo>
                  <a:pt x="328" y="503"/>
                </a:lnTo>
                <a:lnTo>
                  <a:pt x="308" y="508"/>
                </a:lnTo>
                <a:lnTo>
                  <a:pt x="306" y="484"/>
                </a:lnTo>
                <a:lnTo>
                  <a:pt x="300" y="472"/>
                </a:lnTo>
                <a:lnTo>
                  <a:pt x="299" y="470"/>
                </a:lnTo>
                <a:lnTo>
                  <a:pt x="296" y="464"/>
                </a:lnTo>
                <a:lnTo>
                  <a:pt x="293" y="459"/>
                </a:lnTo>
                <a:lnTo>
                  <a:pt x="285" y="463"/>
                </a:lnTo>
                <a:lnTo>
                  <a:pt x="280" y="451"/>
                </a:lnTo>
                <a:lnTo>
                  <a:pt x="281" y="447"/>
                </a:lnTo>
                <a:lnTo>
                  <a:pt x="271" y="449"/>
                </a:lnTo>
                <a:lnTo>
                  <a:pt x="262" y="451"/>
                </a:lnTo>
                <a:lnTo>
                  <a:pt x="255" y="453"/>
                </a:lnTo>
                <a:lnTo>
                  <a:pt x="252" y="453"/>
                </a:lnTo>
                <a:lnTo>
                  <a:pt x="241" y="457"/>
                </a:lnTo>
                <a:lnTo>
                  <a:pt x="219" y="461"/>
                </a:lnTo>
                <a:lnTo>
                  <a:pt x="218" y="461"/>
                </a:lnTo>
                <a:lnTo>
                  <a:pt x="209" y="463"/>
                </a:lnTo>
                <a:lnTo>
                  <a:pt x="200" y="464"/>
                </a:lnTo>
                <a:lnTo>
                  <a:pt x="192" y="466"/>
                </a:lnTo>
                <a:lnTo>
                  <a:pt x="186" y="468"/>
                </a:lnTo>
                <a:lnTo>
                  <a:pt x="179" y="470"/>
                </a:lnTo>
                <a:lnTo>
                  <a:pt x="177" y="470"/>
                </a:lnTo>
                <a:lnTo>
                  <a:pt x="176" y="470"/>
                </a:lnTo>
                <a:lnTo>
                  <a:pt x="167" y="474"/>
                </a:lnTo>
                <a:lnTo>
                  <a:pt x="155" y="484"/>
                </a:lnTo>
                <a:lnTo>
                  <a:pt x="149" y="489"/>
                </a:lnTo>
                <a:lnTo>
                  <a:pt x="143" y="495"/>
                </a:lnTo>
                <a:lnTo>
                  <a:pt x="140" y="495"/>
                </a:lnTo>
                <a:lnTo>
                  <a:pt x="134" y="510"/>
                </a:lnTo>
                <a:lnTo>
                  <a:pt x="125" y="514"/>
                </a:lnTo>
                <a:lnTo>
                  <a:pt x="123" y="516"/>
                </a:lnTo>
                <a:lnTo>
                  <a:pt x="114" y="524"/>
                </a:lnTo>
                <a:lnTo>
                  <a:pt x="113" y="524"/>
                </a:lnTo>
                <a:lnTo>
                  <a:pt x="105" y="531"/>
                </a:lnTo>
                <a:lnTo>
                  <a:pt x="99" y="533"/>
                </a:lnTo>
                <a:lnTo>
                  <a:pt x="87" y="537"/>
                </a:lnTo>
                <a:lnTo>
                  <a:pt x="73" y="543"/>
                </a:lnTo>
                <a:lnTo>
                  <a:pt x="72" y="543"/>
                </a:lnTo>
                <a:lnTo>
                  <a:pt x="67" y="545"/>
                </a:lnTo>
                <a:lnTo>
                  <a:pt x="61" y="547"/>
                </a:lnTo>
                <a:lnTo>
                  <a:pt x="34" y="554"/>
                </a:lnTo>
                <a:lnTo>
                  <a:pt x="33" y="554"/>
                </a:lnTo>
                <a:lnTo>
                  <a:pt x="28" y="556"/>
                </a:lnTo>
                <a:lnTo>
                  <a:pt x="18" y="558"/>
                </a:lnTo>
                <a:lnTo>
                  <a:pt x="7" y="560"/>
                </a:lnTo>
                <a:lnTo>
                  <a:pt x="1" y="562"/>
                </a:lnTo>
                <a:lnTo>
                  <a:pt x="1" y="560"/>
                </a:lnTo>
                <a:lnTo>
                  <a:pt x="1" y="533"/>
                </a:lnTo>
                <a:lnTo>
                  <a:pt x="0" y="516"/>
                </a:lnTo>
                <a:lnTo>
                  <a:pt x="3" y="506"/>
                </a:lnTo>
                <a:lnTo>
                  <a:pt x="17" y="503"/>
                </a:lnTo>
                <a:lnTo>
                  <a:pt x="22" y="493"/>
                </a:lnTo>
                <a:lnTo>
                  <a:pt x="22" y="476"/>
                </a:lnTo>
                <a:lnTo>
                  <a:pt x="22" y="466"/>
                </a:lnTo>
                <a:lnTo>
                  <a:pt x="25" y="457"/>
                </a:lnTo>
                <a:lnTo>
                  <a:pt x="26" y="457"/>
                </a:lnTo>
                <a:lnTo>
                  <a:pt x="31" y="443"/>
                </a:lnTo>
                <a:lnTo>
                  <a:pt x="42" y="432"/>
                </a:lnTo>
                <a:lnTo>
                  <a:pt x="49" y="428"/>
                </a:lnTo>
                <a:lnTo>
                  <a:pt x="52" y="428"/>
                </a:lnTo>
                <a:lnTo>
                  <a:pt x="63" y="426"/>
                </a:lnTo>
                <a:lnTo>
                  <a:pt x="82" y="392"/>
                </a:lnTo>
                <a:lnTo>
                  <a:pt x="81" y="388"/>
                </a:lnTo>
                <a:lnTo>
                  <a:pt x="91" y="375"/>
                </a:lnTo>
                <a:lnTo>
                  <a:pt x="102" y="371"/>
                </a:lnTo>
                <a:lnTo>
                  <a:pt x="105" y="367"/>
                </a:lnTo>
                <a:lnTo>
                  <a:pt x="108" y="346"/>
                </a:lnTo>
                <a:lnTo>
                  <a:pt x="108" y="344"/>
                </a:lnTo>
                <a:lnTo>
                  <a:pt x="108" y="333"/>
                </a:lnTo>
                <a:lnTo>
                  <a:pt x="118" y="319"/>
                </a:lnTo>
                <a:lnTo>
                  <a:pt x="130" y="302"/>
                </a:lnTo>
                <a:lnTo>
                  <a:pt x="132" y="306"/>
                </a:lnTo>
                <a:lnTo>
                  <a:pt x="132" y="315"/>
                </a:lnTo>
                <a:lnTo>
                  <a:pt x="142" y="317"/>
                </a:lnTo>
                <a:lnTo>
                  <a:pt x="142" y="315"/>
                </a:lnTo>
                <a:lnTo>
                  <a:pt x="145" y="310"/>
                </a:lnTo>
                <a:lnTo>
                  <a:pt x="147" y="294"/>
                </a:lnTo>
                <a:close/>
              </a:path>
            </a:pathLst>
          </a:custGeom>
          <a:solidFill>
            <a:srgbClr val="00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73880" y="3017880"/>
            <a:ext cx="144360" cy="225360"/>
          </a:xfrm>
          <a:custGeom>
            <a:avLst/>
            <a:gdLst/>
            <a:ahLst/>
            <a:rect l="l" t="t" r="r" b="b"/>
            <a:pathLst>
              <a:path w="91" h="285">
                <a:moveTo>
                  <a:pt x="30" y="96"/>
                </a:moveTo>
                <a:lnTo>
                  <a:pt x="23" y="71"/>
                </a:lnTo>
                <a:lnTo>
                  <a:pt x="21" y="52"/>
                </a:lnTo>
                <a:lnTo>
                  <a:pt x="22" y="50"/>
                </a:lnTo>
                <a:lnTo>
                  <a:pt x="20" y="44"/>
                </a:lnTo>
                <a:lnTo>
                  <a:pt x="23" y="27"/>
                </a:lnTo>
                <a:lnTo>
                  <a:pt x="26" y="10"/>
                </a:lnTo>
                <a:lnTo>
                  <a:pt x="28" y="4"/>
                </a:lnTo>
                <a:lnTo>
                  <a:pt x="20" y="0"/>
                </a:lnTo>
                <a:lnTo>
                  <a:pt x="14" y="2"/>
                </a:lnTo>
                <a:lnTo>
                  <a:pt x="13" y="4"/>
                </a:lnTo>
                <a:lnTo>
                  <a:pt x="2" y="27"/>
                </a:lnTo>
                <a:lnTo>
                  <a:pt x="1" y="33"/>
                </a:lnTo>
                <a:lnTo>
                  <a:pt x="0" y="33"/>
                </a:lnTo>
                <a:lnTo>
                  <a:pt x="1" y="44"/>
                </a:lnTo>
                <a:lnTo>
                  <a:pt x="2" y="48"/>
                </a:lnTo>
                <a:lnTo>
                  <a:pt x="10" y="101"/>
                </a:lnTo>
                <a:lnTo>
                  <a:pt x="10" y="103"/>
                </a:lnTo>
                <a:lnTo>
                  <a:pt x="11" y="109"/>
                </a:lnTo>
                <a:lnTo>
                  <a:pt x="12" y="119"/>
                </a:lnTo>
                <a:lnTo>
                  <a:pt x="13" y="122"/>
                </a:lnTo>
                <a:lnTo>
                  <a:pt x="13" y="126"/>
                </a:lnTo>
                <a:lnTo>
                  <a:pt x="14" y="126"/>
                </a:lnTo>
                <a:lnTo>
                  <a:pt x="14" y="128"/>
                </a:lnTo>
                <a:lnTo>
                  <a:pt x="16" y="143"/>
                </a:lnTo>
                <a:lnTo>
                  <a:pt x="16" y="145"/>
                </a:lnTo>
                <a:lnTo>
                  <a:pt x="17" y="149"/>
                </a:lnTo>
                <a:lnTo>
                  <a:pt x="21" y="178"/>
                </a:lnTo>
                <a:lnTo>
                  <a:pt x="26" y="210"/>
                </a:lnTo>
                <a:lnTo>
                  <a:pt x="28" y="224"/>
                </a:lnTo>
                <a:lnTo>
                  <a:pt x="31" y="245"/>
                </a:lnTo>
                <a:lnTo>
                  <a:pt x="32" y="250"/>
                </a:lnTo>
                <a:lnTo>
                  <a:pt x="32" y="252"/>
                </a:lnTo>
                <a:lnTo>
                  <a:pt x="33" y="258"/>
                </a:lnTo>
                <a:lnTo>
                  <a:pt x="34" y="264"/>
                </a:lnTo>
                <a:lnTo>
                  <a:pt x="37" y="285"/>
                </a:lnTo>
                <a:lnTo>
                  <a:pt x="53" y="279"/>
                </a:lnTo>
                <a:lnTo>
                  <a:pt x="66" y="273"/>
                </a:lnTo>
                <a:lnTo>
                  <a:pt x="76" y="269"/>
                </a:lnTo>
                <a:lnTo>
                  <a:pt x="85" y="266"/>
                </a:lnTo>
                <a:lnTo>
                  <a:pt x="91" y="264"/>
                </a:lnTo>
                <a:lnTo>
                  <a:pt x="78" y="195"/>
                </a:lnTo>
                <a:lnTo>
                  <a:pt x="77" y="199"/>
                </a:lnTo>
                <a:lnTo>
                  <a:pt x="57" y="174"/>
                </a:lnTo>
                <a:lnTo>
                  <a:pt x="49" y="155"/>
                </a:lnTo>
                <a:lnTo>
                  <a:pt x="42" y="115"/>
                </a:lnTo>
                <a:lnTo>
                  <a:pt x="30" y="96"/>
                </a:lnTo>
                <a:close/>
              </a:path>
            </a:pathLst>
          </a:custGeom>
          <a:solidFill>
            <a:srgbClr val="0000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232760" y="3197160"/>
            <a:ext cx="28440" cy="28800"/>
          </a:xfrm>
          <a:custGeom>
            <a:avLst/>
            <a:gdLst/>
            <a:ahLst/>
            <a:rect l="l" t="t" r="r" b="b"/>
            <a:pathLst>
              <a:path w="18" h="36">
                <a:moveTo>
                  <a:pt x="0" y="11"/>
                </a:moveTo>
                <a:lnTo>
                  <a:pt x="7" y="21"/>
                </a:lnTo>
                <a:lnTo>
                  <a:pt x="8" y="21"/>
                </a:lnTo>
                <a:lnTo>
                  <a:pt x="8" y="26"/>
                </a:lnTo>
                <a:lnTo>
                  <a:pt x="10" y="36"/>
                </a:lnTo>
                <a:lnTo>
                  <a:pt x="15" y="22"/>
                </a:lnTo>
                <a:lnTo>
                  <a:pt x="18" y="11"/>
                </a:lnTo>
                <a:lnTo>
                  <a:pt x="9" y="0"/>
                </a:lnTo>
                <a:lnTo>
                  <a:pt x="4" y="0"/>
                </a:lnTo>
                <a:lnTo>
                  <a:pt x="2" y="5"/>
                </a:lnTo>
                <a:lnTo>
                  <a:pt x="0" y="11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904080" y="3043080"/>
            <a:ext cx="614160" cy="295560"/>
          </a:xfrm>
          <a:custGeom>
            <a:avLst/>
            <a:gdLst/>
            <a:ahLst/>
            <a:rect l="l" t="t" r="r" b="b"/>
            <a:pathLst>
              <a:path w="387" h="370">
                <a:moveTo>
                  <a:pt x="91" y="82"/>
                </a:moveTo>
                <a:lnTo>
                  <a:pt x="98" y="78"/>
                </a:lnTo>
                <a:lnTo>
                  <a:pt x="99" y="78"/>
                </a:lnTo>
                <a:lnTo>
                  <a:pt x="111" y="74"/>
                </a:lnTo>
                <a:lnTo>
                  <a:pt x="119" y="70"/>
                </a:lnTo>
                <a:lnTo>
                  <a:pt x="158" y="57"/>
                </a:lnTo>
                <a:lnTo>
                  <a:pt x="161" y="55"/>
                </a:lnTo>
                <a:lnTo>
                  <a:pt x="162" y="55"/>
                </a:lnTo>
                <a:lnTo>
                  <a:pt x="164" y="53"/>
                </a:lnTo>
                <a:lnTo>
                  <a:pt x="173" y="51"/>
                </a:lnTo>
                <a:lnTo>
                  <a:pt x="182" y="47"/>
                </a:lnTo>
                <a:lnTo>
                  <a:pt x="195" y="42"/>
                </a:lnTo>
                <a:lnTo>
                  <a:pt x="199" y="40"/>
                </a:lnTo>
                <a:lnTo>
                  <a:pt x="200" y="40"/>
                </a:lnTo>
                <a:lnTo>
                  <a:pt x="206" y="38"/>
                </a:lnTo>
                <a:lnTo>
                  <a:pt x="208" y="36"/>
                </a:lnTo>
                <a:lnTo>
                  <a:pt x="216" y="34"/>
                </a:lnTo>
                <a:lnTo>
                  <a:pt x="221" y="32"/>
                </a:lnTo>
                <a:lnTo>
                  <a:pt x="231" y="26"/>
                </a:lnTo>
                <a:lnTo>
                  <a:pt x="234" y="26"/>
                </a:lnTo>
                <a:lnTo>
                  <a:pt x="238" y="24"/>
                </a:lnTo>
                <a:lnTo>
                  <a:pt x="239" y="24"/>
                </a:lnTo>
                <a:lnTo>
                  <a:pt x="260" y="15"/>
                </a:lnTo>
                <a:lnTo>
                  <a:pt x="261" y="15"/>
                </a:lnTo>
                <a:lnTo>
                  <a:pt x="268" y="11"/>
                </a:lnTo>
                <a:lnTo>
                  <a:pt x="281" y="7"/>
                </a:lnTo>
                <a:lnTo>
                  <a:pt x="289" y="3"/>
                </a:lnTo>
                <a:lnTo>
                  <a:pt x="296" y="0"/>
                </a:lnTo>
                <a:lnTo>
                  <a:pt x="297" y="11"/>
                </a:lnTo>
                <a:lnTo>
                  <a:pt x="298" y="15"/>
                </a:lnTo>
                <a:lnTo>
                  <a:pt x="306" y="68"/>
                </a:lnTo>
                <a:lnTo>
                  <a:pt x="306" y="70"/>
                </a:lnTo>
                <a:lnTo>
                  <a:pt x="307" y="76"/>
                </a:lnTo>
                <a:lnTo>
                  <a:pt x="308" y="86"/>
                </a:lnTo>
                <a:lnTo>
                  <a:pt x="309" y="89"/>
                </a:lnTo>
                <a:lnTo>
                  <a:pt x="309" y="93"/>
                </a:lnTo>
                <a:lnTo>
                  <a:pt x="310" y="93"/>
                </a:lnTo>
                <a:lnTo>
                  <a:pt x="310" y="95"/>
                </a:lnTo>
                <a:lnTo>
                  <a:pt x="312" y="110"/>
                </a:lnTo>
                <a:lnTo>
                  <a:pt x="312" y="112"/>
                </a:lnTo>
                <a:lnTo>
                  <a:pt x="313" y="116"/>
                </a:lnTo>
                <a:lnTo>
                  <a:pt x="317" y="145"/>
                </a:lnTo>
                <a:lnTo>
                  <a:pt x="322" y="177"/>
                </a:lnTo>
                <a:lnTo>
                  <a:pt x="324" y="191"/>
                </a:lnTo>
                <a:lnTo>
                  <a:pt x="327" y="212"/>
                </a:lnTo>
                <a:lnTo>
                  <a:pt x="328" y="217"/>
                </a:lnTo>
                <a:lnTo>
                  <a:pt x="328" y="219"/>
                </a:lnTo>
                <a:lnTo>
                  <a:pt x="329" y="225"/>
                </a:lnTo>
                <a:lnTo>
                  <a:pt x="330" y="231"/>
                </a:lnTo>
                <a:lnTo>
                  <a:pt x="333" y="252"/>
                </a:lnTo>
                <a:lnTo>
                  <a:pt x="349" y="246"/>
                </a:lnTo>
                <a:lnTo>
                  <a:pt x="362" y="240"/>
                </a:lnTo>
                <a:lnTo>
                  <a:pt x="372" y="236"/>
                </a:lnTo>
                <a:lnTo>
                  <a:pt x="381" y="233"/>
                </a:lnTo>
                <a:lnTo>
                  <a:pt x="387" y="231"/>
                </a:lnTo>
                <a:lnTo>
                  <a:pt x="387" y="246"/>
                </a:lnTo>
                <a:lnTo>
                  <a:pt x="381" y="322"/>
                </a:lnTo>
                <a:lnTo>
                  <a:pt x="369" y="332"/>
                </a:lnTo>
                <a:lnTo>
                  <a:pt x="362" y="336"/>
                </a:lnTo>
                <a:lnTo>
                  <a:pt x="350" y="343"/>
                </a:lnTo>
                <a:lnTo>
                  <a:pt x="348" y="355"/>
                </a:lnTo>
                <a:lnTo>
                  <a:pt x="340" y="353"/>
                </a:lnTo>
                <a:lnTo>
                  <a:pt x="329" y="370"/>
                </a:lnTo>
                <a:lnTo>
                  <a:pt x="330" y="324"/>
                </a:lnTo>
                <a:lnTo>
                  <a:pt x="321" y="328"/>
                </a:lnTo>
                <a:lnTo>
                  <a:pt x="324" y="305"/>
                </a:lnTo>
                <a:lnTo>
                  <a:pt x="320" y="300"/>
                </a:lnTo>
                <a:lnTo>
                  <a:pt x="319" y="298"/>
                </a:lnTo>
                <a:lnTo>
                  <a:pt x="318" y="303"/>
                </a:lnTo>
                <a:lnTo>
                  <a:pt x="313" y="296"/>
                </a:lnTo>
                <a:lnTo>
                  <a:pt x="311" y="282"/>
                </a:lnTo>
                <a:lnTo>
                  <a:pt x="310" y="305"/>
                </a:lnTo>
                <a:lnTo>
                  <a:pt x="299" y="311"/>
                </a:lnTo>
                <a:lnTo>
                  <a:pt x="292" y="300"/>
                </a:lnTo>
                <a:lnTo>
                  <a:pt x="280" y="265"/>
                </a:lnTo>
                <a:lnTo>
                  <a:pt x="287" y="257"/>
                </a:lnTo>
                <a:lnTo>
                  <a:pt x="281" y="238"/>
                </a:lnTo>
                <a:lnTo>
                  <a:pt x="292" y="233"/>
                </a:lnTo>
                <a:lnTo>
                  <a:pt x="282" y="215"/>
                </a:lnTo>
                <a:lnTo>
                  <a:pt x="276" y="231"/>
                </a:lnTo>
                <a:lnTo>
                  <a:pt x="274" y="212"/>
                </a:lnTo>
                <a:lnTo>
                  <a:pt x="283" y="191"/>
                </a:lnTo>
                <a:lnTo>
                  <a:pt x="277" y="173"/>
                </a:lnTo>
                <a:lnTo>
                  <a:pt x="278" y="181"/>
                </a:lnTo>
                <a:lnTo>
                  <a:pt x="272" y="189"/>
                </a:lnTo>
                <a:lnTo>
                  <a:pt x="270" y="156"/>
                </a:lnTo>
                <a:lnTo>
                  <a:pt x="276" y="166"/>
                </a:lnTo>
                <a:lnTo>
                  <a:pt x="283" y="158"/>
                </a:lnTo>
                <a:lnTo>
                  <a:pt x="281" y="139"/>
                </a:lnTo>
                <a:lnTo>
                  <a:pt x="273" y="135"/>
                </a:lnTo>
                <a:lnTo>
                  <a:pt x="271" y="120"/>
                </a:lnTo>
                <a:lnTo>
                  <a:pt x="277" y="86"/>
                </a:lnTo>
                <a:lnTo>
                  <a:pt x="287" y="76"/>
                </a:lnTo>
                <a:lnTo>
                  <a:pt x="283" y="40"/>
                </a:lnTo>
                <a:lnTo>
                  <a:pt x="277" y="45"/>
                </a:lnTo>
                <a:lnTo>
                  <a:pt x="276" y="72"/>
                </a:lnTo>
                <a:lnTo>
                  <a:pt x="267" y="87"/>
                </a:lnTo>
                <a:lnTo>
                  <a:pt x="266" y="103"/>
                </a:lnTo>
                <a:lnTo>
                  <a:pt x="261" y="93"/>
                </a:lnTo>
                <a:lnTo>
                  <a:pt x="259" y="105"/>
                </a:lnTo>
                <a:lnTo>
                  <a:pt x="259" y="116"/>
                </a:lnTo>
                <a:lnTo>
                  <a:pt x="249" y="128"/>
                </a:lnTo>
                <a:lnTo>
                  <a:pt x="248" y="130"/>
                </a:lnTo>
                <a:lnTo>
                  <a:pt x="258" y="143"/>
                </a:lnTo>
                <a:lnTo>
                  <a:pt x="263" y="166"/>
                </a:lnTo>
                <a:lnTo>
                  <a:pt x="256" y="219"/>
                </a:lnTo>
                <a:lnTo>
                  <a:pt x="260" y="229"/>
                </a:lnTo>
                <a:lnTo>
                  <a:pt x="267" y="271"/>
                </a:lnTo>
                <a:lnTo>
                  <a:pt x="279" y="292"/>
                </a:lnTo>
                <a:lnTo>
                  <a:pt x="278" y="307"/>
                </a:lnTo>
                <a:lnTo>
                  <a:pt x="282" y="307"/>
                </a:lnTo>
                <a:lnTo>
                  <a:pt x="281" y="319"/>
                </a:lnTo>
                <a:lnTo>
                  <a:pt x="289" y="342"/>
                </a:lnTo>
                <a:lnTo>
                  <a:pt x="292" y="359"/>
                </a:lnTo>
                <a:lnTo>
                  <a:pt x="281" y="343"/>
                </a:lnTo>
                <a:lnTo>
                  <a:pt x="279" y="349"/>
                </a:lnTo>
                <a:lnTo>
                  <a:pt x="263" y="330"/>
                </a:lnTo>
                <a:lnTo>
                  <a:pt x="249" y="334"/>
                </a:lnTo>
                <a:lnTo>
                  <a:pt x="244" y="319"/>
                </a:lnTo>
                <a:lnTo>
                  <a:pt x="242" y="330"/>
                </a:lnTo>
                <a:lnTo>
                  <a:pt x="238" y="326"/>
                </a:lnTo>
                <a:lnTo>
                  <a:pt x="229" y="305"/>
                </a:lnTo>
                <a:lnTo>
                  <a:pt x="219" y="309"/>
                </a:lnTo>
                <a:lnTo>
                  <a:pt x="216" y="319"/>
                </a:lnTo>
                <a:lnTo>
                  <a:pt x="209" y="319"/>
                </a:lnTo>
                <a:lnTo>
                  <a:pt x="206" y="290"/>
                </a:lnTo>
                <a:lnTo>
                  <a:pt x="213" y="265"/>
                </a:lnTo>
                <a:lnTo>
                  <a:pt x="212" y="256"/>
                </a:lnTo>
                <a:lnTo>
                  <a:pt x="212" y="254"/>
                </a:lnTo>
                <a:lnTo>
                  <a:pt x="215" y="248"/>
                </a:lnTo>
                <a:lnTo>
                  <a:pt x="218" y="238"/>
                </a:lnTo>
                <a:lnTo>
                  <a:pt x="217" y="233"/>
                </a:lnTo>
                <a:lnTo>
                  <a:pt x="217" y="231"/>
                </a:lnTo>
                <a:lnTo>
                  <a:pt x="217" y="229"/>
                </a:lnTo>
                <a:lnTo>
                  <a:pt x="222" y="215"/>
                </a:lnTo>
                <a:lnTo>
                  <a:pt x="225" y="204"/>
                </a:lnTo>
                <a:lnTo>
                  <a:pt x="216" y="193"/>
                </a:lnTo>
                <a:lnTo>
                  <a:pt x="211" y="193"/>
                </a:lnTo>
                <a:lnTo>
                  <a:pt x="209" y="198"/>
                </a:lnTo>
                <a:lnTo>
                  <a:pt x="207" y="204"/>
                </a:lnTo>
                <a:lnTo>
                  <a:pt x="204" y="198"/>
                </a:lnTo>
                <a:lnTo>
                  <a:pt x="195" y="194"/>
                </a:lnTo>
                <a:lnTo>
                  <a:pt x="195" y="189"/>
                </a:lnTo>
                <a:lnTo>
                  <a:pt x="188" y="185"/>
                </a:lnTo>
                <a:lnTo>
                  <a:pt x="184" y="185"/>
                </a:lnTo>
                <a:lnTo>
                  <a:pt x="170" y="177"/>
                </a:lnTo>
                <a:lnTo>
                  <a:pt x="173" y="156"/>
                </a:lnTo>
                <a:lnTo>
                  <a:pt x="169" y="151"/>
                </a:lnTo>
                <a:lnTo>
                  <a:pt x="156" y="143"/>
                </a:lnTo>
                <a:lnTo>
                  <a:pt x="153" y="141"/>
                </a:lnTo>
                <a:lnTo>
                  <a:pt x="150" y="143"/>
                </a:lnTo>
                <a:lnTo>
                  <a:pt x="147" y="143"/>
                </a:lnTo>
                <a:lnTo>
                  <a:pt x="145" y="126"/>
                </a:lnTo>
                <a:lnTo>
                  <a:pt x="137" y="112"/>
                </a:lnTo>
                <a:lnTo>
                  <a:pt x="131" y="89"/>
                </a:lnTo>
                <a:lnTo>
                  <a:pt x="121" y="95"/>
                </a:lnTo>
                <a:lnTo>
                  <a:pt x="119" y="93"/>
                </a:lnTo>
                <a:lnTo>
                  <a:pt x="109" y="82"/>
                </a:lnTo>
                <a:lnTo>
                  <a:pt x="100" y="99"/>
                </a:lnTo>
                <a:lnTo>
                  <a:pt x="94" y="99"/>
                </a:lnTo>
                <a:lnTo>
                  <a:pt x="90" y="101"/>
                </a:lnTo>
                <a:lnTo>
                  <a:pt x="91" y="105"/>
                </a:lnTo>
                <a:lnTo>
                  <a:pt x="85" y="128"/>
                </a:lnTo>
                <a:lnTo>
                  <a:pt x="83" y="128"/>
                </a:lnTo>
                <a:lnTo>
                  <a:pt x="72" y="128"/>
                </a:lnTo>
                <a:lnTo>
                  <a:pt x="70" y="130"/>
                </a:lnTo>
                <a:lnTo>
                  <a:pt x="56" y="114"/>
                </a:lnTo>
                <a:lnTo>
                  <a:pt x="44" y="154"/>
                </a:lnTo>
                <a:lnTo>
                  <a:pt x="38" y="152"/>
                </a:lnTo>
                <a:lnTo>
                  <a:pt x="29" y="177"/>
                </a:lnTo>
                <a:lnTo>
                  <a:pt x="26" y="183"/>
                </a:lnTo>
                <a:lnTo>
                  <a:pt x="24" y="189"/>
                </a:lnTo>
                <a:lnTo>
                  <a:pt x="17" y="202"/>
                </a:lnTo>
                <a:lnTo>
                  <a:pt x="11" y="219"/>
                </a:lnTo>
                <a:lnTo>
                  <a:pt x="10" y="219"/>
                </a:lnTo>
                <a:lnTo>
                  <a:pt x="4" y="152"/>
                </a:lnTo>
                <a:lnTo>
                  <a:pt x="0" y="114"/>
                </a:lnTo>
                <a:lnTo>
                  <a:pt x="3" y="114"/>
                </a:lnTo>
                <a:lnTo>
                  <a:pt x="5" y="112"/>
                </a:lnTo>
                <a:lnTo>
                  <a:pt x="7" y="112"/>
                </a:lnTo>
                <a:lnTo>
                  <a:pt x="32" y="103"/>
                </a:lnTo>
                <a:lnTo>
                  <a:pt x="35" y="103"/>
                </a:lnTo>
                <a:lnTo>
                  <a:pt x="45" y="99"/>
                </a:lnTo>
                <a:lnTo>
                  <a:pt x="48" y="97"/>
                </a:lnTo>
                <a:lnTo>
                  <a:pt x="51" y="97"/>
                </a:lnTo>
                <a:lnTo>
                  <a:pt x="54" y="95"/>
                </a:lnTo>
                <a:lnTo>
                  <a:pt x="76" y="87"/>
                </a:lnTo>
                <a:lnTo>
                  <a:pt x="78" y="86"/>
                </a:lnTo>
                <a:lnTo>
                  <a:pt x="88" y="82"/>
                </a:lnTo>
                <a:lnTo>
                  <a:pt x="89" y="82"/>
                </a:lnTo>
                <a:lnTo>
                  <a:pt x="91" y="82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05840" y="3309840"/>
            <a:ext cx="1440" cy="180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05560" y="2752560"/>
            <a:ext cx="181080" cy="395280"/>
          </a:xfrm>
          <a:custGeom>
            <a:avLst/>
            <a:gdLst/>
            <a:ahLst/>
            <a:rect l="l" t="t" r="r" b="b"/>
            <a:pathLst>
              <a:path w="114" h="498">
                <a:moveTo>
                  <a:pt x="103" y="361"/>
                </a:moveTo>
                <a:lnTo>
                  <a:pt x="105" y="357"/>
                </a:lnTo>
                <a:lnTo>
                  <a:pt x="114" y="298"/>
                </a:lnTo>
                <a:lnTo>
                  <a:pt x="111" y="229"/>
                </a:lnTo>
                <a:lnTo>
                  <a:pt x="109" y="172"/>
                </a:lnTo>
                <a:lnTo>
                  <a:pt x="105" y="153"/>
                </a:lnTo>
                <a:lnTo>
                  <a:pt x="105" y="160"/>
                </a:lnTo>
                <a:lnTo>
                  <a:pt x="90" y="162"/>
                </a:lnTo>
                <a:lnTo>
                  <a:pt x="89" y="166"/>
                </a:lnTo>
                <a:lnTo>
                  <a:pt x="85" y="164"/>
                </a:lnTo>
                <a:lnTo>
                  <a:pt x="83" y="157"/>
                </a:lnTo>
                <a:lnTo>
                  <a:pt x="83" y="153"/>
                </a:lnTo>
                <a:lnTo>
                  <a:pt x="83" y="149"/>
                </a:lnTo>
                <a:lnTo>
                  <a:pt x="85" y="136"/>
                </a:lnTo>
                <a:lnTo>
                  <a:pt x="84" y="132"/>
                </a:lnTo>
                <a:lnTo>
                  <a:pt x="84" y="128"/>
                </a:lnTo>
                <a:lnTo>
                  <a:pt x="87" y="124"/>
                </a:lnTo>
                <a:lnTo>
                  <a:pt x="88" y="124"/>
                </a:lnTo>
                <a:lnTo>
                  <a:pt x="93" y="120"/>
                </a:lnTo>
                <a:lnTo>
                  <a:pt x="95" y="118"/>
                </a:lnTo>
                <a:lnTo>
                  <a:pt x="96" y="113"/>
                </a:lnTo>
                <a:lnTo>
                  <a:pt x="96" y="105"/>
                </a:lnTo>
                <a:lnTo>
                  <a:pt x="96" y="97"/>
                </a:lnTo>
                <a:lnTo>
                  <a:pt x="97" y="88"/>
                </a:lnTo>
                <a:lnTo>
                  <a:pt x="99" y="71"/>
                </a:lnTo>
                <a:lnTo>
                  <a:pt x="99" y="69"/>
                </a:lnTo>
                <a:lnTo>
                  <a:pt x="99" y="67"/>
                </a:lnTo>
                <a:lnTo>
                  <a:pt x="99" y="61"/>
                </a:lnTo>
                <a:lnTo>
                  <a:pt x="99" y="50"/>
                </a:lnTo>
                <a:lnTo>
                  <a:pt x="99" y="48"/>
                </a:lnTo>
                <a:lnTo>
                  <a:pt x="99" y="44"/>
                </a:lnTo>
                <a:lnTo>
                  <a:pt x="98" y="44"/>
                </a:lnTo>
                <a:lnTo>
                  <a:pt x="77" y="32"/>
                </a:lnTo>
                <a:lnTo>
                  <a:pt x="71" y="29"/>
                </a:lnTo>
                <a:lnTo>
                  <a:pt x="70" y="27"/>
                </a:lnTo>
                <a:lnTo>
                  <a:pt x="69" y="27"/>
                </a:lnTo>
                <a:lnTo>
                  <a:pt x="66" y="25"/>
                </a:lnTo>
                <a:lnTo>
                  <a:pt x="60" y="21"/>
                </a:lnTo>
                <a:lnTo>
                  <a:pt x="57" y="19"/>
                </a:lnTo>
                <a:lnTo>
                  <a:pt x="47" y="13"/>
                </a:lnTo>
                <a:lnTo>
                  <a:pt x="40" y="8"/>
                </a:lnTo>
                <a:lnTo>
                  <a:pt x="27" y="0"/>
                </a:lnTo>
                <a:lnTo>
                  <a:pt x="22" y="4"/>
                </a:lnTo>
                <a:lnTo>
                  <a:pt x="17" y="27"/>
                </a:lnTo>
                <a:lnTo>
                  <a:pt x="16" y="44"/>
                </a:lnTo>
                <a:lnTo>
                  <a:pt x="10" y="63"/>
                </a:lnTo>
                <a:lnTo>
                  <a:pt x="12" y="63"/>
                </a:lnTo>
                <a:lnTo>
                  <a:pt x="10" y="67"/>
                </a:lnTo>
                <a:lnTo>
                  <a:pt x="2" y="90"/>
                </a:lnTo>
                <a:lnTo>
                  <a:pt x="3" y="93"/>
                </a:lnTo>
                <a:lnTo>
                  <a:pt x="10" y="109"/>
                </a:lnTo>
                <a:lnTo>
                  <a:pt x="2" y="139"/>
                </a:lnTo>
                <a:lnTo>
                  <a:pt x="6" y="168"/>
                </a:lnTo>
                <a:lnTo>
                  <a:pt x="7" y="172"/>
                </a:lnTo>
                <a:lnTo>
                  <a:pt x="12" y="172"/>
                </a:lnTo>
                <a:lnTo>
                  <a:pt x="30" y="206"/>
                </a:lnTo>
                <a:lnTo>
                  <a:pt x="32" y="212"/>
                </a:lnTo>
                <a:lnTo>
                  <a:pt x="38" y="220"/>
                </a:lnTo>
                <a:lnTo>
                  <a:pt x="42" y="227"/>
                </a:lnTo>
                <a:lnTo>
                  <a:pt x="55" y="244"/>
                </a:lnTo>
                <a:lnTo>
                  <a:pt x="48" y="252"/>
                </a:lnTo>
                <a:lnTo>
                  <a:pt x="44" y="263"/>
                </a:lnTo>
                <a:lnTo>
                  <a:pt x="37" y="273"/>
                </a:lnTo>
                <a:lnTo>
                  <a:pt x="35" y="277"/>
                </a:lnTo>
                <a:lnTo>
                  <a:pt x="32" y="286"/>
                </a:lnTo>
                <a:lnTo>
                  <a:pt x="31" y="286"/>
                </a:lnTo>
                <a:lnTo>
                  <a:pt x="27" y="296"/>
                </a:lnTo>
                <a:lnTo>
                  <a:pt x="28" y="307"/>
                </a:lnTo>
                <a:lnTo>
                  <a:pt x="28" y="311"/>
                </a:lnTo>
                <a:lnTo>
                  <a:pt x="23" y="315"/>
                </a:lnTo>
                <a:lnTo>
                  <a:pt x="23" y="317"/>
                </a:lnTo>
                <a:lnTo>
                  <a:pt x="22" y="319"/>
                </a:lnTo>
                <a:lnTo>
                  <a:pt x="20" y="323"/>
                </a:lnTo>
                <a:lnTo>
                  <a:pt x="10" y="332"/>
                </a:lnTo>
                <a:lnTo>
                  <a:pt x="8" y="338"/>
                </a:lnTo>
                <a:lnTo>
                  <a:pt x="6" y="344"/>
                </a:lnTo>
                <a:lnTo>
                  <a:pt x="3" y="361"/>
                </a:lnTo>
                <a:lnTo>
                  <a:pt x="0" y="378"/>
                </a:lnTo>
                <a:lnTo>
                  <a:pt x="2" y="384"/>
                </a:lnTo>
                <a:lnTo>
                  <a:pt x="5" y="405"/>
                </a:lnTo>
                <a:lnTo>
                  <a:pt x="18" y="422"/>
                </a:lnTo>
                <a:lnTo>
                  <a:pt x="30" y="437"/>
                </a:lnTo>
                <a:lnTo>
                  <a:pt x="33" y="435"/>
                </a:lnTo>
                <a:lnTo>
                  <a:pt x="46" y="451"/>
                </a:lnTo>
                <a:lnTo>
                  <a:pt x="46" y="447"/>
                </a:lnTo>
                <a:lnTo>
                  <a:pt x="64" y="447"/>
                </a:lnTo>
                <a:lnTo>
                  <a:pt x="66" y="498"/>
                </a:lnTo>
                <a:lnTo>
                  <a:pt x="73" y="493"/>
                </a:lnTo>
                <a:lnTo>
                  <a:pt x="79" y="477"/>
                </a:lnTo>
                <a:lnTo>
                  <a:pt x="91" y="409"/>
                </a:lnTo>
                <a:lnTo>
                  <a:pt x="91" y="407"/>
                </a:lnTo>
                <a:lnTo>
                  <a:pt x="105" y="365"/>
                </a:lnTo>
                <a:lnTo>
                  <a:pt x="103" y="361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03920" y="2666880"/>
            <a:ext cx="789120" cy="490680"/>
          </a:xfrm>
          <a:custGeom>
            <a:avLst/>
            <a:gdLst/>
            <a:ahLst/>
            <a:rect l="l" t="t" r="r" b="b"/>
            <a:pathLst>
              <a:path w="497" h="617">
                <a:moveTo>
                  <a:pt x="326" y="514"/>
                </a:moveTo>
                <a:lnTo>
                  <a:pt x="332" y="512"/>
                </a:lnTo>
                <a:lnTo>
                  <a:pt x="334" y="510"/>
                </a:lnTo>
                <a:lnTo>
                  <a:pt x="342" y="508"/>
                </a:lnTo>
                <a:lnTo>
                  <a:pt x="347" y="506"/>
                </a:lnTo>
                <a:lnTo>
                  <a:pt x="357" y="500"/>
                </a:lnTo>
                <a:lnTo>
                  <a:pt x="360" y="500"/>
                </a:lnTo>
                <a:lnTo>
                  <a:pt x="364" y="498"/>
                </a:lnTo>
                <a:lnTo>
                  <a:pt x="365" y="498"/>
                </a:lnTo>
                <a:lnTo>
                  <a:pt x="386" y="489"/>
                </a:lnTo>
                <a:lnTo>
                  <a:pt x="387" y="489"/>
                </a:lnTo>
                <a:lnTo>
                  <a:pt x="394" y="485"/>
                </a:lnTo>
                <a:lnTo>
                  <a:pt x="407" y="481"/>
                </a:lnTo>
                <a:lnTo>
                  <a:pt x="415" y="477"/>
                </a:lnTo>
                <a:lnTo>
                  <a:pt x="422" y="474"/>
                </a:lnTo>
                <a:lnTo>
                  <a:pt x="423" y="474"/>
                </a:lnTo>
                <a:lnTo>
                  <a:pt x="424" y="468"/>
                </a:lnTo>
                <a:lnTo>
                  <a:pt x="435" y="445"/>
                </a:lnTo>
                <a:lnTo>
                  <a:pt x="436" y="443"/>
                </a:lnTo>
                <a:lnTo>
                  <a:pt x="442" y="441"/>
                </a:lnTo>
                <a:lnTo>
                  <a:pt x="450" y="445"/>
                </a:lnTo>
                <a:lnTo>
                  <a:pt x="452" y="439"/>
                </a:lnTo>
                <a:lnTo>
                  <a:pt x="462" y="430"/>
                </a:lnTo>
                <a:lnTo>
                  <a:pt x="464" y="426"/>
                </a:lnTo>
                <a:lnTo>
                  <a:pt x="465" y="424"/>
                </a:lnTo>
                <a:lnTo>
                  <a:pt x="465" y="422"/>
                </a:lnTo>
                <a:lnTo>
                  <a:pt x="470" y="418"/>
                </a:lnTo>
                <a:lnTo>
                  <a:pt x="470" y="414"/>
                </a:lnTo>
                <a:lnTo>
                  <a:pt x="469" y="403"/>
                </a:lnTo>
                <a:lnTo>
                  <a:pt x="473" y="393"/>
                </a:lnTo>
                <a:lnTo>
                  <a:pt x="474" y="393"/>
                </a:lnTo>
                <a:lnTo>
                  <a:pt x="477" y="384"/>
                </a:lnTo>
                <a:lnTo>
                  <a:pt x="479" y="380"/>
                </a:lnTo>
                <a:lnTo>
                  <a:pt x="486" y="370"/>
                </a:lnTo>
                <a:lnTo>
                  <a:pt x="490" y="359"/>
                </a:lnTo>
                <a:lnTo>
                  <a:pt x="497" y="351"/>
                </a:lnTo>
                <a:lnTo>
                  <a:pt x="484" y="334"/>
                </a:lnTo>
                <a:lnTo>
                  <a:pt x="480" y="327"/>
                </a:lnTo>
                <a:lnTo>
                  <a:pt x="474" y="319"/>
                </a:lnTo>
                <a:lnTo>
                  <a:pt x="472" y="313"/>
                </a:lnTo>
                <a:lnTo>
                  <a:pt x="454" y="279"/>
                </a:lnTo>
                <a:lnTo>
                  <a:pt x="449" y="279"/>
                </a:lnTo>
                <a:lnTo>
                  <a:pt x="448" y="275"/>
                </a:lnTo>
                <a:lnTo>
                  <a:pt x="444" y="246"/>
                </a:lnTo>
                <a:lnTo>
                  <a:pt x="452" y="216"/>
                </a:lnTo>
                <a:lnTo>
                  <a:pt x="445" y="200"/>
                </a:lnTo>
                <a:lnTo>
                  <a:pt x="444" y="197"/>
                </a:lnTo>
                <a:lnTo>
                  <a:pt x="452" y="174"/>
                </a:lnTo>
                <a:lnTo>
                  <a:pt x="454" y="170"/>
                </a:lnTo>
                <a:lnTo>
                  <a:pt x="452" y="170"/>
                </a:lnTo>
                <a:lnTo>
                  <a:pt x="458" y="151"/>
                </a:lnTo>
                <a:lnTo>
                  <a:pt x="459" y="134"/>
                </a:lnTo>
                <a:lnTo>
                  <a:pt x="464" y="111"/>
                </a:lnTo>
                <a:lnTo>
                  <a:pt x="469" y="107"/>
                </a:lnTo>
                <a:lnTo>
                  <a:pt x="467" y="103"/>
                </a:lnTo>
                <a:lnTo>
                  <a:pt x="463" y="95"/>
                </a:lnTo>
                <a:lnTo>
                  <a:pt x="462" y="95"/>
                </a:lnTo>
                <a:lnTo>
                  <a:pt x="453" y="95"/>
                </a:lnTo>
                <a:lnTo>
                  <a:pt x="441" y="88"/>
                </a:lnTo>
                <a:lnTo>
                  <a:pt x="434" y="71"/>
                </a:lnTo>
                <a:lnTo>
                  <a:pt x="435" y="65"/>
                </a:lnTo>
                <a:lnTo>
                  <a:pt x="431" y="40"/>
                </a:lnTo>
                <a:lnTo>
                  <a:pt x="422" y="23"/>
                </a:lnTo>
                <a:lnTo>
                  <a:pt x="420" y="21"/>
                </a:lnTo>
                <a:lnTo>
                  <a:pt x="413" y="25"/>
                </a:lnTo>
                <a:lnTo>
                  <a:pt x="401" y="0"/>
                </a:lnTo>
                <a:lnTo>
                  <a:pt x="400" y="0"/>
                </a:lnTo>
                <a:lnTo>
                  <a:pt x="392" y="6"/>
                </a:lnTo>
                <a:lnTo>
                  <a:pt x="368" y="15"/>
                </a:lnTo>
                <a:lnTo>
                  <a:pt x="352" y="21"/>
                </a:lnTo>
                <a:lnTo>
                  <a:pt x="344" y="25"/>
                </a:lnTo>
                <a:lnTo>
                  <a:pt x="342" y="27"/>
                </a:lnTo>
                <a:lnTo>
                  <a:pt x="341" y="27"/>
                </a:lnTo>
                <a:lnTo>
                  <a:pt x="333" y="30"/>
                </a:lnTo>
                <a:lnTo>
                  <a:pt x="323" y="34"/>
                </a:lnTo>
                <a:lnTo>
                  <a:pt x="309" y="40"/>
                </a:lnTo>
                <a:lnTo>
                  <a:pt x="290" y="46"/>
                </a:lnTo>
                <a:lnTo>
                  <a:pt x="283" y="50"/>
                </a:lnTo>
                <a:lnTo>
                  <a:pt x="279" y="51"/>
                </a:lnTo>
                <a:lnTo>
                  <a:pt x="276" y="51"/>
                </a:lnTo>
                <a:lnTo>
                  <a:pt x="267" y="55"/>
                </a:lnTo>
                <a:lnTo>
                  <a:pt x="235" y="69"/>
                </a:lnTo>
                <a:lnTo>
                  <a:pt x="226" y="73"/>
                </a:lnTo>
                <a:lnTo>
                  <a:pt x="225" y="73"/>
                </a:lnTo>
                <a:lnTo>
                  <a:pt x="219" y="74"/>
                </a:lnTo>
                <a:lnTo>
                  <a:pt x="216" y="76"/>
                </a:lnTo>
                <a:lnTo>
                  <a:pt x="204" y="82"/>
                </a:lnTo>
                <a:lnTo>
                  <a:pt x="187" y="88"/>
                </a:lnTo>
                <a:lnTo>
                  <a:pt x="180" y="90"/>
                </a:lnTo>
                <a:lnTo>
                  <a:pt x="177" y="92"/>
                </a:lnTo>
                <a:lnTo>
                  <a:pt x="172" y="94"/>
                </a:lnTo>
                <a:lnTo>
                  <a:pt x="148" y="101"/>
                </a:lnTo>
                <a:lnTo>
                  <a:pt x="130" y="109"/>
                </a:lnTo>
                <a:lnTo>
                  <a:pt x="125" y="111"/>
                </a:lnTo>
                <a:lnTo>
                  <a:pt x="120" y="113"/>
                </a:lnTo>
                <a:lnTo>
                  <a:pt x="119" y="113"/>
                </a:lnTo>
                <a:lnTo>
                  <a:pt x="114" y="115"/>
                </a:lnTo>
                <a:lnTo>
                  <a:pt x="104" y="118"/>
                </a:lnTo>
                <a:lnTo>
                  <a:pt x="81" y="126"/>
                </a:lnTo>
                <a:lnTo>
                  <a:pt x="70" y="130"/>
                </a:lnTo>
                <a:lnTo>
                  <a:pt x="67" y="132"/>
                </a:lnTo>
                <a:lnTo>
                  <a:pt x="58" y="134"/>
                </a:lnTo>
                <a:lnTo>
                  <a:pt x="53" y="78"/>
                </a:lnTo>
                <a:lnTo>
                  <a:pt x="26" y="118"/>
                </a:lnTo>
                <a:lnTo>
                  <a:pt x="5" y="153"/>
                </a:lnTo>
                <a:lnTo>
                  <a:pt x="0" y="158"/>
                </a:lnTo>
                <a:lnTo>
                  <a:pt x="2" y="179"/>
                </a:lnTo>
                <a:lnTo>
                  <a:pt x="2" y="185"/>
                </a:lnTo>
                <a:lnTo>
                  <a:pt x="5" y="212"/>
                </a:lnTo>
                <a:lnTo>
                  <a:pt x="6" y="229"/>
                </a:lnTo>
                <a:lnTo>
                  <a:pt x="9" y="256"/>
                </a:lnTo>
                <a:lnTo>
                  <a:pt x="9" y="258"/>
                </a:lnTo>
                <a:lnTo>
                  <a:pt x="11" y="281"/>
                </a:lnTo>
                <a:lnTo>
                  <a:pt x="13" y="298"/>
                </a:lnTo>
                <a:lnTo>
                  <a:pt x="15" y="330"/>
                </a:lnTo>
                <a:lnTo>
                  <a:pt x="16" y="332"/>
                </a:lnTo>
                <a:lnTo>
                  <a:pt x="18" y="357"/>
                </a:lnTo>
                <a:lnTo>
                  <a:pt x="18" y="363"/>
                </a:lnTo>
                <a:lnTo>
                  <a:pt x="20" y="378"/>
                </a:lnTo>
                <a:lnTo>
                  <a:pt x="20" y="382"/>
                </a:lnTo>
                <a:lnTo>
                  <a:pt x="21" y="388"/>
                </a:lnTo>
                <a:lnTo>
                  <a:pt x="22" y="399"/>
                </a:lnTo>
                <a:lnTo>
                  <a:pt x="23" y="413"/>
                </a:lnTo>
                <a:lnTo>
                  <a:pt x="25" y="430"/>
                </a:lnTo>
                <a:lnTo>
                  <a:pt x="25" y="434"/>
                </a:lnTo>
                <a:lnTo>
                  <a:pt x="25" y="439"/>
                </a:lnTo>
                <a:lnTo>
                  <a:pt x="28" y="464"/>
                </a:lnTo>
                <a:lnTo>
                  <a:pt x="28" y="466"/>
                </a:lnTo>
                <a:lnTo>
                  <a:pt x="28" y="474"/>
                </a:lnTo>
                <a:lnTo>
                  <a:pt x="29" y="479"/>
                </a:lnTo>
                <a:lnTo>
                  <a:pt x="32" y="510"/>
                </a:lnTo>
                <a:lnTo>
                  <a:pt x="32" y="514"/>
                </a:lnTo>
                <a:lnTo>
                  <a:pt x="33" y="527"/>
                </a:lnTo>
                <a:lnTo>
                  <a:pt x="34" y="531"/>
                </a:lnTo>
                <a:lnTo>
                  <a:pt x="35" y="548"/>
                </a:lnTo>
                <a:lnTo>
                  <a:pt x="36" y="558"/>
                </a:lnTo>
                <a:lnTo>
                  <a:pt x="36" y="560"/>
                </a:lnTo>
                <a:lnTo>
                  <a:pt x="37" y="569"/>
                </a:lnTo>
                <a:lnTo>
                  <a:pt x="41" y="611"/>
                </a:lnTo>
                <a:lnTo>
                  <a:pt x="41" y="615"/>
                </a:lnTo>
                <a:lnTo>
                  <a:pt x="42" y="617"/>
                </a:lnTo>
                <a:lnTo>
                  <a:pt x="43" y="617"/>
                </a:lnTo>
                <a:lnTo>
                  <a:pt x="49" y="615"/>
                </a:lnTo>
                <a:lnTo>
                  <a:pt x="52" y="613"/>
                </a:lnTo>
                <a:lnTo>
                  <a:pt x="53" y="613"/>
                </a:lnTo>
                <a:lnTo>
                  <a:pt x="90" y="602"/>
                </a:lnTo>
                <a:lnTo>
                  <a:pt x="93" y="600"/>
                </a:lnTo>
                <a:lnTo>
                  <a:pt x="98" y="598"/>
                </a:lnTo>
                <a:lnTo>
                  <a:pt x="102" y="596"/>
                </a:lnTo>
                <a:lnTo>
                  <a:pt x="118" y="592"/>
                </a:lnTo>
                <a:lnTo>
                  <a:pt x="121" y="590"/>
                </a:lnTo>
                <a:lnTo>
                  <a:pt x="126" y="588"/>
                </a:lnTo>
                <a:lnTo>
                  <a:pt x="129" y="588"/>
                </a:lnTo>
                <a:lnTo>
                  <a:pt x="131" y="586"/>
                </a:lnTo>
                <a:lnTo>
                  <a:pt x="133" y="586"/>
                </a:lnTo>
                <a:lnTo>
                  <a:pt x="158" y="577"/>
                </a:lnTo>
                <a:lnTo>
                  <a:pt x="161" y="577"/>
                </a:lnTo>
                <a:lnTo>
                  <a:pt x="171" y="573"/>
                </a:lnTo>
                <a:lnTo>
                  <a:pt x="174" y="571"/>
                </a:lnTo>
                <a:lnTo>
                  <a:pt x="177" y="571"/>
                </a:lnTo>
                <a:lnTo>
                  <a:pt x="180" y="569"/>
                </a:lnTo>
                <a:lnTo>
                  <a:pt x="202" y="561"/>
                </a:lnTo>
                <a:lnTo>
                  <a:pt x="204" y="560"/>
                </a:lnTo>
                <a:lnTo>
                  <a:pt x="214" y="556"/>
                </a:lnTo>
                <a:lnTo>
                  <a:pt x="215" y="556"/>
                </a:lnTo>
                <a:lnTo>
                  <a:pt x="217" y="556"/>
                </a:lnTo>
                <a:lnTo>
                  <a:pt x="224" y="552"/>
                </a:lnTo>
                <a:lnTo>
                  <a:pt x="225" y="552"/>
                </a:lnTo>
                <a:lnTo>
                  <a:pt x="237" y="548"/>
                </a:lnTo>
                <a:lnTo>
                  <a:pt x="245" y="544"/>
                </a:lnTo>
                <a:lnTo>
                  <a:pt x="284" y="531"/>
                </a:lnTo>
                <a:lnTo>
                  <a:pt x="287" y="529"/>
                </a:lnTo>
                <a:lnTo>
                  <a:pt x="288" y="529"/>
                </a:lnTo>
                <a:lnTo>
                  <a:pt x="290" y="527"/>
                </a:lnTo>
                <a:lnTo>
                  <a:pt x="299" y="525"/>
                </a:lnTo>
                <a:lnTo>
                  <a:pt x="308" y="521"/>
                </a:lnTo>
                <a:lnTo>
                  <a:pt x="321" y="516"/>
                </a:lnTo>
                <a:lnTo>
                  <a:pt x="325" y="514"/>
                </a:lnTo>
                <a:lnTo>
                  <a:pt x="326" y="514"/>
                </a:lnTo>
                <a:close/>
              </a:path>
            </a:pathLst>
          </a:custGeom>
          <a:solidFill>
            <a:srgbClr val="0000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40400" y="3149640"/>
            <a:ext cx="1041480" cy="576360"/>
          </a:xfrm>
          <a:custGeom>
            <a:avLst/>
            <a:gdLst/>
            <a:ahLst/>
            <a:rect l="l" t="t" r="r" b="b"/>
            <a:pathLst>
              <a:path w="656" h="726">
                <a:moveTo>
                  <a:pt x="598" y="403"/>
                </a:moveTo>
                <a:lnTo>
                  <a:pt x="599" y="405"/>
                </a:lnTo>
                <a:lnTo>
                  <a:pt x="600" y="405"/>
                </a:lnTo>
                <a:lnTo>
                  <a:pt x="608" y="411"/>
                </a:lnTo>
                <a:lnTo>
                  <a:pt x="608" y="413"/>
                </a:lnTo>
                <a:lnTo>
                  <a:pt x="610" y="436"/>
                </a:lnTo>
                <a:lnTo>
                  <a:pt x="610" y="440"/>
                </a:lnTo>
                <a:lnTo>
                  <a:pt x="611" y="442"/>
                </a:lnTo>
                <a:lnTo>
                  <a:pt x="615" y="442"/>
                </a:lnTo>
                <a:lnTo>
                  <a:pt x="621" y="445"/>
                </a:lnTo>
                <a:lnTo>
                  <a:pt x="626" y="445"/>
                </a:lnTo>
                <a:lnTo>
                  <a:pt x="636" y="440"/>
                </a:lnTo>
                <a:lnTo>
                  <a:pt x="656" y="510"/>
                </a:lnTo>
                <a:lnTo>
                  <a:pt x="645" y="516"/>
                </a:lnTo>
                <a:lnTo>
                  <a:pt x="635" y="520"/>
                </a:lnTo>
                <a:lnTo>
                  <a:pt x="624" y="524"/>
                </a:lnTo>
                <a:lnTo>
                  <a:pt x="623" y="526"/>
                </a:lnTo>
                <a:lnTo>
                  <a:pt x="619" y="526"/>
                </a:lnTo>
                <a:lnTo>
                  <a:pt x="617" y="528"/>
                </a:lnTo>
                <a:lnTo>
                  <a:pt x="614" y="528"/>
                </a:lnTo>
                <a:lnTo>
                  <a:pt x="604" y="533"/>
                </a:lnTo>
                <a:lnTo>
                  <a:pt x="601" y="533"/>
                </a:lnTo>
                <a:lnTo>
                  <a:pt x="600" y="533"/>
                </a:lnTo>
                <a:lnTo>
                  <a:pt x="583" y="541"/>
                </a:lnTo>
                <a:lnTo>
                  <a:pt x="572" y="545"/>
                </a:lnTo>
                <a:lnTo>
                  <a:pt x="569" y="547"/>
                </a:lnTo>
                <a:lnTo>
                  <a:pt x="569" y="549"/>
                </a:lnTo>
                <a:lnTo>
                  <a:pt x="554" y="554"/>
                </a:lnTo>
                <a:lnTo>
                  <a:pt x="552" y="554"/>
                </a:lnTo>
                <a:lnTo>
                  <a:pt x="549" y="556"/>
                </a:lnTo>
                <a:lnTo>
                  <a:pt x="541" y="560"/>
                </a:lnTo>
                <a:lnTo>
                  <a:pt x="538" y="560"/>
                </a:lnTo>
                <a:lnTo>
                  <a:pt x="517" y="570"/>
                </a:lnTo>
                <a:lnTo>
                  <a:pt x="515" y="570"/>
                </a:lnTo>
                <a:lnTo>
                  <a:pt x="498" y="575"/>
                </a:lnTo>
                <a:lnTo>
                  <a:pt x="495" y="577"/>
                </a:lnTo>
                <a:lnTo>
                  <a:pt x="492" y="579"/>
                </a:lnTo>
                <a:lnTo>
                  <a:pt x="487" y="581"/>
                </a:lnTo>
                <a:lnTo>
                  <a:pt x="483" y="583"/>
                </a:lnTo>
                <a:lnTo>
                  <a:pt x="479" y="583"/>
                </a:lnTo>
                <a:lnTo>
                  <a:pt x="475" y="585"/>
                </a:lnTo>
                <a:lnTo>
                  <a:pt x="459" y="591"/>
                </a:lnTo>
                <a:lnTo>
                  <a:pt x="457" y="591"/>
                </a:lnTo>
                <a:lnTo>
                  <a:pt x="451" y="594"/>
                </a:lnTo>
                <a:lnTo>
                  <a:pt x="447" y="596"/>
                </a:lnTo>
                <a:lnTo>
                  <a:pt x="444" y="596"/>
                </a:lnTo>
                <a:lnTo>
                  <a:pt x="440" y="598"/>
                </a:lnTo>
                <a:lnTo>
                  <a:pt x="436" y="600"/>
                </a:lnTo>
                <a:lnTo>
                  <a:pt x="426" y="604"/>
                </a:lnTo>
                <a:lnTo>
                  <a:pt x="417" y="606"/>
                </a:lnTo>
                <a:lnTo>
                  <a:pt x="416" y="608"/>
                </a:lnTo>
                <a:lnTo>
                  <a:pt x="413" y="608"/>
                </a:lnTo>
                <a:lnTo>
                  <a:pt x="412" y="608"/>
                </a:lnTo>
                <a:lnTo>
                  <a:pt x="410" y="610"/>
                </a:lnTo>
                <a:lnTo>
                  <a:pt x="409" y="610"/>
                </a:lnTo>
                <a:lnTo>
                  <a:pt x="383" y="619"/>
                </a:lnTo>
                <a:lnTo>
                  <a:pt x="376" y="621"/>
                </a:lnTo>
                <a:lnTo>
                  <a:pt x="374" y="623"/>
                </a:lnTo>
                <a:lnTo>
                  <a:pt x="363" y="627"/>
                </a:lnTo>
                <a:lnTo>
                  <a:pt x="352" y="631"/>
                </a:lnTo>
                <a:lnTo>
                  <a:pt x="348" y="633"/>
                </a:lnTo>
                <a:lnTo>
                  <a:pt x="343" y="634"/>
                </a:lnTo>
                <a:lnTo>
                  <a:pt x="335" y="636"/>
                </a:lnTo>
                <a:lnTo>
                  <a:pt x="322" y="640"/>
                </a:lnTo>
                <a:lnTo>
                  <a:pt x="311" y="644"/>
                </a:lnTo>
                <a:lnTo>
                  <a:pt x="309" y="646"/>
                </a:lnTo>
                <a:lnTo>
                  <a:pt x="307" y="646"/>
                </a:lnTo>
                <a:lnTo>
                  <a:pt x="301" y="648"/>
                </a:lnTo>
                <a:lnTo>
                  <a:pt x="286" y="652"/>
                </a:lnTo>
                <a:lnTo>
                  <a:pt x="273" y="655"/>
                </a:lnTo>
                <a:lnTo>
                  <a:pt x="268" y="655"/>
                </a:lnTo>
                <a:lnTo>
                  <a:pt x="263" y="657"/>
                </a:lnTo>
                <a:lnTo>
                  <a:pt x="259" y="657"/>
                </a:lnTo>
                <a:lnTo>
                  <a:pt x="251" y="659"/>
                </a:lnTo>
                <a:lnTo>
                  <a:pt x="245" y="663"/>
                </a:lnTo>
                <a:lnTo>
                  <a:pt x="241" y="663"/>
                </a:lnTo>
                <a:lnTo>
                  <a:pt x="240" y="665"/>
                </a:lnTo>
                <a:lnTo>
                  <a:pt x="238" y="665"/>
                </a:lnTo>
                <a:lnTo>
                  <a:pt x="237" y="665"/>
                </a:lnTo>
                <a:lnTo>
                  <a:pt x="234" y="665"/>
                </a:lnTo>
                <a:lnTo>
                  <a:pt x="221" y="669"/>
                </a:lnTo>
                <a:lnTo>
                  <a:pt x="200" y="675"/>
                </a:lnTo>
                <a:lnTo>
                  <a:pt x="196" y="675"/>
                </a:lnTo>
                <a:lnTo>
                  <a:pt x="189" y="676"/>
                </a:lnTo>
                <a:lnTo>
                  <a:pt x="186" y="676"/>
                </a:lnTo>
                <a:lnTo>
                  <a:pt x="173" y="680"/>
                </a:lnTo>
                <a:lnTo>
                  <a:pt x="169" y="680"/>
                </a:lnTo>
                <a:lnTo>
                  <a:pt x="171" y="675"/>
                </a:lnTo>
                <a:lnTo>
                  <a:pt x="162" y="678"/>
                </a:lnTo>
                <a:lnTo>
                  <a:pt x="156" y="678"/>
                </a:lnTo>
                <a:lnTo>
                  <a:pt x="148" y="682"/>
                </a:lnTo>
                <a:lnTo>
                  <a:pt x="147" y="686"/>
                </a:lnTo>
                <a:lnTo>
                  <a:pt x="129" y="692"/>
                </a:lnTo>
                <a:lnTo>
                  <a:pt x="127" y="692"/>
                </a:lnTo>
                <a:lnTo>
                  <a:pt x="124" y="694"/>
                </a:lnTo>
                <a:lnTo>
                  <a:pt x="121" y="694"/>
                </a:lnTo>
                <a:lnTo>
                  <a:pt x="117" y="696"/>
                </a:lnTo>
                <a:lnTo>
                  <a:pt x="110" y="698"/>
                </a:lnTo>
                <a:lnTo>
                  <a:pt x="100" y="699"/>
                </a:lnTo>
                <a:lnTo>
                  <a:pt x="91" y="703"/>
                </a:lnTo>
                <a:lnTo>
                  <a:pt x="89" y="703"/>
                </a:lnTo>
                <a:lnTo>
                  <a:pt x="86" y="705"/>
                </a:lnTo>
                <a:lnTo>
                  <a:pt x="71" y="709"/>
                </a:lnTo>
                <a:lnTo>
                  <a:pt x="67" y="709"/>
                </a:lnTo>
                <a:lnTo>
                  <a:pt x="58" y="713"/>
                </a:lnTo>
                <a:lnTo>
                  <a:pt x="35" y="719"/>
                </a:lnTo>
                <a:lnTo>
                  <a:pt x="34" y="719"/>
                </a:lnTo>
                <a:lnTo>
                  <a:pt x="17" y="722"/>
                </a:lnTo>
                <a:lnTo>
                  <a:pt x="4" y="726"/>
                </a:lnTo>
                <a:lnTo>
                  <a:pt x="2" y="726"/>
                </a:lnTo>
                <a:lnTo>
                  <a:pt x="0" y="726"/>
                </a:lnTo>
                <a:lnTo>
                  <a:pt x="4" y="720"/>
                </a:lnTo>
                <a:lnTo>
                  <a:pt x="14" y="709"/>
                </a:lnTo>
                <a:lnTo>
                  <a:pt x="17" y="709"/>
                </a:lnTo>
                <a:lnTo>
                  <a:pt x="43" y="684"/>
                </a:lnTo>
                <a:lnTo>
                  <a:pt x="43" y="676"/>
                </a:lnTo>
                <a:lnTo>
                  <a:pt x="62" y="648"/>
                </a:lnTo>
                <a:lnTo>
                  <a:pt x="62" y="631"/>
                </a:lnTo>
                <a:lnTo>
                  <a:pt x="71" y="619"/>
                </a:lnTo>
                <a:lnTo>
                  <a:pt x="73" y="596"/>
                </a:lnTo>
                <a:lnTo>
                  <a:pt x="84" y="579"/>
                </a:lnTo>
                <a:lnTo>
                  <a:pt x="85" y="577"/>
                </a:lnTo>
                <a:lnTo>
                  <a:pt x="94" y="566"/>
                </a:lnTo>
                <a:lnTo>
                  <a:pt x="99" y="560"/>
                </a:lnTo>
                <a:lnTo>
                  <a:pt x="104" y="552"/>
                </a:lnTo>
                <a:lnTo>
                  <a:pt x="112" y="533"/>
                </a:lnTo>
                <a:lnTo>
                  <a:pt x="120" y="512"/>
                </a:lnTo>
                <a:lnTo>
                  <a:pt x="128" y="493"/>
                </a:lnTo>
                <a:lnTo>
                  <a:pt x="132" y="499"/>
                </a:lnTo>
                <a:lnTo>
                  <a:pt x="130" y="501"/>
                </a:lnTo>
                <a:lnTo>
                  <a:pt x="134" y="526"/>
                </a:lnTo>
                <a:lnTo>
                  <a:pt x="152" y="549"/>
                </a:lnTo>
                <a:lnTo>
                  <a:pt x="158" y="556"/>
                </a:lnTo>
                <a:lnTo>
                  <a:pt x="176" y="535"/>
                </a:lnTo>
                <a:lnTo>
                  <a:pt x="182" y="520"/>
                </a:lnTo>
                <a:lnTo>
                  <a:pt x="186" y="526"/>
                </a:lnTo>
                <a:lnTo>
                  <a:pt x="193" y="533"/>
                </a:lnTo>
                <a:lnTo>
                  <a:pt x="195" y="537"/>
                </a:lnTo>
                <a:lnTo>
                  <a:pt x="203" y="526"/>
                </a:lnTo>
                <a:lnTo>
                  <a:pt x="214" y="516"/>
                </a:lnTo>
                <a:lnTo>
                  <a:pt x="214" y="518"/>
                </a:lnTo>
                <a:lnTo>
                  <a:pt x="224" y="505"/>
                </a:lnTo>
                <a:lnTo>
                  <a:pt x="221" y="497"/>
                </a:lnTo>
                <a:lnTo>
                  <a:pt x="222" y="487"/>
                </a:lnTo>
                <a:lnTo>
                  <a:pt x="230" y="497"/>
                </a:lnTo>
                <a:lnTo>
                  <a:pt x="251" y="470"/>
                </a:lnTo>
                <a:lnTo>
                  <a:pt x="254" y="478"/>
                </a:lnTo>
                <a:lnTo>
                  <a:pt x="266" y="457"/>
                </a:lnTo>
                <a:lnTo>
                  <a:pt x="269" y="436"/>
                </a:lnTo>
                <a:lnTo>
                  <a:pt x="271" y="428"/>
                </a:lnTo>
                <a:lnTo>
                  <a:pt x="268" y="426"/>
                </a:lnTo>
                <a:lnTo>
                  <a:pt x="266" y="424"/>
                </a:lnTo>
                <a:lnTo>
                  <a:pt x="263" y="419"/>
                </a:lnTo>
                <a:lnTo>
                  <a:pt x="268" y="398"/>
                </a:lnTo>
                <a:lnTo>
                  <a:pt x="271" y="377"/>
                </a:lnTo>
                <a:lnTo>
                  <a:pt x="279" y="358"/>
                </a:lnTo>
                <a:lnTo>
                  <a:pt x="283" y="348"/>
                </a:lnTo>
                <a:lnTo>
                  <a:pt x="283" y="346"/>
                </a:lnTo>
                <a:lnTo>
                  <a:pt x="285" y="333"/>
                </a:lnTo>
                <a:lnTo>
                  <a:pt x="286" y="319"/>
                </a:lnTo>
                <a:lnTo>
                  <a:pt x="289" y="300"/>
                </a:lnTo>
                <a:lnTo>
                  <a:pt x="295" y="287"/>
                </a:lnTo>
                <a:lnTo>
                  <a:pt x="297" y="268"/>
                </a:lnTo>
                <a:lnTo>
                  <a:pt x="298" y="264"/>
                </a:lnTo>
                <a:lnTo>
                  <a:pt x="300" y="216"/>
                </a:lnTo>
                <a:lnTo>
                  <a:pt x="307" y="220"/>
                </a:lnTo>
                <a:lnTo>
                  <a:pt x="317" y="239"/>
                </a:lnTo>
                <a:lnTo>
                  <a:pt x="331" y="243"/>
                </a:lnTo>
                <a:lnTo>
                  <a:pt x="336" y="233"/>
                </a:lnTo>
                <a:lnTo>
                  <a:pt x="337" y="228"/>
                </a:lnTo>
                <a:lnTo>
                  <a:pt x="338" y="222"/>
                </a:lnTo>
                <a:lnTo>
                  <a:pt x="338" y="220"/>
                </a:lnTo>
                <a:lnTo>
                  <a:pt x="345" y="165"/>
                </a:lnTo>
                <a:lnTo>
                  <a:pt x="348" y="147"/>
                </a:lnTo>
                <a:lnTo>
                  <a:pt x="349" y="145"/>
                </a:lnTo>
                <a:lnTo>
                  <a:pt x="360" y="159"/>
                </a:lnTo>
                <a:lnTo>
                  <a:pt x="367" y="124"/>
                </a:lnTo>
                <a:lnTo>
                  <a:pt x="380" y="102"/>
                </a:lnTo>
                <a:lnTo>
                  <a:pt x="381" y="90"/>
                </a:lnTo>
                <a:lnTo>
                  <a:pt x="383" y="82"/>
                </a:lnTo>
                <a:lnTo>
                  <a:pt x="387" y="73"/>
                </a:lnTo>
                <a:lnTo>
                  <a:pt x="389" y="35"/>
                </a:lnTo>
                <a:lnTo>
                  <a:pt x="388" y="0"/>
                </a:lnTo>
                <a:lnTo>
                  <a:pt x="393" y="6"/>
                </a:lnTo>
                <a:lnTo>
                  <a:pt x="396" y="8"/>
                </a:lnTo>
                <a:lnTo>
                  <a:pt x="399" y="12"/>
                </a:lnTo>
                <a:lnTo>
                  <a:pt x="406" y="19"/>
                </a:lnTo>
                <a:lnTo>
                  <a:pt x="409" y="23"/>
                </a:lnTo>
                <a:lnTo>
                  <a:pt x="418" y="33"/>
                </a:lnTo>
                <a:lnTo>
                  <a:pt x="420" y="35"/>
                </a:lnTo>
                <a:lnTo>
                  <a:pt x="421" y="35"/>
                </a:lnTo>
                <a:lnTo>
                  <a:pt x="437" y="52"/>
                </a:lnTo>
                <a:lnTo>
                  <a:pt x="439" y="27"/>
                </a:lnTo>
                <a:lnTo>
                  <a:pt x="440" y="18"/>
                </a:lnTo>
                <a:lnTo>
                  <a:pt x="442" y="10"/>
                </a:lnTo>
                <a:lnTo>
                  <a:pt x="445" y="8"/>
                </a:lnTo>
                <a:lnTo>
                  <a:pt x="448" y="10"/>
                </a:lnTo>
                <a:lnTo>
                  <a:pt x="461" y="18"/>
                </a:lnTo>
                <a:lnTo>
                  <a:pt x="465" y="23"/>
                </a:lnTo>
                <a:lnTo>
                  <a:pt x="462" y="44"/>
                </a:lnTo>
                <a:lnTo>
                  <a:pt x="476" y="52"/>
                </a:lnTo>
                <a:lnTo>
                  <a:pt x="480" y="52"/>
                </a:lnTo>
                <a:lnTo>
                  <a:pt x="487" y="56"/>
                </a:lnTo>
                <a:lnTo>
                  <a:pt x="487" y="61"/>
                </a:lnTo>
                <a:lnTo>
                  <a:pt x="496" y="65"/>
                </a:lnTo>
                <a:lnTo>
                  <a:pt x="499" y="71"/>
                </a:lnTo>
                <a:lnTo>
                  <a:pt x="506" y="81"/>
                </a:lnTo>
                <a:lnTo>
                  <a:pt x="507" y="81"/>
                </a:lnTo>
                <a:lnTo>
                  <a:pt x="507" y="86"/>
                </a:lnTo>
                <a:lnTo>
                  <a:pt x="509" y="96"/>
                </a:lnTo>
                <a:lnTo>
                  <a:pt x="509" y="98"/>
                </a:lnTo>
                <a:lnTo>
                  <a:pt x="509" y="100"/>
                </a:lnTo>
                <a:lnTo>
                  <a:pt x="510" y="105"/>
                </a:lnTo>
                <a:lnTo>
                  <a:pt x="507" y="115"/>
                </a:lnTo>
                <a:lnTo>
                  <a:pt x="504" y="121"/>
                </a:lnTo>
                <a:lnTo>
                  <a:pt x="504" y="123"/>
                </a:lnTo>
                <a:lnTo>
                  <a:pt x="505" y="132"/>
                </a:lnTo>
                <a:lnTo>
                  <a:pt x="499" y="138"/>
                </a:lnTo>
                <a:lnTo>
                  <a:pt x="498" y="134"/>
                </a:lnTo>
                <a:lnTo>
                  <a:pt x="496" y="136"/>
                </a:lnTo>
                <a:lnTo>
                  <a:pt x="496" y="151"/>
                </a:lnTo>
                <a:lnTo>
                  <a:pt x="494" y="163"/>
                </a:lnTo>
                <a:lnTo>
                  <a:pt x="494" y="165"/>
                </a:lnTo>
                <a:lnTo>
                  <a:pt x="494" y="178"/>
                </a:lnTo>
                <a:lnTo>
                  <a:pt x="499" y="195"/>
                </a:lnTo>
                <a:lnTo>
                  <a:pt x="502" y="197"/>
                </a:lnTo>
                <a:lnTo>
                  <a:pt x="520" y="180"/>
                </a:lnTo>
                <a:lnTo>
                  <a:pt x="524" y="199"/>
                </a:lnTo>
                <a:lnTo>
                  <a:pt x="527" y="203"/>
                </a:lnTo>
                <a:lnTo>
                  <a:pt x="529" y="212"/>
                </a:lnTo>
                <a:lnTo>
                  <a:pt x="536" y="216"/>
                </a:lnTo>
                <a:lnTo>
                  <a:pt x="557" y="212"/>
                </a:lnTo>
                <a:lnTo>
                  <a:pt x="568" y="233"/>
                </a:lnTo>
                <a:lnTo>
                  <a:pt x="595" y="252"/>
                </a:lnTo>
                <a:lnTo>
                  <a:pt x="592" y="283"/>
                </a:lnTo>
                <a:lnTo>
                  <a:pt x="593" y="298"/>
                </a:lnTo>
                <a:lnTo>
                  <a:pt x="597" y="308"/>
                </a:lnTo>
                <a:lnTo>
                  <a:pt x="579" y="312"/>
                </a:lnTo>
                <a:lnTo>
                  <a:pt x="570" y="293"/>
                </a:lnTo>
                <a:lnTo>
                  <a:pt x="564" y="285"/>
                </a:lnTo>
                <a:lnTo>
                  <a:pt x="553" y="273"/>
                </a:lnTo>
                <a:lnTo>
                  <a:pt x="551" y="273"/>
                </a:lnTo>
                <a:lnTo>
                  <a:pt x="554" y="283"/>
                </a:lnTo>
                <a:lnTo>
                  <a:pt x="561" y="293"/>
                </a:lnTo>
                <a:lnTo>
                  <a:pt x="566" y="294"/>
                </a:lnTo>
                <a:lnTo>
                  <a:pt x="575" y="317"/>
                </a:lnTo>
                <a:lnTo>
                  <a:pt x="592" y="321"/>
                </a:lnTo>
                <a:lnTo>
                  <a:pt x="593" y="331"/>
                </a:lnTo>
                <a:lnTo>
                  <a:pt x="596" y="335"/>
                </a:lnTo>
                <a:lnTo>
                  <a:pt x="600" y="333"/>
                </a:lnTo>
                <a:lnTo>
                  <a:pt x="605" y="358"/>
                </a:lnTo>
                <a:lnTo>
                  <a:pt x="596" y="361"/>
                </a:lnTo>
                <a:lnTo>
                  <a:pt x="592" y="358"/>
                </a:lnTo>
                <a:lnTo>
                  <a:pt x="590" y="365"/>
                </a:lnTo>
                <a:lnTo>
                  <a:pt x="598" y="382"/>
                </a:lnTo>
                <a:lnTo>
                  <a:pt x="587" y="392"/>
                </a:lnTo>
                <a:lnTo>
                  <a:pt x="588" y="394"/>
                </a:lnTo>
                <a:lnTo>
                  <a:pt x="598" y="392"/>
                </a:lnTo>
                <a:lnTo>
                  <a:pt x="598" y="403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435800" y="3300480"/>
            <a:ext cx="73080" cy="171360"/>
          </a:xfrm>
          <a:custGeom>
            <a:avLst/>
            <a:gdLst/>
            <a:ahLst/>
            <a:rect l="l" t="t" r="r" b="b"/>
            <a:pathLst>
              <a:path w="46" h="216">
                <a:moveTo>
                  <a:pt x="0" y="123"/>
                </a:moveTo>
                <a:lnTo>
                  <a:pt x="0" y="186"/>
                </a:lnTo>
                <a:lnTo>
                  <a:pt x="10" y="216"/>
                </a:lnTo>
                <a:lnTo>
                  <a:pt x="9" y="209"/>
                </a:lnTo>
                <a:lnTo>
                  <a:pt x="12" y="207"/>
                </a:lnTo>
                <a:lnTo>
                  <a:pt x="12" y="211"/>
                </a:lnTo>
                <a:lnTo>
                  <a:pt x="19" y="180"/>
                </a:lnTo>
                <a:lnTo>
                  <a:pt x="24" y="128"/>
                </a:lnTo>
                <a:lnTo>
                  <a:pt x="29" y="52"/>
                </a:lnTo>
                <a:lnTo>
                  <a:pt x="34" y="39"/>
                </a:lnTo>
                <a:lnTo>
                  <a:pt x="40" y="39"/>
                </a:lnTo>
                <a:lnTo>
                  <a:pt x="46" y="0"/>
                </a:lnTo>
                <a:lnTo>
                  <a:pt x="34" y="10"/>
                </a:lnTo>
                <a:lnTo>
                  <a:pt x="27" y="14"/>
                </a:lnTo>
                <a:lnTo>
                  <a:pt x="15" y="21"/>
                </a:lnTo>
                <a:lnTo>
                  <a:pt x="13" y="33"/>
                </a:lnTo>
                <a:lnTo>
                  <a:pt x="7" y="44"/>
                </a:lnTo>
                <a:lnTo>
                  <a:pt x="13" y="48"/>
                </a:lnTo>
                <a:lnTo>
                  <a:pt x="1" y="105"/>
                </a:lnTo>
                <a:lnTo>
                  <a:pt x="0" y="123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537240" y="3008160"/>
            <a:ext cx="604800" cy="582840"/>
          </a:xfrm>
          <a:custGeom>
            <a:avLst/>
            <a:gdLst/>
            <a:ahLst/>
            <a:rect l="l" t="t" r="r" b="b"/>
            <a:pathLst>
              <a:path w="381" h="733">
                <a:moveTo>
                  <a:pt x="85" y="286"/>
                </a:moveTo>
                <a:lnTo>
                  <a:pt x="90" y="279"/>
                </a:lnTo>
                <a:lnTo>
                  <a:pt x="94" y="275"/>
                </a:lnTo>
                <a:lnTo>
                  <a:pt x="103" y="258"/>
                </a:lnTo>
                <a:lnTo>
                  <a:pt x="105" y="248"/>
                </a:lnTo>
                <a:lnTo>
                  <a:pt x="108" y="238"/>
                </a:lnTo>
                <a:lnTo>
                  <a:pt x="111" y="231"/>
                </a:lnTo>
                <a:lnTo>
                  <a:pt x="114" y="221"/>
                </a:lnTo>
                <a:lnTo>
                  <a:pt x="115" y="221"/>
                </a:lnTo>
                <a:lnTo>
                  <a:pt x="120" y="216"/>
                </a:lnTo>
                <a:lnTo>
                  <a:pt x="121" y="196"/>
                </a:lnTo>
                <a:lnTo>
                  <a:pt x="119" y="191"/>
                </a:lnTo>
                <a:lnTo>
                  <a:pt x="120" y="170"/>
                </a:lnTo>
                <a:lnTo>
                  <a:pt x="121" y="154"/>
                </a:lnTo>
                <a:lnTo>
                  <a:pt x="124" y="143"/>
                </a:lnTo>
                <a:lnTo>
                  <a:pt x="124" y="130"/>
                </a:lnTo>
                <a:lnTo>
                  <a:pt x="124" y="110"/>
                </a:lnTo>
                <a:lnTo>
                  <a:pt x="124" y="103"/>
                </a:lnTo>
                <a:lnTo>
                  <a:pt x="125" y="97"/>
                </a:lnTo>
                <a:lnTo>
                  <a:pt x="128" y="80"/>
                </a:lnTo>
                <a:lnTo>
                  <a:pt x="127" y="57"/>
                </a:lnTo>
                <a:lnTo>
                  <a:pt x="125" y="53"/>
                </a:lnTo>
                <a:lnTo>
                  <a:pt x="126" y="53"/>
                </a:lnTo>
                <a:lnTo>
                  <a:pt x="125" y="30"/>
                </a:lnTo>
                <a:lnTo>
                  <a:pt x="119" y="15"/>
                </a:lnTo>
                <a:lnTo>
                  <a:pt x="121" y="7"/>
                </a:lnTo>
                <a:lnTo>
                  <a:pt x="127" y="4"/>
                </a:lnTo>
                <a:lnTo>
                  <a:pt x="130" y="0"/>
                </a:lnTo>
                <a:lnTo>
                  <a:pt x="130" y="4"/>
                </a:lnTo>
                <a:lnTo>
                  <a:pt x="130" y="9"/>
                </a:lnTo>
                <a:lnTo>
                  <a:pt x="133" y="34"/>
                </a:lnTo>
                <a:lnTo>
                  <a:pt x="133" y="36"/>
                </a:lnTo>
                <a:lnTo>
                  <a:pt x="133" y="44"/>
                </a:lnTo>
                <a:lnTo>
                  <a:pt x="134" y="49"/>
                </a:lnTo>
                <a:lnTo>
                  <a:pt x="137" y="80"/>
                </a:lnTo>
                <a:lnTo>
                  <a:pt x="137" y="84"/>
                </a:lnTo>
                <a:lnTo>
                  <a:pt x="138" y="97"/>
                </a:lnTo>
                <a:lnTo>
                  <a:pt x="139" y="101"/>
                </a:lnTo>
                <a:lnTo>
                  <a:pt x="140" y="118"/>
                </a:lnTo>
                <a:lnTo>
                  <a:pt x="141" y="128"/>
                </a:lnTo>
                <a:lnTo>
                  <a:pt x="141" y="130"/>
                </a:lnTo>
                <a:lnTo>
                  <a:pt x="142" y="139"/>
                </a:lnTo>
                <a:lnTo>
                  <a:pt x="146" y="181"/>
                </a:lnTo>
                <a:lnTo>
                  <a:pt x="146" y="185"/>
                </a:lnTo>
                <a:lnTo>
                  <a:pt x="147" y="187"/>
                </a:lnTo>
                <a:lnTo>
                  <a:pt x="148" y="187"/>
                </a:lnTo>
                <a:lnTo>
                  <a:pt x="154" y="185"/>
                </a:lnTo>
                <a:lnTo>
                  <a:pt x="157" y="183"/>
                </a:lnTo>
                <a:lnTo>
                  <a:pt x="158" y="183"/>
                </a:lnTo>
                <a:lnTo>
                  <a:pt x="195" y="172"/>
                </a:lnTo>
                <a:lnTo>
                  <a:pt x="198" y="170"/>
                </a:lnTo>
                <a:lnTo>
                  <a:pt x="203" y="168"/>
                </a:lnTo>
                <a:lnTo>
                  <a:pt x="207" y="166"/>
                </a:lnTo>
                <a:lnTo>
                  <a:pt x="223" y="162"/>
                </a:lnTo>
                <a:lnTo>
                  <a:pt x="226" y="160"/>
                </a:lnTo>
                <a:lnTo>
                  <a:pt x="231" y="158"/>
                </a:lnTo>
                <a:lnTo>
                  <a:pt x="235" y="196"/>
                </a:lnTo>
                <a:lnTo>
                  <a:pt x="241" y="263"/>
                </a:lnTo>
                <a:lnTo>
                  <a:pt x="242" y="263"/>
                </a:lnTo>
                <a:lnTo>
                  <a:pt x="248" y="246"/>
                </a:lnTo>
                <a:lnTo>
                  <a:pt x="255" y="233"/>
                </a:lnTo>
                <a:lnTo>
                  <a:pt x="257" y="227"/>
                </a:lnTo>
                <a:lnTo>
                  <a:pt x="260" y="221"/>
                </a:lnTo>
                <a:lnTo>
                  <a:pt x="269" y="196"/>
                </a:lnTo>
                <a:lnTo>
                  <a:pt x="275" y="198"/>
                </a:lnTo>
                <a:lnTo>
                  <a:pt x="287" y="158"/>
                </a:lnTo>
                <a:lnTo>
                  <a:pt x="301" y="174"/>
                </a:lnTo>
                <a:lnTo>
                  <a:pt x="303" y="172"/>
                </a:lnTo>
                <a:lnTo>
                  <a:pt x="314" y="172"/>
                </a:lnTo>
                <a:lnTo>
                  <a:pt x="316" y="172"/>
                </a:lnTo>
                <a:lnTo>
                  <a:pt x="322" y="149"/>
                </a:lnTo>
                <a:lnTo>
                  <a:pt x="321" y="145"/>
                </a:lnTo>
                <a:lnTo>
                  <a:pt x="325" y="143"/>
                </a:lnTo>
                <a:lnTo>
                  <a:pt x="331" y="143"/>
                </a:lnTo>
                <a:lnTo>
                  <a:pt x="340" y="126"/>
                </a:lnTo>
                <a:lnTo>
                  <a:pt x="350" y="137"/>
                </a:lnTo>
                <a:lnTo>
                  <a:pt x="352" y="139"/>
                </a:lnTo>
                <a:lnTo>
                  <a:pt x="362" y="133"/>
                </a:lnTo>
                <a:lnTo>
                  <a:pt x="368" y="156"/>
                </a:lnTo>
                <a:lnTo>
                  <a:pt x="376" y="170"/>
                </a:lnTo>
                <a:lnTo>
                  <a:pt x="378" y="187"/>
                </a:lnTo>
                <a:lnTo>
                  <a:pt x="381" y="187"/>
                </a:lnTo>
                <a:lnTo>
                  <a:pt x="379" y="195"/>
                </a:lnTo>
                <a:lnTo>
                  <a:pt x="378" y="204"/>
                </a:lnTo>
                <a:lnTo>
                  <a:pt x="376" y="229"/>
                </a:lnTo>
                <a:lnTo>
                  <a:pt x="360" y="212"/>
                </a:lnTo>
                <a:lnTo>
                  <a:pt x="359" y="212"/>
                </a:lnTo>
                <a:lnTo>
                  <a:pt x="357" y="210"/>
                </a:lnTo>
                <a:lnTo>
                  <a:pt x="348" y="200"/>
                </a:lnTo>
                <a:lnTo>
                  <a:pt x="345" y="196"/>
                </a:lnTo>
                <a:lnTo>
                  <a:pt x="338" y="189"/>
                </a:lnTo>
                <a:lnTo>
                  <a:pt x="335" y="185"/>
                </a:lnTo>
                <a:lnTo>
                  <a:pt x="332" y="183"/>
                </a:lnTo>
                <a:lnTo>
                  <a:pt x="327" y="177"/>
                </a:lnTo>
                <a:lnTo>
                  <a:pt x="328" y="212"/>
                </a:lnTo>
                <a:lnTo>
                  <a:pt x="326" y="250"/>
                </a:lnTo>
                <a:lnTo>
                  <a:pt x="322" y="259"/>
                </a:lnTo>
                <a:lnTo>
                  <a:pt x="320" y="267"/>
                </a:lnTo>
                <a:lnTo>
                  <a:pt x="319" y="279"/>
                </a:lnTo>
                <a:lnTo>
                  <a:pt x="306" y="301"/>
                </a:lnTo>
                <a:lnTo>
                  <a:pt x="299" y="336"/>
                </a:lnTo>
                <a:lnTo>
                  <a:pt x="288" y="322"/>
                </a:lnTo>
                <a:lnTo>
                  <a:pt x="287" y="324"/>
                </a:lnTo>
                <a:lnTo>
                  <a:pt x="284" y="342"/>
                </a:lnTo>
                <a:lnTo>
                  <a:pt x="277" y="397"/>
                </a:lnTo>
                <a:lnTo>
                  <a:pt x="277" y="399"/>
                </a:lnTo>
                <a:lnTo>
                  <a:pt x="276" y="405"/>
                </a:lnTo>
                <a:lnTo>
                  <a:pt x="275" y="410"/>
                </a:lnTo>
                <a:lnTo>
                  <a:pt x="270" y="420"/>
                </a:lnTo>
                <a:lnTo>
                  <a:pt x="256" y="416"/>
                </a:lnTo>
                <a:lnTo>
                  <a:pt x="246" y="397"/>
                </a:lnTo>
                <a:lnTo>
                  <a:pt x="239" y="393"/>
                </a:lnTo>
                <a:lnTo>
                  <a:pt x="237" y="441"/>
                </a:lnTo>
                <a:lnTo>
                  <a:pt x="236" y="445"/>
                </a:lnTo>
                <a:lnTo>
                  <a:pt x="234" y="464"/>
                </a:lnTo>
                <a:lnTo>
                  <a:pt x="228" y="477"/>
                </a:lnTo>
                <a:lnTo>
                  <a:pt x="225" y="496"/>
                </a:lnTo>
                <a:lnTo>
                  <a:pt x="224" y="510"/>
                </a:lnTo>
                <a:lnTo>
                  <a:pt x="222" y="523"/>
                </a:lnTo>
                <a:lnTo>
                  <a:pt x="222" y="525"/>
                </a:lnTo>
                <a:lnTo>
                  <a:pt x="218" y="535"/>
                </a:lnTo>
                <a:lnTo>
                  <a:pt x="210" y="554"/>
                </a:lnTo>
                <a:lnTo>
                  <a:pt x="207" y="575"/>
                </a:lnTo>
                <a:lnTo>
                  <a:pt x="202" y="596"/>
                </a:lnTo>
                <a:lnTo>
                  <a:pt x="205" y="601"/>
                </a:lnTo>
                <a:lnTo>
                  <a:pt x="207" y="603"/>
                </a:lnTo>
                <a:lnTo>
                  <a:pt x="210" y="605"/>
                </a:lnTo>
                <a:lnTo>
                  <a:pt x="208" y="613"/>
                </a:lnTo>
                <a:lnTo>
                  <a:pt x="205" y="634"/>
                </a:lnTo>
                <a:lnTo>
                  <a:pt x="193" y="655"/>
                </a:lnTo>
                <a:lnTo>
                  <a:pt x="190" y="647"/>
                </a:lnTo>
                <a:lnTo>
                  <a:pt x="169" y="674"/>
                </a:lnTo>
                <a:lnTo>
                  <a:pt x="161" y="664"/>
                </a:lnTo>
                <a:lnTo>
                  <a:pt x="160" y="674"/>
                </a:lnTo>
                <a:lnTo>
                  <a:pt x="163" y="682"/>
                </a:lnTo>
                <a:lnTo>
                  <a:pt x="153" y="695"/>
                </a:lnTo>
                <a:lnTo>
                  <a:pt x="153" y="693"/>
                </a:lnTo>
                <a:lnTo>
                  <a:pt x="142" y="703"/>
                </a:lnTo>
                <a:lnTo>
                  <a:pt x="134" y="714"/>
                </a:lnTo>
                <a:lnTo>
                  <a:pt x="132" y="710"/>
                </a:lnTo>
                <a:lnTo>
                  <a:pt x="125" y="703"/>
                </a:lnTo>
                <a:lnTo>
                  <a:pt x="121" y="697"/>
                </a:lnTo>
                <a:lnTo>
                  <a:pt x="115" y="712"/>
                </a:lnTo>
                <a:lnTo>
                  <a:pt x="97" y="733"/>
                </a:lnTo>
                <a:lnTo>
                  <a:pt x="91" y="726"/>
                </a:lnTo>
                <a:lnTo>
                  <a:pt x="73" y="703"/>
                </a:lnTo>
                <a:lnTo>
                  <a:pt x="69" y="678"/>
                </a:lnTo>
                <a:lnTo>
                  <a:pt x="71" y="676"/>
                </a:lnTo>
                <a:lnTo>
                  <a:pt x="67" y="670"/>
                </a:lnTo>
                <a:lnTo>
                  <a:pt x="54" y="672"/>
                </a:lnTo>
                <a:lnTo>
                  <a:pt x="54" y="666"/>
                </a:lnTo>
                <a:lnTo>
                  <a:pt x="34" y="638"/>
                </a:lnTo>
                <a:lnTo>
                  <a:pt x="34" y="636"/>
                </a:lnTo>
                <a:lnTo>
                  <a:pt x="29" y="626"/>
                </a:lnTo>
                <a:lnTo>
                  <a:pt x="25" y="617"/>
                </a:lnTo>
                <a:lnTo>
                  <a:pt x="24" y="613"/>
                </a:lnTo>
                <a:lnTo>
                  <a:pt x="16" y="603"/>
                </a:lnTo>
                <a:lnTo>
                  <a:pt x="16" y="601"/>
                </a:lnTo>
                <a:lnTo>
                  <a:pt x="15" y="590"/>
                </a:lnTo>
                <a:lnTo>
                  <a:pt x="2" y="565"/>
                </a:lnTo>
                <a:lnTo>
                  <a:pt x="2" y="542"/>
                </a:lnTo>
                <a:lnTo>
                  <a:pt x="4" y="540"/>
                </a:lnTo>
                <a:lnTo>
                  <a:pt x="1" y="515"/>
                </a:lnTo>
                <a:lnTo>
                  <a:pt x="0" y="506"/>
                </a:lnTo>
                <a:lnTo>
                  <a:pt x="8" y="504"/>
                </a:lnTo>
                <a:lnTo>
                  <a:pt x="18" y="496"/>
                </a:lnTo>
                <a:lnTo>
                  <a:pt x="23" y="483"/>
                </a:lnTo>
                <a:lnTo>
                  <a:pt x="23" y="466"/>
                </a:lnTo>
                <a:lnTo>
                  <a:pt x="26" y="460"/>
                </a:lnTo>
                <a:lnTo>
                  <a:pt x="29" y="462"/>
                </a:lnTo>
                <a:lnTo>
                  <a:pt x="32" y="454"/>
                </a:lnTo>
                <a:lnTo>
                  <a:pt x="28" y="428"/>
                </a:lnTo>
                <a:lnTo>
                  <a:pt x="32" y="384"/>
                </a:lnTo>
                <a:lnTo>
                  <a:pt x="36" y="374"/>
                </a:lnTo>
                <a:lnTo>
                  <a:pt x="39" y="366"/>
                </a:lnTo>
                <a:lnTo>
                  <a:pt x="49" y="395"/>
                </a:lnTo>
                <a:lnTo>
                  <a:pt x="52" y="393"/>
                </a:lnTo>
                <a:lnTo>
                  <a:pt x="57" y="380"/>
                </a:lnTo>
                <a:lnTo>
                  <a:pt x="59" y="347"/>
                </a:lnTo>
                <a:lnTo>
                  <a:pt x="58" y="342"/>
                </a:lnTo>
                <a:lnTo>
                  <a:pt x="57" y="334"/>
                </a:lnTo>
                <a:lnTo>
                  <a:pt x="56" y="330"/>
                </a:lnTo>
                <a:lnTo>
                  <a:pt x="57" y="328"/>
                </a:lnTo>
                <a:lnTo>
                  <a:pt x="58" y="322"/>
                </a:lnTo>
                <a:lnTo>
                  <a:pt x="60" y="315"/>
                </a:lnTo>
                <a:lnTo>
                  <a:pt x="70" y="307"/>
                </a:lnTo>
                <a:lnTo>
                  <a:pt x="74" y="284"/>
                </a:lnTo>
                <a:lnTo>
                  <a:pt x="85" y="286"/>
                </a:lnTo>
                <a:close/>
              </a:path>
            </a:pathLst>
          </a:custGeom>
          <a:solidFill>
            <a:srgbClr val="00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29160" y="4057560"/>
            <a:ext cx="478080" cy="803520"/>
          </a:xfrm>
          <a:custGeom>
            <a:avLst/>
            <a:gdLst/>
            <a:ahLst/>
            <a:rect l="l" t="t" r="r" b="b"/>
            <a:pathLst>
              <a:path w="301" h="1013">
                <a:moveTo>
                  <a:pt x="23" y="713"/>
                </a:moveTo>
                <a:lnTo>
                  <a:pt x="28" y="713"/>
                </a:lnTo>
                <a:lnTo>
                  <a:pt x="29" y="688"/>
                </a:lnTo>
                <a:lnTo>
                  <a:pt x="30" y="686"/>
                </a:lnTo>
                <a:lnTo>
                  <a:pt x="42" y="659"/>
                </a:lnTo>
                <a:lnTo>
                  <a:pt x="38" y="644"/>
                </a:lnTo>
                <a:lnTo>
                  <a:pt x="47" y="635"/>
                </a:lnTo>
                <a:lnTo>
                  <a:pt x="47" y="633"/>
                </a:lnTo>
                <a:lnTo>
                  <a:pt x="48" y="633"/>
                </a:lnTo>
                <a:lnTo>
                  <a:pt x="45" y="633"/>
                </a:lnTo>
                <a:lnTo>
                  <a:pt x="44" y="633"/>
                </a:lnTo>
                <a:lnTo>
                  <a:pt x="38" y="633"/>
                </a:lnTo>
                <a:lnTo>
                  <a:pt x="38" y="616"/>
                </a:lnTo>
                <a:lnTo>
                  <a:pt x="49" y="619"/>
                </a:lnTo>
                <a:lnTo>
                  <a:pt x="47" y="566"/>
                </a:lnTo>
                <a:lnTo>
                  <a:pt x="36" y="556"/>
                </a:lnTo>
                <a:lnTo>
                  <a:pt x="47" y="558"/>
                </a:lnTo>
                <a:lnTo>
                  <a:pt x="40" y="543"/>
                </a:lnTo>
                <a:lnTo>
                  <a:pt x="42" y="539"/>
                </a:lnTo>
                <a:lnTo>
                  <a:pt x="45" y="530"/>
                </a:lnTo>
                <a:lnTo>
                  <a:pt x="35" y="539"/>
                </a:lnTo>
                <a:lnTo>
                  <a:pt x="28" y="453"/>
                </a:lnTo>
                <a:lnTo>
                  <a:pt x="28" y="451"/>
                </a:lnTo>
                <a:lnTo>
                  <a:pt x="29" y="373"/>
                </a:lnTo>
                <a:lnTo>
                  <a:pt x="25" y="375"/>
                </a:lnTo>
                <a:lnTo>
                  <a:pt x="28" y="356"/>
                </a:lnTo>
                <a:lnTo>
                  <a:pt x="19" y="363"/>
                </a:lnTo>
                <a:lnTo>
                  <a:pt x="23" y="348"/>
                </a:lnTo>
                <a:lnTo>
                  <a:pt x="20" y="344"/>
                </a:lnTo>
                <a:lnTo>
                  <a:pt x="19" y="344"/>
                </a:lnTo>
                <a:lnTo>
                  <a:pt x="18" y="339"/>
                </a:lnTo>
                <a:lnTo>
                  <a:pt x="26" y="306"/>
                </a:lnTo>
                <a:lnTo>
                  <a:pt x="26" y="291"/>
                </a:lnTo>
                <a:lnTo>
                  <a:pt x="37" y="293"/>
                </a:lnTo>
                <a:lnTo>
                  <a:pt x="28" y="251"/>
                </a:lnTo>
                <a:lnTo>
                  <a:pt x="35" y="243"/>
                </a:lnTo>
                <a:lnTo>
                  <a:pt x="39" y="220"/>
                </a:lnTo>
                <a:lnTo>
                  <a:pt x="47" y="191"/>
                </a:lnTo>
                <a:lnTo>
                  <a:pt x="55" y="182"/>
                </a:lnTo>
                <a:lnTo>
                  <a:pt x="53" y="169"/>
                </a:lnTo>
                <a:lnTo>
                  <a:pt x="61" y="165"/>
                </a:lnTo>
                <a:lnTo>
                  <a:pt x="60" y="174"/>
                </a:lnTo>
                <a:lnTo>
                  <a:pt x="61" y="176"/>
                </a:lnTo>
                <a:lnTo>
                  <a:pt x="69" y="132"/>
                </a:lnTo>
                <a:lnTo>
                  <a:pt x="66" y="107"/>
                </a:lnTo>
                <a:lnTo>
                  <a:pt x="69" y="102"/>
                </a:lnTo>
                <a:lnTo>
                  <a:pt x="71" y="111"/>
                </a:lnTo>
                <a:lnTo>
                  <a:pt x="77" y="98"/>
                </a:lnTo>
                <a:lnTo>
                  <a:pt x="67" y="88"/>
                </a:lnTo>
                <a:lnTo>
                  <a:pt x="69" y="85"/>
                </a:lnTo>
                <a:lnTo>
                  <a:pt x="73" y="90"/>
                </a:lnTo>
                <a:lnTo>
                  <a:pt x="77" y="83"/>
                </a:lnTo>
                <a:lnTo>
                  <a:pt x="76" y="79"/>
                </a:lnTo>
                <a:lnTo>
                  <a:pt x="80" y="67"/>
                </a:lnTo>
                <a:lnTo>
                  <a:pt x="81" y="65"/>
                </a:lnTo>
                <a:lnTo>
                  <a:pt x="82" y="62"/>
                </a:lnTo>
                <a:lnTo>
                  <a:pt x="89" y="60"/>
                </a:lnTo>
                <a:lnTo>
                  <a:pt x="93" y="50"/>
                </a:lnTo>
                <a:lnTo>
                  <a:pt x="93" y="41"/>
                </a:lnTo>
                <a:lnTo>
                  <a:pt x="87" y="31"/>
                </a:lnTo>
                <a:lnTo>
                  <a:pt x="114" y="27"/>
                </a:lnTo>
                <a:lnTo>
                  <a:pt x="127" y="25"/>
                </a:lnTo>
                <a:lnTo>
                  <a:pt x="138" y="23"/>
                </a:lnTo>
                <a:lnTo>
                  <a:pt x="146" y="21"/>
                </a:lnTo>
                <a:lnTo>
                  <a:pt x="155" y="21"/>
                </a:lnTo>
                <a:lnTo>
                  <a:pt x="162" y="20"/>
                </a:lnTo>
                <a:lnTo>
                  <a:pt x="171" y="20"/>
                </a:lnTo>
                <a:lnTo>
                  <a:pt x="176" y="18"/>
                </a:lnTo>
                <a:lnTo>
                  <a:pt x="180" y="18"/>
                </a:lnTo>
                <a:lnTo>
                  <a:pt x="184" y="16"/>
                </a:lnTo>
                <a:lnTo>
                  <a:pt x="192" y="16"/>
                </a:lnTo>
                <a:lnTo>
                  <a:pt x="197" y="14"/>
                </a:lnTo>
                <a:lnTo>
                  <a:pt x="200" y="14"/>
                </a:lnTo>
                <a:lnTo>
                  <a:pt x="201" y="14"/>
                </a:lnTo>
                <a:lnTo>
                  <a:pt x="208" y="12"/>
                </a:lnTo>
                <a:lnTo>
                  <a:pt x="217" y="10"/>
                </a:lnTo>
                <a:lnTo>
                  <a:pt x="220" y="10"/>
                </a:lnTo>
                <a:lnTo>
                  <a:pt x="228" y="8"/>
                </a:lnTo>
                <a:lnTo>
                  <a:pt x="236" y="8"/>
                </a:lnTo>
                <a:lnTo>
                  <a:pt x="255" y="4"/>
                </a:lnTo>
                <a:lnTo>
                  <a:pt x="256" y="4"/>
                </a:lnTo>
                <a:lnTo>
                  <a:pt x="266" y="2"/>
                </a:lnTo>
                <a:lnTo>
                  <a:pt x="270" y="0"/>
                </a:lnTo>
                <a:lnTo>
                  <a:pt x="278" y="20"/>
                </a:lnTo>
                <a:lnTo>
                  <a:pt x="280" y="21"/>
                </a:lnTo>
                <a:lnTo>
                  <a:pt x="280" y="33"/>
                </a:lnTo>
                <a:lnTo>
                  <a:pt x="280" y="65"/>
                </a:lnTo>
                <a:lnTo>
                  <a:pt x="280" y="85"/>
                </a:lnTo>
                <a:lnTo>
                  <a:pt x="280" y="102"/>
                </a:lnTo>
                <a:lnTo>
                  <a:pt x="280" y="104"/>
                </a:lnTo>
                <a:lnTo>
                  <a:pt x="280" y="109"/>
                </a:lnTo>
                <a:lnTo>
                  <a:pt x="280" y="115"/>
                </a:lnTo>
                <a:lnTo>
                  <a:pt x="280" y="128"/>
                </a:lnTo>
                <a:lnTo>
                  <a:pt x="280" y="140"/>
                </a:lnTo>
                <a:lnTo>
                  <a:pt x="280" y="167"/>
                </a:lnTo>
                <a:lnTo>
                  <a:pt x="280" y="172"/>
                </a:lnTo>
                <a:lnTo>
                  <a:pt x="280" y="188"/>
                </a:lnTo>
                <a:lnTo>
                  <a:pt x="280" y="195"/>
                </a:lnTo>
                <a:lnTo>
                  <a:pt x="280" y="207"/>
                </a:lnTo>
                <a:lnTo>
                  <a:pt x="279" y="239"/>
                </a:lnTo>
                <a:lnTo>
                  <a:pt x="279" y="260"/>
                </a:lnTo>
                <a:lnTo>
                  <a:pt x="279" y="262"/>
                </a:lnTo>
                <a:lnTo>
                  <a:pt x="279" y="304"/>
                </a:lnTo>
                <a:lnTo>
                  <a:pt x="279" y="310"/>
                </a:lnTo>
                <a:lnTo>
                  <a:pt x="279" y="329"/>
                </a:lnTo>
                <a:lnTo>
                  <a:pt x="279" y="354"/>
                </a:lnTo>
                <a:lnTo>
                  <a:pt x="279" y="369"/>
                </a:lnTo>
                <a:lnTo>
                  <a:pt x="279" y="373"/>
                </a:lnTo>
                <a:lnTo>
                  <a:pt x="279" y="417"/>
                </a:lnTo>
                <a:lnTo>
                  <a:pt x="279" y="423"/>
                </a:lnTo>
                <a:lnTo>
                  <a:pt x="279" y="430"/>
                </a:lnTo>
                <a:lnTo>
                  <a:pt x="279" y="476"/>
                </a:lnTo>
                <a:lnTo>
                  <a:pt x="279" y="484"/>
                </a:lnTo>
                <a:lnTo>
                  <a:pt x="279" y="503"/>
                </a:lnTo>
                <a:lnTo>
                  <a:pt x="279" y="539"/>
                </a:lnTo>
                <a:lnTo>
                  <a:pt x="279" y="545"/>
                </a:lnTo>
                <a:lnTo>
                  <a:pt x="279" y="558"/>
                </a:lnTo>
                <a:lnTo>
                  <a:pt x="279" y="570"/>
                </a:lnTo>
                <a:lnTo>
                  <a:pt x="279" y="572"/>
                </a:lnTo>
                <a:lnTo>
                  <a:pt x="279" y="575"/>
                </a:lnTo>
                <a:lnTo>
                  <a:pt x="279" y="581"/>
                </a:lnTo>
                <a:lnTo>
                  <a:pt x="279" y="596"/>
                </a:lnTo>
                <a:lnTo>
                  <a:pt x="278" y="644"/>
                </a:lnTo>
                <a:lnTo>
                  <a:pt x="279" y="648"/>
                </a:lnTo>
                <a:lnTo>
                  <a:pt x="279" y="652"/>
                </a:lnTo>
                <a:lnTo>
                  <a:pt x="281" y="684"/>
                </a:lnTo>
                <a:lnTo>
                  <a:pt x="284" y="724"/>
                </a:lnTo>
                <a:lnTo>
                  <a:pt x="285" y="730"/>
                </a:lnTo>
                <a:lnTo>
                  <a:pt x="285" y="738"/>
                </a:lnTo>
                <a:lnTo>
                  <a:pt x="286" y="751"/>
                </a:lnTo>
                <a:lnTo>
                  <a:pt x="288" y="774"/>
                </a:lnTo>
                <a:lnTo>
                  <a:pt x="290" y="805"/>
                </a:lnTo>
                <a:lnTo>
                  <a:pt x="290" y="810"/>
                </a:lnTo>
                <a:lnTo>
                  <a:pt x="291" y="818"/>
                </a:lnTo>
                <a:lnTo>
                  <a:pt x="292" y="828"/>
                </a:lnTo>
                <a:lnTo>
                  <a:pt x="295" y="879"/>
                </a:lnTo>
                <a:lnTo>
                  <a:pt x="296" y="881"/>
                </a:lnTo>
                <a:lnTo>
                  <a:pt x="298" y="910"/>
                </a:lnTo>
                <a:lnTo>
                  <a:pt x="299" y="936"/>
                </a:lnTo>
                <a:lnTo>
                  <a:pt x="301" y="961"/>
                </a:lnTo>
                <a:lnTo>
                  <a:pt x="292" y="969"/>
                </a:lnTo>
                <a:lnTo>
                  <a:pt x="269" y="967"/>
                </a:lnTo>
                <a:lnTo>
                  <a:pt x="259" y="956"/>
                </a:lnTo>
                <a:lnTo>
                  <a:pt x="259" y="963"/>
                </a:lnTo>
                <a:lnTo>
                  <a:pt x="246" y="963"/>
                </a:lnTo>
                <a:lnTo>
                  <a:pt x="220" y="982"/>
                </a:lnTo>
                <a:lnTo>
                  <a:pt x="215" y="971"/>
                </a:lnTo>
                <a:lnTo>
                  <a:pt x="217" y="982"/>
                </a:lnTo>
                <a:lnTo>
                  <a:pt x="202" y="1013"/>
                </a:lnTo>
                <a:lnTo>
                  <a:pt x="200" y="1013"/>
                </a:lnTo>
                <a:lnTo>
                  <a:pt x="190" y="999"/>
                </a:lnTo>
                <a:lnTo>
                  <a:pt x="182" y="959"/>
                </a:lnTo>
                <a:lnTo>
                  <a:pt x="182" y="957"/>
                </a:lnTo>
                <a:lnTo>
                  <a:pt x="176" y="950"/>
                </a:lnTo>
                <a:lnTo>
                  <a:pt x="176" y="952"/>
                </a:lnTo>
                <a:lnTo>
                  <a:pt x="166" y="917"/>
                </a:lnTo>
                <a:lnTo>
                  <a:pt x="167" y="900"/>
                </a:lnTo>
                <a:lnTo>
                  <a:pt x="172" y="864"/>
                </a:lnTo>
                <a:lnTo>
                  <a:pt x="174" y="847"/>
                </a:lnTo>
                <a:lnTo>
                  <a:pt x="172" y="849"/>
                </a:lnTo>
                <a:lnTo>
                  <a:pt x="172" y="847"/>
                </a:lnTo>
                <a:lnTo>
                  <a:pt x="164" y="849"/>
                </a:lnTo>
                <a:lnTo>
                  <a:pt x="137" y="852"/>
                </a:lnTo>
                <a:lnTo>
                  <a:pt x="126" y="854"/>
                </a:lnTo>
                <a:lnTo>
                  <a:pt x="125" y="854"/>
                </a:lnTo>
                <a:lnTo>
                  <a:pt x="117" y="856"/>
                </a:lnTo>
                <a:lnTo>
                  <a:pt x="114" y="856"/>
                </a:lnTo>
                <a:lnTo>
                  <a:pt x="103" y="858"/>
                </a:lnTo>
                <a:lnTo>
                  <a:pt x="99" y="858"/>
                </a:lnTo>
                <a:lnTo>
                  <a:pt x="97" y="858"/>
                </a:lnTo>
                <a:lnTo>
                  <a:pt x="84" y="860"/>
                </a:lnTo>
                <a:lnTo>
                  <a:pt x="80" y="862"/>
                </a:lnTo>
                <a:lnTo>
                  <a:pt x="73" y="862"/>
                </a:lnTo>
                <a:lnTo>
                  <a:pt x="58" y="864"/>
                </a:lnTo>
                <a:lnTo>
                  <a:pt x="52" y="866"/>
                </a:lnTo>
                <a:lnTo>
                  <a:pt x="42" y="866"/>
                </a:lnTo>
                <a:lnTo>
                  <a:pt x="35" y="868"/>
                </a:lnTo>
                <a:lnTo>
                  <a:pt x="24" y="870"/>
                </a:lnTo>
                <a:lnTo>
                  <a:pt x="0" y="871"/>
                </a:lnTo>
                <a:lnTo>
                  <a:pt x="2" y="870"/>
                </a:lnTo>
                <a:lnTo>
                  <a:pt x="0" y="845"/>
                </a:lnTo>
                <a:lnTo>
                  <a:pt x="3" y="831"/>
                </a:lnTo>
                <a:lnTo>
                  <a:pt x="10" y="795"/>
                </a:lnTo>
                <a:lnTo>
                  <a:pt x="8" y="738"/>
                </a:lnTo>
                <a:lnTo>
                  <a:pt x="18" y="717"/>
                </a:lnTo>
                <a:lnTo>
                  <a:pt x="20" y="713"/>
                </a:lnTo>
                <a:lnTo>
                  <a:pt x="23" y="713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57920" y="4022640"/>
            <a:ext cx="528480" cy="812880"/>
          </a:xfrm>
          <a:custGeom>
            <a:avLst/>
            <a:gdLst/>
            <a:ahLst/>
            <a:rect l="l" t="t" r="r" b="b"/>
            <a:pathLst>
              <a:path w="333" h="1023">
                <a:moveTo>
                  <a:pt x="20" y="848"/>
                </a:moveTo>
                <a:lnTo>
                  <a:pt x="20" y="853"/>
                </a:lnTo>
                <a:lnTo>
                  <a:pt x="21" y="861"/>
                </a:lnTo>
                <a:lnTo>
                  <a:pt x="22" y="871"/>
                </a:lnTo>
                <a:lnTo>
                  <a:pt x="25" y="922"/>
                </a:lnTo>
                <a:lnTo>
                  <a:pt x="26" y="924"/>
                </a:lnTo>
                <a:lnTo>
                  <a:pt x="28" y="953"/>
                </a:lnTo>
                <a:lnTo>
                  <a:pt x="29" y="979"/>
                </a:lnTo>
                <a:lnTo>
                  <a:pt x="31" y="1004"/>
                </a:lnTo>
                <a:lnTo>
                  <a:pt x="33" y="997"/>
                </a:lnTo>
                <a:lnTo>
                  <a:pt x="44" y="995"/>
                </a:lnTo>
                <a:lnTo>
                  <a:pt x="49" y="1008"/>
                </a:lnTo>
                <a:lnTo>
                  <a:pt x="56" y="1000"/>
                </a:lnTo>
                <a:lnTo>
                  <a:pt x="56" y="968"/>
                </a:lnTo>
                <a:lnTo>
                  <a:pt x="63" y="930"/>
                </a:lnTo>
                <a:lnTo>
                  <a:pt x="73" y="939"/>
                </a:lnTo>
                <a:lnTo>
                  <a:pt x="73" y="964"/>
                </a:lnTo>
                <a:lnTo>
                  <a:pt x="67" y="1023"/>
                </a:lnTo>
                <a:lnTo>
                  <a:pt x="110" y="1004"/>
                </a:lnTo>
                <a:lnTo>
                  <a:pt x="124" y="966"/>
                </a:lnTo>
                <a:lnTo>
                  <a:pt x="118" y="956"/>
                </a:lnTo>
                <a:lnTo>
                  <a:pt x="120" y="930"/>
                </a:lnTo>
                <a:lnTo>
                  <a:pt x="97" y="890"/>
                </a:lnTo>
                <a:lnTo>
                  <a:pt x="98" y="857"/>
                </a:lnTo>
                <a:lnTo>
                  <a:pt x="129" y="851"/>
                </a:lnTo>
                <a:lnTo>
                  <a:pt x="130" y="851"/>
                </a:lnTo>
                <a:lnTo>
                  <a:pt x="137" y="850"/>
                </a:lnTo>
                <a:lnTo>
                  <a:pt x="139" y="848"/>
                </a:lnTo>
                <a:lnTo>
                  <a:pt x="152" y="846"/>
                </a:lnTo>
                <a:lnTo>
                  <a:pt x="171" y="842"/>
                </a:lnTo>
                <a:lnTo>
                  <a:pt x="177" y="842"/>
                </a:lnTo>
                <a:lnTo>
                  <a:pt x="178" y="842"/>
                </a:lnTo>
                <a:lnTo>
                  <a:pt x="180" y="840"/>
                </a:lnTo>
                <a:lnTo>
                  <a:pt x="191" y="838"/>
                </a:lnTo>
                <a:lnTo>
                  <a:pt x="194" y="838"/>
                </a:lnTo>
                <a:lnTo>
                  <a:pt x="207" y="834"/>
                </a:lnTo>
                <a:lnTo>
                  <a:pt x="208" y="834"/>
                </a:lnTo>
                <a:lnTo>
                  <a:pt x="220" y="832"/>
                </a:lnTo>
                <a:lnTo>
                  <a:pt x="225" y="830"/>
                </a:lnTo>
                <a:lnTo>
                  <a:pt x="227" y="830"/>
                </a:lnTo>
                <a:lnTo>
                  <a:pt x="231" y="830"/>
                </a:lnTo>
                <a:lnTo>
                  <a:pt x="239" y="829"/>
                </a:lnTo>
                <a:lnTo>
                  <a:pt x="247" y="827"/>
                </a:lnTo>
                <a:lnTo>
                  <a:pt x="264" y="823"/>
                </a:lnTo>
                <a:lnTo>
                  <a:pt x="288" y="817"/>
                </a:lnTo>
                <a:lnTo>
                  <a:pt x="289" y="815"/>
                </a:lnTo>
                <a:lnTo>
                  <a:pt x="311" y="809"/>
                </a:lnTo>
                <a:lnTo>
                  <a:pt x="319" y="807"/>
                </a:lnTo>
                <a:lnTo>
                  <a:pt x="333" y="804"/>
                </a:lnTo>
                <a:lnTo>
                  <a:pt x="333" y="802"/>
                </a:lnTo>
                <a:lnTo>
                  <a:pt x="330" y="790"/>
                </a:lnTo>
                <a:lnTo>
                  <a:pt x="326" y="781"/>
                </a:lnTo>
                <a:lnTo>
                  <a:pt x="320" y="756"/>
                </a:lnTo>
                <a:lnTo>
                  <a:pt x="321" y="743"/>
                </a:lnTo>
                <a:lnTo>
                  <a:pt x="320" y="729"/>
                </a:lnTo>
                <a:lnTo>
                  <a:pt x="321" y="704"/>
                </a:lnTo>
                <a:lnTo>
                  <a:pt x="322" y="701"/>
                </a:lnTo>
                <a:lnTo>
                  <a:pt x="318" y="678"/>
                </a:lnTo>
                <a:lnTo>
                  <a:pt x="312" y="666"/>
                </a:lnTo>
                <a:lnTo>
                  <a:pt x="311" y="651"/>
                </a:lnTo>
                <a:lnTo>
                  <a:pt x="311" y="649"/>
                </a:lnTo>
                <a:lnTo>
                  <a:pt x="310" y="647"/>
                </a:lnTo>
                <a:lnTo>
                  <a:pt x="309" y="628"/>
                </a:lnTo>
                <a:lnTo>
                  <a:pt x="310" y="624"/>
                </a:lnTo>
                <a:lnTo>
                  <a:pt x="313" y="603"/>
                </a:lnTo>
                <a:lnTo>
                  <a:pt x="313" y="601"/>
                </a:lnTo>
                <a:lnTo>
                  <a:pt x="313" y="588"/>
                </a:lnTo>
                <a:lnTo>
                  <a:pt x="312" y="574"/>
                </a:lnTo>
                <a:lnTo>
                  <a:pt x="317" y="563"/>
                </a:lnTo>
                <a:lnTo>
                  <a:pt x="323" y="552"/>
                </a:lnTo>
                <a:lnTo>
                  <a:pt x="324" y="546"/>
                </a:lnTo>
                <a:lnTo>
                  <a:pt x="315" y="534"/>
                </a:lnTo>
                <a:lnTo>
                  <a:pt x="317" y="521"/>
                </a:lnTo>
                <a:lnTo>
                  <a:pt x="313" y="496"/>
                </a:lnTo>
                <a:lnTo>
                  <a:pt x="312" y="496"/>
                </a:lnTo>
                <a:lnTo>
                  <a:pt x="312" y="494"/>
                </a:lnTo>
                <a:lnTo>
                  <a:pt x="304" y="477"/>
                </a:lnTo>
                <a:lnTo>
                  <a:pt x="302" y="471"/>
                </a:lnTo>
                <a:lnTo>
                  <a:pt x="298" y="450"/>
                </a:lnTo>
                <a:lnTo>
                  <a:pt x="297" y="450"/>
                </a:lnTo>
                <a:lnTo>
                  <a:pt x="297" y="448"/>
                </a:lnTo>
                <a:lnTo>
                  <a:pt x="298" y="443"/>
                </a:lnTo>
                <a:lnTo>
                  <a:pt x="291" y="425"/>
                </a:lnTo>
                <a:lnTo>
                  <a:pt x="288" y="408"/>
                </a:lnTo>
                <a:lnTo>
                  <a:pt x="287" y="401"/>
                </a:lnTo>
                <a:lnTo>
                  <a:pt x="284" y="378"/>
                </a:lnTo>
                <a:lnTo>
                  <a:pt x="283" y="374"/>
                </a:lnTo>
                <a:lnTo>
                  <a:pt x="280" y="355"/>
                </a:lnTo>
                <a:lnTo>
                  <a:pt x="275" y="324"/>
                </a:lnTo>
                <a:lnTo>
                  <a:pt x="274" y="313"/>
                </a:lnTo>
                <a:lnTo>
                  <a:pt x="272" y="301"/>
                </a:lnTo>
                <a:lnTo>
                  <a:pt x="272" y="299"/>
                </a:lnTo>
                <a:lnTo>
                  <a:pt x="268" y="273"/>
                </a:lnTo>
                <a:lnTo>
                  <a:pt x="267" y="267"/>
                </a:lnTo>
                <a:lnTo>
                  <a:pt x="261" y="229"/>
                </a:lnTo>
                <a:lnTo>
                  <a:pt x="261" y="227"/>
                </a:lnTo>
                <a:lnTo>
                  <a:pt x="259" y="217"/>
                </a:lnTo>
                <a:lnTo>
                  <a:pt x="256" y="206"/>
                </a:lnTo>
                <a:lnTo>
                  <a:pt x="255" y="198"/>
                </a:lnTo>
                <a:lnTo>
                  <a:pt x="254" y="191"/>
                </a:lnTo>
                <a:lnTo>
                  <a:pt x="253" y="181"/>
                </a:lnTo>
                <a:lnTo>
                  <a:pt x="250" y="166"/>
                </a:lnTo>
                <a:lnTo>
                  <a:pt x="248" y="152"/>
                </a:lnTo>
                <a:lnTo>
                  <a:pt x="247" y="141"/>
                </a:lnTo>
                <a:lnTo>
                  <a:pt x="243" y="116"/>
                </a:lnTo>
                <a:lnTo>
                  <a:pt x="241" y="105"/>
                </a:lnTo>
                <a:lnTo>
                  <a:pt x="239" y="93"/>
                </a:lnTo>
                <a:lnTo>
                  <a:pt x="237" y="80"/>
                </a:lnTo>
                <a:lnTo>
                  <a:pt x="236" y="72"/>
                </a:lnTo>
                <a:lnTo>
                  <a:pt x="232" y="47"/>
                </a:lnTo>
                <a:lnTo>
                  <a:pt x="230" y="32"/>
                </a:lnTo>
                <a:lnTo>
                  <a:pt x="229" y="24"/>
                </a:lnTo>
                <a:lnTo>
                  <a:pt x="228" y="22"/>
                </a:lnTo>
                <a:lnTo>
                  <a:pt x="225" y="0"/>
                </a:lnTo>
                <a:lnTo>
                  <a:pt x="223" y="0"/>
                </a:lnTo>
                <a:lnTo>
                  <a:pt x="205" y="3"/>
                </a:lnTo>
                <a:lnTo>
                  <a:pt x="202" y="3"/>
                </a:lnTo>
                <a:lnTo>
                  <a:pt x="186" y="7"/>
                </a:lnTo>
                <a:lnTo>
                  <a:pt x="168" y="11"/>
                </a:lnTo>
                <a:lnTo>
                  <a:pt x="164" y="11"/>
                </a:lnTo>
                <a:lnTo>
                  <a:pt x="164" y="13"/>
                </a:lnTo>
                <a:lnTo>
                  <a:pt x="159" y="13"/>
                </a:lnTo>
                <a:lnTo>
                  <a:pt x="148" y="15"/>
                </a:lnTo>
                <a:lnTo>
                  <a:pt x="124" y="21"/>
                </a:lnTo>
                <a:lnTo>
                  <a:pt x="119" y="22"/>
                </a:lnTo>
                <a:lnTo>
                  <a:pt x="117" y="22"/>
                </a:lnTo>
                <a:lnTo>
                  <a:pt x="111" y="22"/>
                </a:lnTo>
                <a:lnTo>
                  <a:pt x="87" y="26"/>
                </a:lnTo>
                <a:lnTo>
                  <a:pt x="86" y="26"/>
                </a:lnTo>
                <a:lnTo>
                  <a:pt x="83" y="26"/>
                </a:lnTo>
                <a:lnTo>
                  <a:pt x="72" y="28"/>
                </a:lnTo>
                <a:lnTo>
                  <a:pt x="52" y="32"/>
                </a:lnTo>
                <a:lnTo>
                  <a:pt x="45" y="34"/>
                </a:lnTo>
                <a:lnTo>
                  <a:pt x="26" y="38"/>
                </a:lnTo>
                <a:lnTo>
                  <a:pt x="19" y="38"/>
                </a:lnTo>
                <a:lnTo>
                  <a:pt x="0" y="42"/>
                </a:lnTo>
                <a:lnTo>
                  <a:pt x="0" y="43"/>
                </a:lnTo>
                <a:lnTo>
                  <a:pt x="8" y="63"/>
                </a:lnTo>
                <a:lnTo>
                  <a:pt x="10" y="64"/>
                </a:lnTo>
                <a:lnTo>
                  <a:pt x="10" y="76"/>
                </a:lnTo>
                <a:lnTo>
                  <a:pt x="10" y="108"/>
                </a:lnTo>
                <a:lnTo>
                  <a:pt x="10" y="128"/>
                </a:lnTo>
                <a:lnTo>
                  <a:pt x="10" y="145"/>
                </a:lnTo>
                <a:lnTo>
                  <a:pt x="10" y="147"/>
                </a:lnTo>
                <a:lnTo>
                  <a:pt x="10" y="152"/>
                </a:lnTo>
                <a:lnTo>
                  <a:pt x="10" y="158"/>
                </a:lnTo>
                <a:lnTo>
                  <a:pt x="10" y="171"/>
                </a:lnTo>
                <a:lnTo>
                  <a:pt x="10" y="183"/>
                </a:lnTo>
                <a:lnTo>
                  <a:pt x="10" y="210"/>
                </a:lnTo>
                <a:lnTo>
                  <a:pt x="10" y="215"/>
                </a:lnTo>
                <a:lnTo>
                  <a:pt x="10" y="231"/>
                </a:lnTo>
                <a:lnTo>
                  <a:pt x="10" y="238"/>
                </a:lnTo>
                <a:lnTo>
                  <a:pt x="10" y="250"/>
                </a:lnTo>
                <a:lnTo>
                  <a:pt x="9" y="282"/>
                </a:lnTo>
                <a:lnTo>
                  <a:pt x="9" y="303"/>
                </a:lnTo>
                <a:lnTo>
                  <a:pt x="9" y="305"/>
                </a:lnTo>
                <a:lnTo>
                  <a:pt x="9" y="347"/>
                </a:lnTo>
                <a:lnTo>
                  <a:pt x="9" y="353"/>
                </a:lnTo>
                <a:lnTo>
                  <a:pt x="9" y="372"/>
                </a:lnTo>
                <a:lnTo>
                  <a:pt x="9" y="397"/>
                </a:lnTo>
                <a:lnTo>
                  <a:pt x="9" y="412"/>
                </a:lnTo>
                <a:lnTo>
                  <a:pt x="9" y="416"/>
                </a:lnTo>
                <a:lnTo>
                  <a:pt x="9" y="460"/>
                </a:lnTo>
                <a:lnTo>
                  <a:pt x="9" y="466"/>
                </a:lnTo>
                <a:lnTo>
                  <a:pt x="9" y="473"/>
                </a:lnTo>
                <a:lnTo>
                  <a:pt x="9" y="519"/>
                </a:lnTo>
                <a:lnTo>
                  <a:pt x="9" y="527"/>
                </a:lnTo>
                <a:lnTo>
                  <a:pt x="9" y="546"/>
                </a:lnTo>
                <a:lnTo>
                  <a:pt x="9" y="582"/>
                </a:lnTo>
                <a:lnTo>
                  <a:pt x="9" y="588"/>
                </a:lnTo>
                <a:lnTo>
                  <a:pt x="9" y="601"/>
                </a:lnTo>
                <a:lnTo>
                  <a:pt x="9" y="613"/>
                </a:lnTo>
                <a:lnTo>
                  <a:pt x="9" y="615"/>
                </a:lnTo>
                <a:lnTo>
                  <a:pt x="9" y="618"/>
                </a:lnTo>
                <a:lnTo>
                  <a:pt x="9" y="624"/>
                </a:lnTo>
                <a:lnTo>
                  <a:pt x="9" y="639"/>
                </a:lnTo>
                <a:lnTo>
                  <a:pt x="8" y="687"/>
                </a:lnTo>
                <a:lnTo>
                  <a:pt x="9" y="691"/>
                </a:lnTo>
                <a:lnTo>
                  <a:pt x="9" y="695"/>
                </a:lnTo>
                <a:lnTo>
                  <a:pt x="11" y="727"/>
                </a:lnTo>
                <a:lnTo>
                  <a:pt x="14" y="767"/>
                </a:lnTo>
                <a:lnTo>
                  <a:pt x="15" y="773"/>
                </a:lnTo>
                <a:lnTo>
                  <a:pt x="15" y="781"/>
                </a:lnTo>
                <a:lnTo>
                  <a:pt x="16" y="794"/>
                </a:lnTo>
                <a:lnTo>
                  <a:pt x="18" y="817"/>
                </a:lnTo>
                <a:lnTo>
                  <a:pt x="20" y="848"/>
                </a:lnTo>
                <a:close/>
              </a:path>
            </a:pathLst>
          </a:custGeom>
          <a:solidFill>
            <a:srgbClr val="00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19920" y="4572000"/>
            <a:ext cx="1231920" cy="1000080"/>
          </a:xfrm>
          <a:custGeom>
            <a:avLst/>
            <a:gdLst/>
            <a:ahLst/>
            <a:rect l="l" t="t" r="r" b="b"/>
            <a:pathLst>
              <a:path w="776" h="1163">
                <a:moveTo>
                  <a:pt x="155" y="212"/>
                </a:moveTo>
                <a:lnTo>
                  <a:pt x="192" y="242"/>
                </a:lnTo>
                <a:lnTo>
                  <a:pt x="205" y="263"/>
                </a:lnTo>
                <a:lnTo>
                  <a:pt x="216" y="269"/>
                </a:lnTo>
                <a:lnTo>
                  <a:pt x="220" y="313"/>
                </a:lnTo>
                <a:lnTo>
                  <a:pt x="216" y="280"/>
                </a:lnTo>
                <a:lnTo>
                  <a:pt x="220" y="317"/>
                </a:lnTo>
                <a:lnTo>
                  <a:pt x="234" y="317"/>
                </a:lnTo>
                <a:lnTo>
                  <a:pt x="244" y="324"/>
                </a:lnTo>
                <a:lnTo>
                  <a:pt x="242" y="307"/>
                </a:lnTo>
                <a:lnTo>
                  <a:pt x="254" y="303"/>
                </a:lnTo>
                <a:lnTo>
                  <a:pt x="264" y="290"/>
                </a:lnTo>
                <a:lnTo>
                  <a:pt x="261" y="298"/>
                </a:lnTo>
                <a:lnTo>
                  <a:pt x="297" y="252"/>
                </a:lnTo>
                <a:lnTo>
                  <a:pt x="308" y="254"/>
                </a:lnTo>
                <a:lnTo>
                  <a:pt x="309" y="236"/>
                </a:lnTo>
                <a:lnTo>
                  <a:pt x="308" y="231"/>
                </a:lnTo>
                <a:lnTo>
                  <a:pt x="317" y="212"/>
                </a:lnTo>
                <a:lnTo>
                  <a:pt x="333" y="204"/>
                </a:lnTo>
                <a:lnTo>
                  <a:pt x="340" y="204"/>
                </a:lnTo>
                <a:lnTo>
                  <a:pt x="341" y="206"/>
                </a:lnTo>
                <a:lnTo>
                  <a:pt x="377" y="238"/>
                </a:lnTo>
                <a:lnTo>
                  <a:pt x="384" y="261"/>
                </a:lnTo>
                <a:lnTo>
                  <a:pt x="400" y="277"/>
                </a:lnTo>
                <a:lnTo>
                  <a:pt x="407" y="311"/>
                </a:lnTo>
                <a:lnTo>
                  <a:pt x="419" y="319"/>
                </a:lnTo>
                <a:lnTo>
                  <a:pt x="429" y="347"/>
                </a:lnTo>
                <a:lnTo>
                  <a:pt x="438" y="351"/>
                </a:lnTo>
                <a:lnTo>
                  <a:pt x="439" y="378"/>
                </a:lnTo>
                <a:lnTo>
                  <a:pt x="445" y="376"/>
                </a:lnTo>
                <a:lnTo>
                  <a:pt x="447" y="368"/>
                </a:lnTo>
                <a:lnTo>
                  <a:pt x="458" y="364"/>
                </a:lnTo>
                <a:lnTo>
                  <a:pt x="465" y="370"/>
                </a:lnTo>
                <a:lnTo>
                  <a:pt x="471" y="397"/>
                </a:lnTo>
                <a:lnTo>
                  <a:pt x="480" y="414"/>
                </a:lnTo>
                <a:lnTo>
                  <a:pt x="474" y="435"/>
                </a:lnTo>
                <a:lnTo>
                  <a:pt x="481" y="443"/>
                </a:lnTo>
                <a:lnTo>
                  <a:pt x="479" y="450"/>
                </a:lnTo>
                <a:lnTo>
                  <a:pt x="484" y="454"/>
                </a:lnTo>
                <a:lnTo>
                  <a:pt x="485" y="456"/>
                </a:lnTo>
                <a:lnTo>
                  <a:pt x="487" y="508"/>
                </a:lnTo>
                <a:lnTo>
                  <a:pt x="483" y="548"/>
                </a:lnTo>
                <a:lnTo>
                  <a:pt x="480" y="563"/>
                </a:lnTo>
                <a:lnTo>
                  <a:pt x="483" y="573"/>
                </a:lnTo>
                <a:lnTo>
                  <a:pt x="478" y="580"/>
                </a:lnTo>
                <a:lnTo>
                  <a:pt x="481" y="626"/>
                </a:lnTo>
                <a:lnTo>
                  <a:pt x="491" y="649"/>
                </a:lnTo>
                <a:lnTo>
                  <a:pt x="494" y="670"/>
                </a:lnTo>
                <a:lnTo>
                  <a:pt x="497" y="674"/>
                </a:lnTo>
                <a:lnTo>
                  <a:pt x="504" y="647"/>
                </a:lnTo>
                <a:lnTo>
                  <a:pt x="504" y="618"/>
                </a:lnTo>
                <a:lnTo>
                  <a:pt x="501" y="613"/>
                </a:lnTo>
                <a:lnTo>
                  <a:pt x="492" y="607"/>
                </a:lnTo>
                <a:lnTo>
                  <a:pt x="498" y="601"/>
                </a:lnTo>
                <a:lnTo>
                  <a:pt x="514" y="626"/>
                </a:lnTo>
                <a:lnTo>
                  <a:pt x="515" y="615"/>
                </a:lnTo>
                <a:lnTo>
                  <a:pt x="522" y="613"/>
                </a:lnTo>
                <a:lnTo>
                  <a:pt x="512" y="664"/>
                </a:lnTo>
                <a:lnTo>
                  <a:pt x="506" y="678"/>
                </a:lnTo>
                <a:lnTo>
                  <a:pt x="507" y="683"/>
                </a:lnTo>
                <a:lnTo>
                  <a:pt x="496" y="691"/>
                </a:lnTo>
                <a:lnTo>
                  <a:pt x="508" y="718"/>
                </a:lnTo>
                <a:lnTo>
                  <a:pt x="520" y="744"/>
                </a:lnTo>
                <a:lnTo>
                  <a:pt x="540" y="800"/>
                </a:lnTo>
                <a:lnTo>
                  <a:pt x="547" y="813"/>
                </a:lnTo>
                <a:lnTo>
                  <a:pt x="553" y="829"/>
                </a:lnTo>
                <a:lnTo>
                  <a:pt x="566" y="886"/>
                </a:lnTo>
                <a:lnTo>
                  <a:pt x="573" y="897"/>
                </a:lnTo>
                <a:lnTo>
                  <a:pt x="584" y="890"/>
                </a:lnTo>
                <a:lnTo>
                  <a:pt x="584" y="884"/>
                </a:lnTo>
                <a:lnTo>
                  <a:pt x="602" y="911"/>
                </a:lnTo>
                <a:lnTo>
                  <a:pt x="609" y="951"/>
                </a:lnTo>
                <a:lnTo>
                  <a:pt x="626" y="1002"/>
                </a:lnTo>
                <a:lnTo>
                  <a:pt x="626" y="997"/>
                </a:lnTo>
                <a:lnTo>
                  <a:pt x="630" y="993"/>
                </a:lnTo>
                <a:lnTo>
                  <a:pt x="646" y="1006"/>
                </a:lnTo>
                <a:lnTo>
                  <a:pt x="654" y="1008"/>
                </a:lnTo>
                <a:lnTo>
                  <a:pt x="670" y="1035"/>
                </a:lnTo>
                <a:lnTo>
                  <a:pt x="687" y="1088"/>
                </a:lnTo>
                <a:lnTo>
                  <a:pt x="685" y="1092"/>
                </a:lnTo>
                <a:lnTo>
                  <a:pt x="685" y="1113"/>
                </a:lnTo>
                <a:lnTo>
                  <a:pt x="695" y="1132"/>
                </a:lnTo>
                <a:lnTo>
                  <a:pt x="703" y="1128"/>
                </a:lnTo>
                <a:lnTo>
                  <a:pt x="716" y="1113"/>
                </a:lnTo>
                <a:lnTo>
                  <a:pt x="721" y="1113"/>
                </a:lnTo>
                <a:lnTo>
                  <a:pt x="722" y="1117"/>
                </a:lnTo>
                <a:lnTo>
                  <a:pt x="731" y="1115"/>
                </a:lnTo>
                <a:lnTo>
                  <a:pt x="728" y="1138"/>
                </a:lnTo>
                <a:lnTo>
                  <a:pt x="732" y="1144"/>
                </a:lnTo>
                <a:lnTo>
                  <a:pt x="740" y="1136"/>
                </a:lnTo>
                <a:lnTo>
                  <a:pt x="736" y="1113"/>
                </a:lnTo>
                <a:lnTo>
                  <a:pt x="739" y="1102"/>
                </a:lnTo>
                <a:lnTo>
                  <a:pt x="740" y="1105"/>
                </a:lnTo>
                <a:lnTo>
                  <a:pt x="752" y="1096"/>
                </a:lnTo>
                <a:lnTo>
                  <a:pt x="753" y="1128"/>
                </a:lnTo>
                <a:lnTo>
                  <a:pt x="748" y="1138"/>
                </a:lnTo>
                <a:lnTo>
                  <a:pt x="749" y="1142"/>
                </a:lnTo>
                <a:lnTo>
                  <a:pt x="741" y="1163"/>
                </a:lnTo>
                <a:lnTo>
                  <a:pt x="749" y="1148"/>
                </a:lnTo>
                <a:lnTo>
                  <a:pt x="764" y="1105"/>
                </a:lnTo>
                <a:lnTo>
                  <a:pt x="772" y="1060"/>
                </a:lnTo>
                <a:lnTo>
                  <a:pt x="776" y="1027"/>
                </a:lnTo>
                <a:lnTo>
                  <a:pt x="776" y="1023"/>
                </a:lnTo>
                <a:lnTo>
                  <a:pt x="770" y="1058"/>
                </a:lnTo>
                <a:lnTo>
                  <a:pt x="761" y="1071"/>
                </a:lnTo>
                <a:lnTo>
                  <a:pt x="765" y="1056"/>
                </a:lnTo>
                <a:lnTo>
                  <a:pt x="760" y="1031"/>
                </a:lnTo>
                <a:lnTo>
                  <a:pt x="765" y="991"/>
                </a:lnTo>
                <a:lnTo>
                  <a:pt x="772" y="983"/>
                </a:lnTo>
                <a:lnTo>
                  <a:pt x="775" y="993"/>
                </a:lnTo>
                <a:lnTo>
                  <a:pt x="772" y="928"/>
                </a:lnTo>
                <a:lnTo>
                  <a:pt x="772" y="924"/>
                </a:lnTo>
                <a:lnTo>
                  <a:pt x="770" y="857"/>
                </a:lnTo>
                <a:lnTo>
                  <a:pt x="765" y="762"/>
                </a:lnTo>
                <a:lnTo>
                  <a:pt x="757" y="727"/>
                </a:lnTo>
                <a:lnTo>
                  <a:pt x="741" y="672"/>
                </a:lnTo>
                <a:lnTo>
                  <a:pt x="723" y="617"/>
                </a:lnTo>
                <a:lnTo>
                  <a:pt x="706" y="559"/>
                </a:lnTo>
                <a:lnTo>
                  <a:pt x="689" y="510"/>
                </a:lnTo>
                <a:lnTo>
                  <a:pt x="682" y="466"/>
                </a:lnTo>
                <a:lnTo>
                  <a:pt x="684" y="433"/>
                </a:lnTo>
                <a:lnTo>
                  <a:pt x="662" y="380"/>
                </a:lnTo>
                <a:lnTo>
                  <a:pt x="632" y="309"/>
                </a:lnTo>
                <a:lnTo>
                  <a:pt x="618" y="265"/>
                </a:lnTo>
                <a:lnTo>
                  <a:pt x="617" y="261"/>
                </a:lnTo>
                <a:lnTo>
                  <a:pt x="602" y="215"/>
                </a:lnTo>
                <a:lnTo>
                  <a:pt x="601" y="215"/>
                </a:lnTo>
                <a:lnTo>
                  <a:pt x="598" y="200"/>
                </a:lnTo>
                <a:lnTo>
                  <a:pt x="592" y="168"/>
                </a:lnTo>
                <a:lnTo>
                  <a:pt x="577" y="101"/>
                </a:lnTo>
                <a:lnTo>
                  <a:pt x="569" y="53"/>
                </a:lnTo>
                <a:lnTo>
                  <a:pt x="567" y="53"/>
                </a:lnTo>
                <a:lnTo>
                  <a:pt x="567" y="51"/>
                </a:lnTo>
                <a:lnTo>
                  <a:pt x="563" y="11"/>
                </a:lnTo>
                <a:lnTo>
                  <a:pt x="563" y="9"/>
                </a:lnTo>
                <a:lnTo>
                  <a:pt x="535" y="9"/>
                </a:lnTo>
                <a:lnTo>
                  <a:pt x="522" y="3"/>
                </a:lnTo>
                <a:lnTo>
                  <a:pt x="518" y="0"/>
                </a:lnTo>
                <a:lnTo>
                  <a:pt x="508" y="19"/>
                </a:lnTo>
                <a:lnTo>
                  <a:pt x="514" y="68"/>
                </a:lnTo>
                <a:lnTo>
                  <a:pt x="513" y="97"/>
                </a:lnTo>
                <a:lnTo>
                  <a:pt x="501" y="99"/>
                </a:lnTo>
                <a:lnTo>
                  <a:pt x="496" y="74"/>
                </a:lnTo>
                <a:lnTo>
                  <a:pt x="495" y="61"/>
                </a:lnTo>
                <a:lnTo>
                  <a:pt x="492" y="61"/>
                </a:lnTo>
                <a:lnTo>
                  <a:pt x="480" y="63"/>
                </a:lnTo>
                <a:lnTo>
                  <a:pt x="476" y="63"/>
                </a:lnTo>
                <a:lnTo>
                  <a:pt x="473" y="65"/>
                </a:lnTo>
                <a:lnTo>
                  <a:pt x="469" y="65"/>
                </a:lnTo>
                <a:lnTo>
                  <a:pt x="461" y="65"/>
                </a:lnTo>
                <a:lnTo>
                  <a:pt x="453" y="66"/>
                </a:lnTo>
                <a:lnTo>
                  <a:pt x="452" y="66"/>
                </a:lnTo>
                <a:lnTo>
                  <a:pt x="446" y="68"/>
                </a:lnTo>
                <a:lnTo>
                  <a:pt x="435" y="70"/>
                </a:lnTo>
                <a:lnTo>
                  <a:pt x="411" y="74"/>
                </a:lnTo>
                <a:lnTo>
                  <a:pt x="405" y="74"/>
                </a:lnTo>
                <a:lnTo>
                  <a:pt x="400" y="74"/>
                </a:lnTo>
                <a:lnTo>
                  <a:pt x="395" y="76"/>
                </a:lnTo>
                <a:lnTo>
                  <a:pt x="392" y="76"/>
                </a:lnTo>
                <a:lnTo>
                  <a:pt x="391" y="76"/>
                </a:lnTo>
                <a:lnTo>
                  <a:pt x="388" y="76"/>
                </a:lnTo>
                <a:lnTo>
                  <a:pt x="378" y="78"/>
                </a:lnTo>
                <a:lnTo>
                  <a:pt x="368" y="80"/>
                </a:lnTo>
                <a:lnTo>
                  <a:pt x="365" y="80"/>
                </a:lnTo>
                <a:lnTo>
                  <a:pt x="361" y="80"/>
                </a:lnTo>
                <a:lnTo>
                  <a:pt x="355" y="82"/>
                </a:lnTo>
                <a:lnTo>
                  <a:pt x="343" y="84"/>
                </a:lnTo>
                <a:lnTo>
                  <a:pt x="336" y="84"/>
                </a:lnTo>
                <a:lnTo>
                  <a:pt x="330" y="86"/>
                </a:lnTo>
                <a:lnTo>
                  <a:pt x="326" y="86"/>
                </a:lnTo>
                <a:lnTo>
                  <a:pt x="323" y="86"/>
                </a:lnTo>
                <a:lnTo>
                  <a:pt x="313" y="87"/>
                </a:lnTo>
                <a:lnTo>
                  <a:pt x="308" y="87"/>
                </a:lnTo>
                <a:lnTo>
                  <a:pt x="305" y="89"/>
                </a:lnTo>
                <a:lnTo>
                  <a:pt x="303" y="89"/>
                </a:lnTo>
                <a:lnTo>
                  <a:pt x="297" y="89"/>
                </a:lnTo>
                <a:lnTo>
                  <a:pt x="296" y="89"/>
                </a:lnTo>
                <a:lnTo>
                  <a:pt x="288" y="91"/>
                </a:lnTo>
                <a:lnTo>
                  <a:pt x="272" y="93"/>
                </a:lnTo>
                <a:lnTo>
                  <a:pt x="252" y="97"/>
                </a:lnTo>
                <a:lnTo>
                  <a:pt x="251" y="93"/>
                </a:lnTo>
                <a:lnTo>
                  <a:pt x="237" y="47"/>
                </a:lnTo>
                <a:lnTo>
                  <a:pt x="236" y="40"/>
                </a:lnTo>
                <a:lnTo>
                  <a:pt x="222" y="43"/>
                </a:lnTo>
                <a:lnTo>
                  <a:pt x="214" y="45"/>
                </a:lnTo>
                <a:lnTo>
                  <a:pt x="192" y="51"/>
                </a:lnTo>
                <a:lnTo>
                  <a:pt x="191" y="53"/>
                </a:lnTo>
                <a:lnTo>
                  <a:pt x="167" y="59"/>
                </a:lnTo>
                <a:lnTo>
                  <a:pt x="150" y="63"/>
                </a:lnTo>
                <a:lnTo>
                  <a:pt x="142" y="65"/>
                </a:lnTo>
                <a:lnTo>
                  <a:pt x="134" y="66"/>
                </a:lnTo>
                <a:lnTo>
                  <a:pt x="130" y="66"/>
                </a:lnTo>
                <a:lnTo>
                  <a:pt x="128" y="66"/>
                </a:lnTo>
                <a:lnTo>
                  <a:pt x="123" y="68"/>
                </a:lnTo>
                <a:lnTo>
                  <a:pt x="111" y="70"/>
                </a:lnTo>
                <a:lnTo>
                  <a:pt x="110" y="70"/>
                </a:lnTo>
                <a:lnTo>
                  <a:pt x="97" y="74"/>
                </a:lnTo>
                <a:lnTo>
                  <a:pt x="94" y="74"/>
                </a:lnTo>
                <a:lnTo>
                  <a:pt x="83" y="76"/>
                </a:lnTo>
                <a:lnTo>
                  <a:pt x="81" y="78"/>
                </a:lnTo>
                <a:lnTo>
                  <a:pt x="80" y="78"/>
                </a:lnTo>
                <a:lnTo>
                  <a:pt x="74" y="78"/>
                </a:lnTo>
                <a:lnTo>
                  <a:pt x="55" y="82"/>
                </a:lnTo>
                <a:lnTo>
                  <a:pt x="42" y="84"/>
                </a:lnTo>
                <a:lnTo>
                  <a:pt x="40" y="86"/>
                </a:lnTo>
                <a:lnTo>
                  <a:pt x="33" y="87"/>
                </a:lnTo>
                <a:lnTo>
                  <a:pt x="32" y="87"/>
                </a:lnTo>
                <a:lnTo>
                  <a:pt x="1" y="93"/>
                </a:lnTo>
                <a:lnTo>
                  <a:pt x="0" y="126"/>
                </a:lnTo>
                <a:lnTo>
                  <a:pt x="23" y="166"/>
                </a:lnTo>
                <a:lnTo>
                  <a:pt x="21" y="192"/>
                </a:lnTo>
                <a:lnTo>
                  <a:pt x="27" y="202"/>
                </a:lnTo>
                <a:lnTo>
                  <a:pt x="13" y="240"/>
                </a:lnTo>
                <a:lnTo>
                  <a:pt x="29" y="231"/>
                </a:lnTo>
                <a:lnTo>
                  <a:pt x="76" y="206"/>
                </a:lnTo>
                <a:lnTo>
                  <a:pt x="80" y="204"/>
                </a:lnTo>
                <a:lnTo>
                  <a:pt x="107" y="198"/>
                </a:lnTo>
                <a:lnTo>
                  <a:pt x="117" y="198"/>
                </a:lnTo>
                <a:lnTo>
                  <a:pt x="118" y="198"/>
                </a:lnTo>
                <a:lnTo>
                  <a:pt x="119" y="198"/>
                </a:lnTo>
                <a:lnTo>
                  <a:pt x="155" y="212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486560" y="5664240"/>
            <a:ext cx="33480" cy="22320"/>
          </a:xfrm>
          <a:custGeom>
            <a:avLst/>
            <a:gdLst/>
            <a:ahLst/>
            <a:rect l="l" t="t" r="r" b="b"/>
            <a:pathLst>
              <a:path w="21" h="27">
                <a:moveTo>
                  <a:pt x="0" y="25"/>
                </a:moveTo>
                <a:lnTo>
                  <a:pt x="1" y="27"/>
                </a:lnTo>
                <a:lnTo>
                  <a:pt x="21" y="0"/>
                </a:lnTo>
                <a:lnTo>
                  <a:pt x="12" y="12"/>
                </a:lnTo>
                <a:lnTo>
                  <a:pt x="0" y="25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24720" y="5654520"/>
            <a:ext cx="9720" cy="6480"/>
          </a:xfrm>
          <a:custGeom>
            <a:avLst/>
            <a:gdLst/>
            <a:ahLst/>
            <a:rect l="l" t="t" r="r" b="b"/>
            <a:pathLst>
              <a:path w="6" h="10">
                <a:moveTo>
                  <a:pt x="0" y="10"/>
                </a:moveTo>
                <a:lnTo>
                  <a:pt x="6" y="0"/>
                </a:lnTo>
                <a:lnTo>
                  <a:pt x="5" y="6"/>
                </a:lnTo>
                <a:lnTo>
                  <a:pt x="0" y="10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39120" y="5645160"/>
            <a:ext cx="9360" cy="7920"/>
          </a:xfrm>
          <a:custGeom>
            <a:avLst/>
            <a:gdLst/>
            <a:ahLst/>
            <a:rect l="l" t="t" r="r" b="b"/>
            <a:pathLst>
              <a:path w="6" h="9">
                <a:moveTo>
                  <a:pt x="0" y="9"/>
                </a:moveTo>
                <a:lnTo>
                  <a:pt x="6" y="0"/>
                </a:lnTo>
                <a:lnTo>
                  <a:pt x="0" y="9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37320" y="5653080"/>
            <a:ext cx="1800" cy="14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3287880"/>
            <a:ext cx="1000080" cy="502920"/>
          </a:xfrm>
          <a:custGeom>
            <a:avLst/>
            <a:gdLst/>
            <a:ahLst/>
            <a:rect l="l" t="t" r="r" b="b"/>
            <a:pathLst>
              <a:path w="630" h="634">
                <a:moveTo>
                  <a:pt x="623" y="201"/>
                </a:moveTo>
                <a:lnTo>
                  <a:pt x="623" y="216"/>
                </a:lnTo>
                <a:lnTo>
                  <a:pt x="624" y="229"/>
                </a:lnTo>
                <a:lnTo>
                  <a:pt x="624" y="243"/>
                </a:lnTo>
                <a:lnTo>
                  <a:pt x="624" y="262"/>
                </a:lnTo>
                <a:lnTo>
                  <a:pt x="624" y="266"/>
                </a:lnTo>
                <a:lnTo>
                  <a:pt x="624" y="289"/>
                </a:lnTo>
                <a:lnTo>
                  <a:pt x="625" y="313"/>
                </a:lnTo>
                <a:lnTo>
                  <a:pt x="625" y="319"/>
                </a:lnTo>
                <a:lnTo>
                  <a:pt x="625" y="336"/>
                </a:lnTo>
                <a:lnTo>
                  <a:pt x="626" y="365"/>
                </a:lnTo>
                <a:lnTo>
                  <a:pt x="626" y="386"/>
                </a:lnTo>
                <a:lnTo>
                  <a:pt x="626" y="405"/>
                </a:lnTo>
                <a:lnTo>
                  <a:pt x="626" y="411"/>
                </a:lnTo>
                <a:lnTo>
                  <a:pt x="627" y="432"/>
                </a:lnTo>
                <a:lnTo>
                  <a:pt x="627" y="462"/>
                </a:lnTo>
                <a:lnTo>
                  <a:pt x="627" y="485"/>
                </a:lnTo>
                <a:lnTo>
                  <a:pt x="627" y="489"/>
                </a:lnTo>
                <a:lnTo>
                  <a:pt x="628" y="522"/>
                </a:lnTo>
                <a:lnTo>
                  <a:pt x="628" y="546"/>
                </a:lnTo>
                <a:lnTo>
                  <a:pt x="628" y="550"/>
                </a:lnTo>
                <a:lnTo>
                  <a:pt x="628" y="554"/>
                </a:lnTo>
                <a:lnTo>
                  <a:pt x="629" y="590"/>
                </a:lnTo>
                <a:lnTo>
                  <a:pt x="629" y="608"/>
                </a:lnTo>
                <a:lnTo>
                  <a:pt x="629" y="613"/>
                </a:lnTo>
                <a:lnTo>
                  <a:pt x="630" y="619"/>
                </a:lnTo>
                <a:lnTo>
                  <a:pt x="630" y="625"/>
                </a:lnTo>
                <a:lnTo>
                  <a:pt x="629" y="625"/>
                </a:lnTo>
                <a:lnTo>
                  <a:pt x="618" y="627"/>
                </a:lnTo>
                <a:lnTo>
                  <a:pt x="597" y="627"/>
                </a:lnTo>
                <a:lnTo>
                  <a:pt x="591" y="627"/>
                </a:lnTo>
                <a:lnTo>
                  <a:pt x="576" y="629"/>
                </a:lnTo>
                <a:lnTo>
                  <a:pt x="571" y="629"/>
                </a:lnTo>
                <a:lnTo>
                  <a:pt x="563" y="629"/>
                </a:lnTo>
                <a:lnTo>
                  <a:pt x="555" y="629"/>
                </a:lnTo>
                <a:lnTo>
                  <a:pt x="553" y="629"/>
                </a:lnTo>
                <a:lnTo>
                  <a:pt x="545" y="630"/>
                </a:lnTo>
                <a:lnTo>
                  <a:pt x="541" y="630"/>
                </a:lnTo>
                <a:lnTo>
                  <a:pt x="531" y="630"/>
                </a:lnTo>
                <a:lnTo>
                  <a:pt x="523" y="630"/>
                </a:lnTo>
                <a:lnTo>
                  <a:pt x="516" y="630"/>
                </a:lnTo>
                <a:lnTo>
                  <a:pt x="513" y="630"/>
                </a:lnTo>
                <a:lnTo>
                  <a:pt x="502" y="630"/>
                </a:lnTo>
                <a:lnTo>
                  <a:pt x="475" y="632"/>
                </a:lnTo>
                <a:lnTo>
                  <a:pt x="468" y="632"/>
                </a:lnTo>
                <a:lnTo>
                  <a:pt x="459" y="632"/>
                </a:lnTo>
                <a:lnTo>
                  <a:pt x="449" y="632"/>
                </a:lnTo>
                <a:lnTo>
                  <a:pt x="438" y="632"/>
                </a:lnTo>
                <a:lnTo>
                  <a:pt x="427" y="632"/>
                </a:lnTo>
                <a:lnTo>
                  <a:pt x="415" y="634"/>
                </a:lnTo>
                <a:lnTo>
                  <a:pt x="401" y="634"/>
                </a:lnTo>
                <a:lnTo>
                  <a:pt x="396" y="634"/>
                </a:lnTo>
                <a:lnTo>
                  <a:pt x="388" y="634"/>
                </a:lnTo>
                <a:lnTo>
                  <a:pt x="385" y="634"/>
                </a:lnTo>
                <a:lnTo>
                  <a:pt x="369" y="634"/>
                </a:lnTo>
                <a:lnTo>
                  <a:pt x="360" y="634"/>
                </a:lnTo>
                <a:lnTo>
                  <a:pt x="343" y="634"/>
                </a:lnTo>
                <a:lnTo>
                  <a:pt x="339" y="634"/>
                </a:lnTo>
                <a:lnTo>
                  <a:pt x="334" y="634"/>
                </a:lnTo>
                <a:lnTo>
                  <a:pt x="332" y="634"/>
                </a:lnTo>
                <a:lnTo>
                  <a:pt x="318" y="634"/>
                </a:lnTo>
                <a:lnTo>
                  <a:pt x="314" y="634"/>
                </a:lnTo>
                <a:lnTo>
                  <a:pt x="311" y="634"/>
                </a:lnTo>
                <a:lnTo>
                  <a:pt x="301" y="634"/>
                </a:lnTo>
                <a:lnTo>
                  <a:pt x="296" y="634"/>
                </a:lnTo>
                <a:lnTo>
                  <a:pt x="279" y="634"/>
                </a:lnTo>
                <a:lnTo>
                  <a:pt x="273" y="634"/>
                </a:lnTo>
                <a:lnTo>
                  <a:pt x="258" y="632"/>
                </a:lnTo>
                <a:lnTo>
                  <a:pt x="229" y="632"/>
                </a:lnTo>
                <a:lnTo>
                  <a:pt x="226" y="632"/>
                </a:lnTo>
                <a:lnTo>
                  <a:pt x="219" y="632"/>
                </a:lnTo>
                <a:lnTo>
                  <a:pt x="215" y="632"/>
                </a:lnTo>
                <a:lnTo>
                  <a:pt x="212" y="632"/>
                </a:lnTo>
                <a:lnTo>
                  <a:pt x="179" y="630"/>
                </a:lnTo>
                <a:lnTo>
                  <a:pt x="173" y="630"/>
                </a:lnTo>
                <a:lnTo>
                  <a:pt x="170" y="630"/>
                </a:lnTo>
                <a:lnTo>
                  <a:pt x="166" y="630"/>
                </a:lnTo>
                <a:lnTo>
                  <a:pt x="163" y="630"/>
                </a:lnTo>
                <a:lnTo>
                  <a:pt x="125" y="629"/>
                </a:lnTo>
                <a:lnTo>
                  <a:pt x="120" y="629"/>
                </a:lnTo>
                <a:lnTo>
                  <a:pt x="92" y="627"/>
                </a:lnTo>
                <a:lnTo>
                  <a:pt x="88" y="627"/>
                </a:lnTo>
                <a:lnTo>
                  <a:pt x="82" y="627"/>
                </a:lnTo>
                <a:lnTo>
                  <a:pt x="77" y="627"/>
                </a:lnTo>
                <a:lnTo>
                  <a:pt x="56" y="625"/>
                </a:lnTo>
                <a:lnTo>
                  <a:pt x="41" y="625"/>
                </a:lnTo>
                <a:lnTo>
                  <a:pt x="24" y="625"/>
                </a:lnTo>
                <a:lnTo>
                  <a:pt x="19" y="623"/>
                </a:lnTo>
                <a:lnTo>
                  <a:pt x="1" y="623"/>
                </a:lnTo>
                <a:lnTo>
                  <a:pt x="0" y="623"/>
                </a:lnTo>
                <a:lnTo>
                  <a:pt x="0" y="594"/>
                </a:lnTo>
                <a:lnTo>
                  <a:pt x="1" y="569"/>
                </a:lnTo>
                <a:lnTo>
                  <a:pt x="1" y="541"/>
                </a:lnTo>
                <a:lnTo>
                  <a:pt x="2" y="518"/>
                </a:lnTo>
                <a:lnTo>
                  <a:pt x="3" y="491"/>
                </a:lnTo>
                <a:lnTo>
                  <a:pt x="3" y="487"/>
                </a:lnTo>
                <a:lnTo>
                  <a:pt x="3" y="468"/>
                </a:lnTo>
                <a:lnTo>
                  <a:pt x="4" y="415"/>
                </a:lnTo>
                <a:lnTo>
                  <a:pt x="4" y="388"/>
                </a:lnTo>
                <a:lnTo>
                  <a:pt x="5" y="359"/>
                </a:lnTo>
                <a:lnTo>
                  <a:pt x="5" y="357"/>
                </a:lnTo>
                <a:lnTo>
                  <a:pt x="5" y="336"/>
                </a:lnTo>
                <a:lnTo>
                  <a:pt x="6" y="323"/>
                </a:lnTo>
                <a:lnTo>
                  <a:pt x="6" y="287"/>
                </a:lnTo>
                <a:lnTo>
                  <a:pt x="7" y="285"/>
                </a:lnTo>
                <a:lnTo>
                  <a:pt x="7" y="269"/>
                </a:lnTo>
                <a:lnTo>
                  <a:pt x="7" y="248"/>
                </a:lnTo>
                <a:lnTo>
                  <a:pt x="8" y="206"/>
                </a:lnTo>
                <a:lnTo>
                  <a:pt x="8" y="197"/>
                </a:lnTo>
                <a:lnTo>
                  <a:pt x="8" y="191"/>
                </a:lnTo>
                <a:lnTo>
                  <a:pt x="9" y="182"/>
                </a:lnTo>
                <a:lnTo>
                  <a:pt x="9" y="180"/>
                </a:lnTo>
                <a:lnTo>
                  <a:pt x="9" y="130"/>
                </a:lnTo>
                <a:lnTo>
                  <a:pt x="10" y="103"/>
                </a:lnTo>
                <a:lnTo>
                  <a:pt x="10" y="90"/>
                </a:lnTo>
                <a:lnTo>
                  <a:pt x="10" y="88"/>
                </a:lnTo>
                <a:lnTo>
                  <a:pt x="12" y="0"/>
                </a:lnTo>
                <a:lnTo>
                  <a:pt x="64" y="4"/>
                </a:lnTo>
                <a:lnTo>
                  <a:pt x="67" y="4"/>
                </a:lnTo>
                <a:lnTo>
                  <a:pt x="71" y="4"/>
                </a:lnTo>
                <a:lnTo>
                  <a:pt x="87" y="4"/>
                </a:lnTo>
                <a:lnTo>
                  <a:pt x="107" y="6"/>
                </a:lnTo>
                <a:lnTo>
                  <a:pt x="118" y="6"/>
                </a:lnTo>
                <a:lnTo>
                  <a:pt x="119" y="6"/>
                </a:lnTo>
                <a:lnTo>
                  <a:pt x="120" y="6"/>
                </a:lnTo>
                <a:lnTo>
                  <a:pt x="134" y="8"/>
                </a:lnTo>
                <a:lnTo>
                  <a:pt x="149" y="8"/>
                </a:lnTo>
                <a:lnTo>
                  <a:pt x="164" y="8"/>
                </a:lnTo>
                <a:lnTo>
                  <a:pt x="165" y="10"/>
                </a:lnTo>
                <a:lnTo>
                  <a:pt x="169" y="10"/>
                </a:lnTo>
                <a:lnTo>
                  <a:pt x="194" y="10"/>
                </a:lnTo>
                <a:lnTo>
                  <a:pt x="210" y="10"/>
                </a:lnTo>
                <a:lnTo>
                  <a:pt x="230" y="12"/>
                </a:lnTo>
                <a:lnTo>
                  <a:pt x="236" y="12"/>
                </a:lnTo>
                <a:lnTo>
                  <a:pt x="246" y="12"/>
                </a:lnTo>
                <a:lnTo>
                  <a:pt x="251" y="12"/>
                </a:lnTo>
                <a:lnTo>
                  <a:pt x="255" y="12"/>
                </a:lnTo>
                <a:lnTo>
                  <a:pt x="271" y="12"/>
                </a:lnTo>
                <a:lnTo>
                  <a:pt x="281" y="12"/>
                </a:lnTo>
                <a:lnTo>
                  <a:pt x="283" y="12"/>
                </a:lnTo>
                <a:lnTo>
                  <a:pt x="291" y="12"/>
                </a:lnTo>
                <a:lnTo>
                  <a:pt x="302" y="12"/>
                </a:lnTo>
                <a:lnTo>
                  <a:pt x="313" y="12"/>
                </a:lnTo>
                <a:lnTo>
                  <a:pt x="321" y="12"/>
                </a:lnTo>
                <a:lnTo>
                  <a:pt x="333" y="12"/>
                </a:lnTo>
                <a:lnTo>
                  <a:pt x="343" y="12"/>
                </a:lnTo>
                <a:lnTo>
                  <a:pt x="349" y="12"/>
                </a:lnTo>
                <a:lnTo>
                  <a:pt x="353" y="12"/>
                </a:lnTo>
                <a:lnTo>
                  <a:pt x="358" y="12"/>
                </a:lnTo>
                <a:lnTo>
                  <a:pt x="373" y="12"/>
                </a:lnTo>
                <a:lnTo>
                  <a:pt x="394" y="12"/>
                </a:lnTo>
                <a:lnTo>
                  <a:pt x="404" y="12"/>
                </a:lnTo>
                <a:lnTo>
                  <a:pt x="414" y="12"/>
                </a:lnTo>
                <a:lnTo>
                  <a:pt x="431" y="12"/>
                </a:lnTo>
                <a:lnTo>
                  <a:pt x="434" y="12"/>
                </a:lnTo>
                <a:lnTo>
                  <a:pt x="440" y="12"/>
                </a:lnTo>
                <a:lnTo>
                  <a:pt x="445" y="12"/>
                </a:lnTo>
                <a:lnTo>
                  <a:pt x="465" y="12"/>
                </a:lnTo>
                <a:lnTo>
                  <a:pt x="468" y="12"/>
                </a:lnTo>
                <a:lnTo>
                  <a:pt x="475" y="10"/>
                </a:lnTo>
                <a:lnTo>
                  <a:pt x="485" y="10"/>
                </a:lnTo>
                <a:lnTo>
                  <a:pt x="486" y="10"/>
                </a:lnTo>
                <a:lnTo>
                  <a:pt x="496" y="10"/>
                </a:lnTo>
                <a:lnTo>
                  <a:pt x="506" y="10"/>
                </a:lnTo>
                <a:lnTo>
                  <a:pt x="507" y="10"/>
                </a:lnTo>
                <a:lnTo>
                  <a:pt x="517" y="10"/>
                </a:lnTo>
                <a:lnTo>
                  <a:pt x="524" y="10"/>
                </a:lnTo>
                <a:lnTo>
                  <a:pt x="560" y="8"/>
                </a:lnTo>
                <a:lnTo>
                  <a:pt x="563" y="8"/>
                </a:lnTo>
                <a:lnTo>
                  <a:pt x="578" y="33"/>
                </a:lnTo>
                <a:lnTo>
                  <a:pt x="586" y="33"/>
                </a:lnTo>
                <a:lnTo>
                  <a:pt x="589" y="27"/>
                </a:lnTo>
                <a:lnTo>
                  <a:pt x="594" y="31"/>
                </a:lnTo>
                <a:lnTo>
                  <a:pt x="598" y="42"/>
                </a:lnTo>
                <a:lnTo>
                  <a:pt x="599" y="61"/>
                </a:lnTo>
                <a:lnTo>
                  <a:pt x="589" y="73"/>
                </a:lnTo>
                <a:lnTo>
                  <a:pt x="584" y="84"/>
                </a:lnTo>
                <a:lnTo>
                  <a:pt x="581" y="103"/>
                </a:lnTo>
                <a:lnTo>
                  <a:pt x="585" y="109"/>
                </a:lnTo>
                <a:lnTo>
                  <a:pt x="588" y="119"/>
                </a:lnTo>
                <a:lnTo>
                  <a:pt x="592" y="126"/>
                </a:lnTo>
                <a:lnTo>
                  <a:pt x="600" y="134"/>
                </a:lnTo>
                <a:lnTo>
                  <a:pt x="600" y="155"/>
                </a:lnTo>
                <a:lnTo>
                  <a:pt x="609" y="170"/>
                </a:lnTo>
                <a:lnTo>
                  <a:pt x="611" y="176"/>
                </a:lnTo>
                <a:lnTo>
                  <a:pt x="621" y="178"/>
                </a:lnTo>
                <a:lnTo>
                  <a:pt x="623" y="178"/>
                </a:lnTo>
                <a:lnTo>
                  <a:pt x="623" y="185"/>
                </a:lnTo>
                <a:lnTo>
                  <a:pt x="623" y="187"/>
                </a:lnTo>
                <a:lnTo>
                  <a:pt x="623" y="201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94320" y="1771560"/>
            <a:ext cx="895320" cy="952560"/>
          </a:xfrm>
          <a:custGeom>
            <a:avLst/>
            <a:gdLst/>
            <a:ahLst/>
            <a:rect l="l" t="t" r="r" b="b"/>
            <a:pathLst>
              <a:path w="564" h="1200">
                <a:moveTo>
                  <a:pt x="63" y="932"/>
                </a:moveTo>
                <a:lnTo>
                  <a:pt x="63" y="896"/>
                </a:lnTo>
                <a:lnTo>
                  <a:pt x="62" y="837"/>
                </a:lnTo>
                <a:lnTo>
                  <a:pt x="61" y="825"/>
                </a:lnTo>
                <a:lnTo>
                  <a:pt x="58" y="818"/>
                </a:lnTo>
                <a:lnTo>
                  <a:pt x="49" y="808"/>
                </a:lnTo>
                <a:lnTo>
                  <a:pt x="33" y="774"/>
                </a:lnTo>
                <a:lnTo>
                  <a:pt x="32" y="766"/>
                </a:lnTo>
                <a:lnTo>
                  <a:pt x="46" y="739"/>
                </a:lnTo>
                <a:lnTo>
                  <a:pt x="53" y="701"/>
                </a:lnTo>
                <a:lnTo>
                  <a:pt x="51" y="688"/>
                </a:lnTo>
                <a:lnTo>
                  <a:pt x="52" y="684"/>
                </a:lnTo>
                <a:lnTo>
                  <a:pt x="47" y="617"/>
                </a:lnTo>
                <a:lnTo>
                  <a:pt x="39" y="586"/>
                </a:lnTo>
                <a:lnTo>
                  <a:pt x="36" y="562"/>
                </a:lnTo>
                <a:lnTo>
                  <a:pt x="35" y="560"/>
                </a:lnTo>
                <a:lnTo>
                  <a:pt x="34" y="560"/>
                </a:lnTo>
                <a:lnTo>
                  <a:pt x="36" y="510"/>
                </a:lnTo>
                <a:lnTo>
                  <a:pt x="32" y="485"/>
                </a:lnTo>
                <a:lnTo>
                  <a:pt x="30" y="455"/>
                </a:lnTo>
                <a:lnTo>
                  <a:pt x="31" y="447"/>
                </a:lnTo>
                <a:lnTo>
                  <a:pt x="31" y="437"/>
                </a:lnTo>
                <a:lnTo>
                  <a:pt x="30" y="418"/>
                </a:lnTo>
                <a:lnTo>
                  <a:pt x="31" y="416"/>
                </a:lnTo>
                <a:lnTo>
                  <a:pt x="29" y="411"/>
                </a:lnTo>
                <a:lnTo>
                  <a:pt x="30" y="409"/>
                </a:lnTo>
                <a:lnTo>
                  <a:pt x="29" y="384"/>
                </a:lnTo>
                <a:lnTo>
                  <a:pt x="27" y="359"/>
                </a:lnTo>
                <a:lnTo>
                  <a:pt x="26" y="350"/>
                </a:lnTo>
                <a:lnTo>
                  <a:pt x="16" y="310"/>
                </a:lnTo>
                <a:lnTo>
                  <a:pt x="9" y="250"/>
                </a:lnTo>
                <a:lnTo>
                  <a:pt x="7" y="248"/>
                </a:lnTo>
                <a:lnTo>
                  <a:pt x="7" y="245"/>
                </a:lnTo>
                <a:lnTo>
                  <a:pt x="9" y="241"/>
                </a:lnTo>
                <a:lnTo>
                  <a:pt x="8" y="199"/>
                </a:lnTo>
                <a:lnTo>
                  <a:pt x="6" y="174"/>
                </a:lnTo>
                <a:lnTo>
                  <a:pt x="5" y="174"/>
                </a:lnTo>
                <a:lnTo>
                  <a:pt x="3" y="109"/>
                </a:lnTo>
                <a:lnTo>
                  <a:pt x="4" y="107"/>
                </a:lnTo>
                <a:lnTo>
                  <a:pt x="0" y="82"/>
                </a:lnTo>
                <a:lnTo>
                  <a:pt x="59" y="80"/>
                </a:lnTo>
                <a:lnTo>
                  <a:pt x="138" y="78"/>
                </a:lnTo>
                <a:lnTo>
                  <a:pt x="150" y="76"/>
                </a:lnTo>
                <a:lnTo>
                  <a:pt x="149" y="0"/>
                </a:lnTo>
                <a:lnTo>
                  <a:pt x="163" y="2"/>
                </a:lnTo>
                <a:lnTo>
                  <a:pt x="173" y="12"/>
                </a:lnTo>
                <a:lnTo>
                  <a:pt x="184" y="117"/>
                </a:lnTo>
                <a:lnTo>
                  <a:pt x="192" y="132"/>
                </a:lnTo>
                <a:lnTo>
                  <a:pt x="203" y="134"/>
                </a:lnTo>
                <a:lnTo>
                  <a:pt x="214" y="134"/>
                </a:lnTo>
                <a:lnTo>
                  <a:pt x="216" y="141"/>
                </a:lnTo>
                <a:lnTo>
                  <a:pt x="246" y="145"/>
                </a:lnTo>
                <a:lnTo>
                  <a:pt x="250" y="168"/>
                </a:lnTo>
                <a:lnTo>
                  <a:pt x="268" y="164"/>
                </a:lnTo>
                <a:lnTo>
                  <a:pt x="274" y="155"/>
                </a:lnTo>
                <a:lnTo>
                  <a:pt x="273" y="151"/>
                </a:lnTo>
                <a:lnTo>
                  <a:pt x="293" y="140"/>
                </a:lnTo>
                <a:lnTo>
                  <a:pt x="301" y="141"/>
                </a:lnTo>
                <a:lnTo>
                  <a:pt x="311" y="140"/>
                </a:lnTo>
                <a:lnTo>
                  <a:pt x="328" y="157"/>
                </a:lnTo>
                <a:lnTo>
                  <a:pt x="334" y="155"/>
                </a:lnTo>
                <a:lnTo>
                  <a:pt x="336" y="176"/>
                </a:lnTo>
                <a:lnTo>
                  <a:pt x="345" y="174"/>
                </a:lnTo>
                <a:lnTo>
                  <a:pt x="355" y="216"/>
                </a:lnTo>
                <a:lnTo>
                  <a:pt x="362" y="210"/>
                </a:lnTo>
                <a:lnTo>
                  <a:pt x="360" y="193"/>
                </a:lnTo>
                <a:lnTo>
                  <a:pt x="376" y="187"/>
                </a:lnTo>
                <a:lnTo>
                  <a:pt x="382" y="195"/>
                </a:lnTo>
                <a:lnTo>
                  <a:pt x="383" y="208"/>
                </a:lnTo>
                <a:lnTo>
                  <a:pt x="397" y="216"/>
                </a:lnTo>
                <a:lnTo>
                  <a:pt x="419" y="243"/>
                </a:lnTo>
                <a:lnTo>
                  <a:pt x="436" y="237"/>
                </a:lnTo>
                <a:lnTo>
                  <a:pt x="453" y="212"/>
                </a:lnTo>
                <a:lnTo>
                  <a:pt x="466" y="199"/>
                </a:lnTo>
                <a:lnTo>
                  <a:pt x="474" y="229"/>
                </a:lnTo>
                <a:lnTo>
                  <a:pt x="483" y="224"/>
                </a:lnTo>
                <a:lnTo>
                  <a:pt x="504" y="225"/>
                </a:lnTo>
                <a:lnTo>
                  <a:pt x="518" y="220"/>
                </a:lnTo>
                <a:lnTo>
                  <a:pt x="539" y="241"/>
                </a:lnTo>
                <a:lnTo>
                  <a:pt x="548" y="233"/>
                </a:lnTo>
                <a:lnTo>
                  <a:pt x="564" y="233"/>
                </a:lnTo>
                <a:lnTo>
                  <a:pt x="531" y="275"/>
                </a:lnTo>
                <a:lnTo>
                  <a:pt x="496" y="304"/>
                </a:lnTo>
                <a:lnTo>
                  <a:pt x="477" y="325"/>
                </a:lnTo>
                <a:lnTo>
                  <a:pt x="458" y="359"/>
                </a:lnTo>
                <a:lnTo>
                  <a:pt x="443" y="397"/>
                </a:lnTo>
                <a:lnTo>
                  <a:pt x="435" y="416"/>
                </a:lnTo>
                <a:lnTo>
                  <a:pt x="405" y="472"/>
                </a:lnTo>
                <a:lnTo>
                  <a:pt x="391" y="495"/>
                </a:lnTo>
                <a:lnTo>
                  <a:pt x="386" y="512"/>
                </a:lnTo>
                <a:lnTo>
                  <a:pt x="391" y="520"/>
                </a:lnTo>
                <a:lnTo>
                  <a:pt x="385" y="512"/>
                </a:lnTo>
                <a:lnTo>
                  <a:pt x="373" y="533"/>
                </a:lnTo>
                <a:lnTo>
                  <a:pt x="370" y="531"/>
                </a:lnTo>
                <a:lnTo>
                  <a:pt x="371" y="541"/>
                </a:lnTo>
                <a:lnTo>
                  <a:pt x="371" y="565"/>
                </a:lnTo>
                <a:lnTo>
                  <a:pt x="372" y="583"/>
                </a:lnTo>
                <a:lnTo>
                  <a:pt x="373" y="634"/>
                </a:lnTo>
                <a:lnTo>
                  <a:pt x="374" y="651"/>
                </a:lnTo>
                <a:lnTo>
                  <a:pt x="341" y="703"/>
                </a:lnTo>
                <a:lnTo>
                  <a:pt x="335" y="726"/>
                </a:lnTo>
                <a:lnTo>
                  <a:pt x="334" y="726"/>
                </a:lnTo>
                <a:lnTo>
                  <a:pt x="332" y="743"/>
                </a:lnTo>
                <a:lnTo>
                  <a:pt x="342" y="760"/>
                </a:lnTo>
                <a:lnTo>
                  <a:pt x="346" y="772"/>
                </a:lnTo>
                <a:lnTo>
                  <a:pt x="344" y="814"/>
                </a:lnTo>
                <a:lnTo>
                  <a:pt x="343" y="823"/>
                </a:lnTo>
                <a:lnTo>
                  <a:pt x="344" y="829"/>
                </a:lnTo>
                <a:lnTo>
                  <a:pt x="344" y="831"/>
                </a:lnTo>
                <a:lnTo>
                  <a:pt x="345" y="848"/>
                </a:lnTo>
                <a:lnTo>
                  <a:pt x="344" y="875"/>
                </a:lnTo>
                <a:lnTo>
                  <a:pt x="345" y="902"/>
                </a:lnTo>
                <a:lnTo>
                  <a:pt x="343" y="926"/>
                </a:lnTo>
                <a:lnTo>
                  <a:pt x="349" y="932"/>
                </a:lnTo>
                <a:lnTo>
                  <a:pt x="351" y="936"/>
                </a:lnTo>
                <a:lnTo>
                  <a:pt x="367" y="961"/>
                </a:lnTo>
                <a:lnTo>
                  <a:pt x="381" y="965"/>
                </a:lnTo>
                <a:lnTo>
                  <a:pt x="382" y="967"/>
                </a:lnTo>
                <a:lnTo>
                  <a:pt x="383" y="972"/>
                </a:lnTo>
                <a:lnTo>
                  <a:pt x="387" y="982"/>
                </a:lnTo>
                <a:lnTo>
                  <a:pt x="389" y="984"/>
                </a:lnTo>
                <a:lnTo>
                  <a:pt x="396" y="988"/>
                </a:lnTo>
                <a:lnTo>
                  <a:pt x="400" y="989"/>
                </a:lnTo>
                <a:lnTo>
                  <a:pt x="406" y="995"/>
                </a:lnTo>
                <a:lnTo>
                  <a:pt x="416" y="1020"/>
                </a:lnTo>
                <a:lnTo>
                  <a:pt x="418" y="1032"/>
                </a:lnTo>
                <a:lnTo>
                  <a:pt x="430" y="1045"/>
                </a:lnTo>
                <a:lnTo>
                  <a:pt x="437" y="1058"/>
                </a:lnTo>
                <a:lnTo>
                  <a:pt x="442" y="1064"/>
                </a:lnTo>
                <a:lnTo>
                  <a:pt x="447" y="1064"/>
                </a:lnTo>
                <a:lnTo>
                  <a:pt x="452" y="1068"/>
                </a:lnTo>
                <a:lnTo>
                  <a:pt x="453" y="1070"/>
                </a:lnTo>
                <a:lnTo>
                  <a:pt x="457" y="1077"/>
                </a:lnTo>
                <a:lnTo>
                  <a:pt x="464" y="1096"/>
                </a:lnTo>
                <a:lnTo>
                  <a:pt x="465" y="1096"/>
                </a:lnTo>
                <a:lnTo>
                  <a:pt x="468" y="1110"/>
                </a:lnTo>
                <a:lnTo>
                  <a:pt x="468" y="1116"/>
                </a:lnTo>
                <a:lnTo>
                  <a:pt x="468" y="1121"/>
                </a:lnTo>
                <a:lnTo>
                  <a:pt x="468" y="1144"/>
                </a:lnTo>
                <a:lnTo>
                  <a:pt x="471" y="1150"/>
                </a:lnTo>
                <a:lnTo>
                  <a:pt x="472" y="1167"/>
                </a:lnTo>
                <a:lnTo>
                  <a:pt x="470" y="1167"/>
                </a:lnTo>
                <a:lnTo>
                  <a:pt x="464" y="1169"/>
                </a:lnTo>
                <a:lnTo>
                  <a:pt x="442" y="1171"/>
                </a:lnTo>
                <a:lnTo>
                  <a:pt x="441" y="1171"/>
                </a:lnTo>
                <a:lnTo>
                  <a:pt x="433" y="1173"/>
                </a:lnTo>
                <a:lnTo>
                  <a:pt x="406" y="1175"/>
                </a:lnTo>
                <a:lnTo>
                  <a:pt x="377" y="1179"/>
                </a:lnTo>
                <a:lnTo>
                  <a:pt x="369" y="1179"/>
                </a:lnTo>
                <a:lnTo>
                  <a:pt x="335" y="1182"/>
                </a:lnTo>
                <a:lnTo>
                  <a:pt x="333" y="1182"/>
                </a:lnTo>
                <a:lnTo>
                  <a:pt x="331" y="1184"/>
                </a:lnTo>
                <a:lnTo>
                  <a:pt x="305" y="1186"/>
                </a:lnTo>
                <a:lnTo>
                  <a:pt x="304" y="1186"/>
                </a:lnTo>
                <a:lnTo>
                  <a:pt x="296" y="1186"/>
                </a:lnTo>
                <a:lnTo>
                  <a:pt x="283" y="1188"/>
                </a:lnTo>
                <a:lnTo>
                  <a:pt x="268" y="1188"/>
                </a:lnTo>
                <a:lnTo>
                  <a:pt x="266" y="1188"/>
                </a:lnTo>
                <a:lnTo>
                  <a:pt x="258" y="1190"/>
                </a:lnTo>
                <a:lnTo>
                  <a:pt x="256" y="1190"/>
                </a:lnTo>
                <a:lnTo>
                  <a:pt x="237" y="1190"/>
                </a:lnTo>
                <a:lnTo>
                  <a:pt x="227" y="1192"/>
                </a:lnTo>
                <a:lnTo>
                  <a:pt x="222" y="1192"/>
                </a:lnTo>
                <a:lnTo>
                  <a:pt x="205" y="1192"/>
                </a:lnTo>
                <a:lnTo>
                  <a:pt x="198" y="1194"/>
                </a:lnTo>
                <a:lnTo>
                  <a:pt x="190" y="1194"/>
                </a:lnTo>
                <a:lnTo>
                  <a:pt x="188" y="1194"/>
                </a:lnTo>
                <a:lnTo>
                  <a:pt x="185" y="1194"/>
                </a:lnTo>
                <a:lnTo>
                  <a:pt x="169" y="1196"/>
                </a:lnTo>
                <a:lnTo>
                  <a:pt x="159" y="1196"/>
                </a:lnTo>
                <a:lnTo>
                  <a:pt x="149" y="1196"/>
                </a:lnTo>
                <a:lnTo>
                  <a:pt x="143" y="1196"/>
                </a:lnTo>
                <a:lnTo>
                  <a:pt x="123" y="1198"/>
                </a:lnTo>
                <a:lnTo>
                  <a:pt x="120" y="1198"/>
                </a:lnTo>
                <a:lnTo>
                  <a:pt x="112" y="1198"/>
                </a:lnTo>
                <a:lnTo>
                  <a:pt x="106" y="1198"/>
                </a:lnTo>
                <a:lnTo>
                  <a:pt x="101" y="1198"/>
                </a:lnTo>
                <a:lnTo>
                  <a:pt x="97" y="1198"/>
                </a:lnTo>
                <a:lnTo>
                  <a:pt x="81" y="1200"/>
                </a:lnTo>
                <a:lnTo>
                  <a:pt x="71" y="1200"/>
                </a:lnTo>
                <a:lnTo>
                  <a:pt x="65" y="1200"/>
                </a:lnTo>
                <a:lnTo>
                  <a:pt x="65" y="1175"/>
                </a:lnTo>
                <a:lnTo>
                  <a:pt x="65" y="1148"/>
                </a:lnTo>
                <a:lnTo>
                  <a:pt x="64" y="1127"/>
                </a:lnTo>
                <a:lnTo>
                  <a:pt x="64" y="1096"/>
                </a:lnTo>
                <a:lnTo>
                  <a:pt x="64" y="1072"/>
                </a:lnTo>
                <a:lnTo>
                  <a:pt x="64" y="1056"/>
                </a:lnTo>
                <a:lnTo>
                  <a:pt x="63" y="986"/>
                </a:lnTo>
                <a:lnTo>
                  <a:pt x="63" y="968"/>
                </a:lnTo>
                <a:lnTo>
                  <a:pt x="63" y="932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94120" y="3173400"/>
            <a:ext cx="911520" cy="744480"/>
          </a:xfrm>
          <a:custGeom>
            <a:avLst/>
            <a:gdLst/>
            <a:ahLst/>
            <a:rect l="l" t="t" r="r" b="b"/>
            <a:pathLst>
              <a:path w="574" h="938">
                <a:moveTo>
                  <a:pt x="124" y="27"/>
                </a:moveTo>
                <a:lnTo>
                  <a:pt x="141" y="25"/>
                </a:lnTo>
                <a:lnTo>
                  <a:pt x="142" y="25"/>
                </a:lnTo>
                <a:lnTo>
                  <a:pt x="162" y="23"/>
                </a:lnTo>
                <a:lnTo>
                  <a:pt x="164" y="23"/>
                </a:lnTo>
                <a:lnTo>
                  <a:pt x="179" y="21"/>
                </a:lnTo>
                <a:lnTo>
                  <a:pt x="184" y="21"/>
                </a:lnTo>
                <a:lnTo>
                  <a:pt x="188" y="21"/>
                </a:lnTo>
                <a:lnTo>
                  <a:pt x="194" y="19"/>
                </a:lnTo>
                <a:lnTo>
                  <a:pt x="204" y="19"/>
                </a:lnTo>
                <a:lnTo>
                  <a:pt x="216" y="17"/>
                </a:lnTo>
                <a:lnTo>
                  <a:pt x="224" y="15"/>
                </a:lnTo>
                <a:lnTo>
                  <a:pt x="244" y="13"/>
                </a:lnTo>
                <a:lnTo>
                  <a:pt x="247" y="13"/>
                </a:lnTo>
                <a:lnTo>
                  <a:pt x="253" y="11"/>
                </a:lnTo>
                <a:lnTo>
                  <a:pt x="264" y="9"/>
                </a:lnTo>
                <a:lnTo>
                  <a:pt x="276" y="8"/>
                </a:lnTo>
                <a:lnTo>
                  <a:pt x="284" y="8"/>
                </a:lnTo>
                <a:lnTo>
                  <a:pt x="285" y="8"/>
                </a:lnTo>
                <a:lnTo>
                  <a:pt x="290" y="6"/>
                </a:lnTo>
                <a:lnTo>
                  <a:pt x="300" y="4"/>
                </a:lnTo>
                <a:lnTo>
                  <a:pt x="303" y="4"/>
                </a:lnTo>
                <a:lnTo>
                  <a:pt x="309" y="2"/>
                </a:lnTo>
                <a:lnTo>
                  <a:pt x="326" y="0"/>
                </a:lnTo>
                <a:lnTo>
                  <a:pt x="327" y="2"/>
                </a:lnTo>
                <a:lnTo>
                  <a:pt x="335" y="13"/>
                </a:lnTo>
                <a:lnTo>
                  <a:pt x="346" y="40"/>
                </a:lnTo>
                <a:lnTo>
                  <a:pt x="354" y="44"/>
                </a:lnTo>
                <a:lnTo>
                  <a:pt x="353" y="46"/>
                </a:lnTo>
                <a:lnTo>
                  <a:pt x="351" y="48"/>
                </a:lnTo>
                <a:lnTo>
                  <a:pt x="347" y="72"/>
                </a:lnTo>
                <a:lnTo>
                  <a:pt x="347" y="82"/>
                </a:lnTo>
                <a:lnTo>
                  <a:pt x="347" y="97"/>
                </a:lnTo>
                <a:lnTo>
                  <a:pt x="351" y="124"/>
                </a:lnTo>
                <a:lnTo>
                  <a:pt x="355" y="134"/>
                </a:lnTo>
                <a:lnTo>
                  <a:pt x="355" y="149"/>
                </a:lnTo>
                <a:lnTo>
                  <a:pt x="361" y="162"/>
                </a:lnTo>
                <a:lnTo>
                  <a:pt x="362" y="172"/>
                </a:lnTo>
                <a:lnTo>
                  <a:pt x="362" y="174"/>
                </a:lnTo>
                <a:lnTo>
                  <a:pt x="367" y="185"/>
                </a:lnTo>
                <a:lnTo>
                  <a:pt x="368" y="187"/>
                </a:lnTo>
                <a:lnTo>
                  <a:pt x="370" y="191"/>
                </a:lnTo>
                <a:lnTo>
                  <a:pt x="372" y="193"/>
                </a:lnTo>
                <a:lnTo>
                  <a:pt x="379" y="202"/>
                </a:lnTo>
                <a:lnTo>
                  <a:pt x="381" y="214"/>
                </a:lnTo>
                <a:lnTo>
                  <a:pt x="385" y="214"/>
                </a:lnTo>
                <a:lnTo>
                  <a:pt x="395" y="237"/>
                </a:lnTo>
                <a:lnTo>
                  <a:pt x="400" y="241"/>
                </a:lnTo>
                <a:lnTo>
                  <a:pt x="408" y="252"/>
                </a:lnTo>
                <a:lnTo>
                  <a:pt x="416" y="267"/>
                </a:lnTo>
                <a:lnTo>
                  <a:pt x="419" y="275"/>
                </a:lnTo>
                <a:lnTo>
                  <a:pt x="422" y="296"/>
                </a:lnTo>
                <a:lnTo>
                  <a:pt x="424" y="321"/>
                </a:lnTo>
                <a:lnTo>
                  <a:pt x="426" y="334"/>
                </a:lnTo>
                <a:lnTo>
                  <a:pt x="433" y="348"/>
                </a:lnTo>
                <a:lnTo>
                  <a:pt x="436" y="346"/>
                </a:lnTo>
                <a:lnTo>
                  <a:pt x="443" y="325"/>
                </a:lnTo>
                <a:lnTo>
                  <a:pt x="450" y="327"/>
                </a:lnTo>
                <a:lnTo>
                  <a:pt x="453" y="330"/>
                </a:lnTo>
                <a:lnTo>
                  <a:pt x="458" y="332"/>
                </a:lnTo>
                <a:lnTo>
                  <a:pt x="460" y="332"/>
                </a:lnTo>
                <a:lnTo>
                  <a:pt x="471" y="344"/>
                </a:lnTo>
                <a:lnTo>
                  <a:pt x="472" y="355"/>
                </a:lnTo>
                <a:lnTo>
                  <a:pt x="471" y="357"/>
                </a:lnTo>
                <a:lnTo>
                  <a:pt x="468" y="363"/>
                </a:lnTo>
                <a:lnTo>
                  <a:pt x="467" y="367"/>
                </a:lnTo>
                <a:lnTo>
                  <a:pt x="468" y="386"/>
                </a:lnTo>
                <a:lnTo>
                  <a:pt x="468" y="393"/>
                </a:lnTo>
                <a:lnTo>
                  <a:pt x="463" y="411"/>
                </a:lnTo>
                <a:lnTo>
                  <a:pt x="463" y="412"/>
                </a:lnTo>
                <a:lnTo>
                  <a:pt x="462" y="414"/>
                </a:lnTo>
                <a:lnTo>
                  <a:pt x="462" y="416"/>
                </a:lnTo>
                <a:lnTo>
                  <a:pt x="462" y="420"/>
                </a:lnTo>
                <a:lnTo>
                  <a:pt x="457" y="445"/>
                </a:lnTo>
                <a:lnTo>
                  <a:pt x="456" y="472"/>
                </a:lnTo>
                <a:lnTo>
                  <a:pt x="457" y="477"/>
                </a:lnTo>
                <a:lnTo>
                  <a:pt x="466" y="497"/>
                </a:lnTo>
                <a:lnTo>
                  <a:pt x="467" y="497"/>
                </a:lnTo>
                <a:lnTo>
                  <a:pt x="467" y="498"/>
                </a:lnTo>
                <a:lnTo>
                  <a:pt x="471" y="504"/>
                </a:lnTo>
                <a:lnTo>
                  <a:pt x="478" y="508"/>
                </a:lnTo>
                <a:lnTo>
                  <a:pt x="489" y="527"/>
                </a:lnTo>
                <a:lnTo>
                  <a:pt x="495" y="544"/>
                </a:lnTo>
                <a:lnTo>
                  <a:pt x="500" y="542"/>
                </a:lnTo>
                <a:lnTo>
                  <a:pt x="506" y="542"/>
                </a:lnTo>
                <a:lnTo>
                  <a:pt x="517" y="556"/>
                </a:lnTo>
                <a:lnTo>
                  <a:pt x="519" y="567"/>
                </a:lnTo>
                <a:lnTo>
                  <a:pt x="534" y="592"/>
                </a:lnTo>
                <a:lnTo>
                  <a:pt x="532" y="602"/>
                </a:lnTo>
                <a:lnTo>
                  <a:pt x="532" y="603"/>
                </a:lnTo>
                <a:lnTo>
                  <a:pt x="542" y="642"/>
                </a:lnTo>
                <a:lnTo>
                  <a:pt x="540" y="649"/>
                </a:lnTo>
                <a:lnTo>
                  <a:pt x="537" y="649"/>
                </a:lnTo>
                <a:lnTo>
                  <a:pt x="535" y="655"/>
                </a:lnTo>
                <a:lnTo>
                  <a:pt x="537" y="668"/>
                </a:lnTo>
                <a:lnTo>
                  <a:pt x="538" y="667"/>
                </a:lnTo>
                <a:lnTo>
                  <a:pt x="540" y="667"/>
                </a:lnTo>
                <a:lnTo>
                  <a:pt x="550" y="710"/>
                </a:lnTo>
                <a:lnTo>
                  <a:pt x="556" y="714"/>
                </a:lnTo>
                <a:lnTo>
                  <a:pt x="560" y="716"/>
                </a:lnTo>
                <a:lnTo>
                  <a:pt x="560" y="701"/>
                </a:lnTo>
                <a:lnTo>
                  <a:pt x="569" y="714"/>
                </a:lnTo>
                <a:lnTo>
                  <a:pt x="572" y="718"/>
                </a:lnTo>
                <a:lnTo>
                  <a:pt x="574" y="724"/>
                </a:lnTo>
                <a:lnTo>
                  <a:pt x="574" y="726"/>
                </a:lnTo>
                <a:lnTo>
                  <a:pt x="573" y="737"/>
                </a:lnTo>
                <a:lnTo>
                  <a:pt x="573" y="741"/>
                </a:lnTo>
                <a:lnTo>
                  <a:pt x="574" y="758"/>
                </a:lnTo>
                <a:lnTo>
                  <a:pt x="574" y="766"/>
                </a:lnTo>
                <a:lnTo>
                  <a:pt x="568" y="768"/>
                </a:lnTo>
                <a:lnTo>
                  <a:pt x="571" y="787"/>
                </a:lnTo>
                <a:lnTo>
                  <a:pt x="565" y="806"/>
                </a:lnTo>
                <a:lnTo>
                  <a:pt x="558" y="793"/>
                </a:lnTo>
                <a:lnTo>
                  <a:pt x="555" y="794"/>
                </a:lnTo>
                <a:lnTo>
                  <a:pt x="554" y="796"/>
                </a:lnTo>
                <a:lnTo>
                  <a:pt x="552" y="821"/>
                </a:lnTo>
                <a:lnTo>
                  <a:pt x="546" y="823"/>
                </a:lnTo>
                <a:lnTo>
                  <a:pt x="543" y="808"/>
                </a:lnTo>
                <a:lnTo>
                  <a:pt x="540" y="823"/>
                </a:lnTo>
                <a:lnTo>
                  <a:pt x="545" y="848"/>
                </a:lnTo>
                <a:lnTo>
                  <a:pt x="541" y="858"/>
                </a:lnTo>
                <a:lnTo>
                  <a:pt x="543" y="875"/>
                </a:lnTo>
                <a:lnTo>
                  <a:pt x="529" y="877"/>
                </a:lnTo>
                <a:lnTo>
                  <a:pt x="536" y="890"/>
                </a:lnTo>
                <a:lnTo>
                  <a:pt x="539" y="901"/>
                </a:lnTo>
                <a:lnTo>
                  <a:pt x="537" y="905"/>
                </a:lnTo>
                <a:lnTo>
                  <a:pt x="528" y="928"/>
                </a:lnTo>
                <a:lnTo>
                  <a:pt x="527" y="930"/>
                </a:lnTo>
                <a:lnTo>
                  <a:pt x="513" y="932"/>
                </a:lnTo>
                <a:lnTo>
                  <a:pt x="509" y="932"/>
                </a:lnTo>
                <a:lnTo>
                  <a:pt x="491" y="936"/>
                </a:lnTo>
                <a:lnTo>
                  <a:pt x="484" y="936"/>
                </a:lnTo>
                <a:lnTo>
                  <a:pt x="481" y="938"/>
                </a:lnTo>
                <a:lnTo>
                  <a:pt x="473" y="938"/>
                </a:lnTo>
                <a:lnTo>
                  <a:pt x="480" y="913"/>
                </a:lnTo>
                <a:lnTo>
                  <a:pt x="482" y="911"/>
                </a:lnTo>
                <a:lnTo>
                  <a:pt x="487" y="894"/>
                </a:lnTo>
                <a:lnTo>
                  <a:pt x="493" y="884"/>
                </a:lnTo>
                <a:lnTo>
                  <a:pt x="488" y="833"/>
                </a:lnTo>
                <a:lnTo>
                  <a:pt x="483" y="833"/>
                </a:lnTo>
                <a:lnTo>
                  <a:pt x="480" y="833"/>
                </a:lnTo>
                <a:lnTo>
                  <a:pt x="476" y="833"/>
                </a:lnTo>
                <a:lnTo>
                  <a:pt x="453" y="837"/>
                </a:lnTo>
                <a:lnTo>
                  <a:pt x="441" y="838"/>
                </a:lnTo>
                <a:lnTo>
                  <a:pt x="440" y="838"/>
                </a:lnTo>
                <a:lnTo>
                  <a:pt x="435" y="838"/>
                </a:lnTo>
                <a:lnTo>
                  <a:pt x="427" y="840"/>
                </a:lnTo>
                <a:lnTo>
                  <a:pt x="417" y="842"/>
                </a:lnTo>
                <a:lnTo>
                  <a:pt x="406" y="844"/>
                </a:lnTo>
                <a:lnTo>
                  <a:pt x="400" y="844"/>
                </a:lnTo>
                <a:lnTo>
                  <a:pt x="397" y="844"/>
                </a:lnTo>
                <a:lnTo>
                  <a:pt x="382" y="846"/>
                </a:lnTo>
                <a:lnTo>
                  <a:pt x="381" y="846"/>
                </a:lnTo>
                <a:lnTo>
                  <a:pt x="378" y="846"/>
                </a:lnTo>
                <a:lnTo>
                  <a:pt x="374" y="846"/>
                </a:lnTo>
                <a:lnTo>
                  <a:pt x="370" y="848"/>
                </a:lnTo>
                <a:lnTo>
                  <a:pt x="360" y="848"/>
                </a:lnTo>
                <a:lnTo>
                  <a:pt x="353" y="850"/>
                </a:lnTo>
                <a:lnTo>
                  <a:pt x="331" y="852"/>
                </a:lnTo>
                <a:lnTo>
                  <a:pt x="321" y="854"/>
                </a:lnTo>
                <a:lnTo>
                  <a:pt x="320" y="854"/>
                </a:lnTo>
                <a:lnTo>
                  <a:pt x="318" y="854"/>
                </a:lnTo>
                <a:lnTo>
                  <a:pt x="299" y="856"/>
                </a:lnTo>
                <a:lnTo>
                  <a:pt x="293" y="856"/>
                </a:lnTo>
                <a:lnTo>
                  <a:pt x="286" y="858"/>
                </a:lnTo>
                <a:lnTo>
                  <a:pt x="270" y="859"/>
                </a:lnTo>
                <a:lnTo>
                  <a:pt x="267" y="859"/>
                </a:lnTo>
                <a:lnTo>
                  <a:pt x="265" y="859"/>
                </a:lnTo>
                <a:lnTo>
                  <a:pt x="258" y="859"/>
                </a:lnTo>
                <a:lnTo>
                  <a:pt x="242" y="861"/>
                </a:lnTo>
                <a:lnTo>
                  <a:pt x="233" y="861"/>
                </a:lnTo>
                <a:lnTo>
                  <a:pt x="221" y="863"/>
                </a:lnTo>
                <a:lnTo>
                  <a:pt x="219" y="863"/>
                </a:lnTo>
                <a:lnTo>
                  <a:pt x="214" y="863"/>
                </a:lnTo>
                <a:lnTo>
                  <a:pt x="208" y="863"/>
                </a:lnTo>
                <a:lnTo>
                  <a:pt x="196" y="865"/>
                </a:lnTo>
                <a:lnTo>
                  <a:pt x="186" y="865"/>
                </a:lnTo>
                <a:lnTo>
                  <a:pt x="178" y="867"/>
                </a:lnTo>
                <a:lnTo>
                  <a:pt x="172" y="867"/>
                </a:lnTo>
                <a:lnTo>
                  <a:pt x="167" y="867"/>
                </a:lnTo>
                <a:lnTo>
                  <a:pt x="161" y="867"/>
                </a:lnTo>
                <a:lnTo>
                  <a:pt x="153" y="869"/>
                </a:lnTo>
                <a:lnTo>
                  <a:pt x="128" y="871"/>
                </a:lnTo>
                <a:lnTo>
                  <a:pt x="117" y="871"/>
                </a:lnTo>
                <a:lnTo>
                  <a:pt x="107" y="871"/>
                </a:lnTo>
                <a:lnTo>
                  <a:pt x="107" y="852"/>
                </a:lnTo>
                <a:lnTo>
                  <a:pt x="107" y="840"/>
                </a:lnTo>
                <a:lnTo>
                  <a:pt x="107" y="837"/>
                </a:lnTo>
                <a:lnTo>
                  <a:pt x="107" y="835"/>
                </a:lnTo>
                <a:lnTo>
                  <a:pt x="107" y="821"/>
                </a:lnTo>
                <a:lnTo>
                  <a:pt x="106" y="815"/>
                </a:lnTo>
                <a:lnTo>
                  <a:pt x="106" y="796"/>
                </a:lnTo>
                <a:lnTo>
                  <a:pt x="106" y="777"/>
                </a:lnTo>
                <a:lnTo>
                  <a:pt x="106" y="768"/>
                </a:lnTo>
                <a:lnTo>
                  <a:pt x="106" y="762"/>
                </a:lnTo>
                <a:lnTo>
                  <a:pt x="105" y="756"/>
                </a:lnTo>
                <a:lnTo>
                  <a:pt x="105" y="751"/>
                </a:lnTo>
                <a:lnTo>
                  <a:pt x="105" y="733"/>
                </a:lnTo>
                <a:lnTo>
                  <a:pt x="104" y="697"/>
                </a:lnTo>
                <a:lnTo>
                  <a:pt x="104" y="693"/>
                </a:lnTo>
                <a:lnTo>
                  <a:pt x="104" y="689"/>
                </a:lnTo>
                <a:lnTo>
                  <a:pt x="104" y="665"/>
                </a:lnTo>
                <a:lnTo>
                  <a:pt x="103" y="632"/>
                </a:lnTo>
                <a:lnTo>
                  <a:pt x="103" y="628"/>
                </a:lnTo>
                <a:lnTo>
                  <a:pt x="103" y="605"/>
                </a:lnTo>
                <a:lnTo>
                  <a:pt x="103" y="575"/>
                </a:lnTo>
                <a:lnTo>
                  <a:pt x="102" y="554"/>
                </a:lnTo>
                <a:lnTo>
                  <a:pt x="102" y="548"/>
                </a:lnTo>
                <a:lnTo>
                  <a:pt x="102" y="529"/>
                </a:lnTo>
                <a:lnTo>
                  <a:pt x="102" y="508"/>
                </a:lnTo>
                <a:lnTo>
                  <a:pt x="101" y="479"/>
                </a:lnTo>
                <a:lnTo>
                  <a:pt x="101" y="462"/>
                </a:lnTo>
                <a:lnTo>
                  <a:pt x="101" y="456"/>
                </a:lnTo>
                <a:lnTo>
                  <a:pt x="100" y="432"/>
                </a:lnTo>
                <a:lnTo>
                  <a:pt x="100" y="409"/>
                </a:lnTo>
                <a:lnTo>
                  <a:pt x="100" y="405"/>
                </a:lnTo>
                <a:lnTo>
                  <a:pt x="100" y="386"/>
                </a:lnTo>
                <a:lnTo>
                  <a:pt x="100" y="372"/>
                </a:lnTo>
                <a:lnTo>
                  <a:pt x="99" y="359"/>
                </a:lnTo>
                <a:lnTo>
                  <a:pt x="99" y="344"/>
                </a:lnTo>
                <a:lnTo>
                  <a:pt x="99" y="330"/>
                </a:lnTo>
                <a:lnTo>
                  <a:pt x="99" y="328"/>
                </a:lnTo>
                <a:lnTo>
                  <a:pt x="99" y="321"/>
                </a:lnTo>
                <a:lnTo>
                  <a:pt x="97" y="321"/>
                </a:lnTo>
                <a:lnTo>
                  <a:pt x="87" y="319"/>
                </a:lnTo>
                <a:lnTo>
                  <a:pt x="85" y="313"/>
                </a:lnTo>
                <a:lnTo>
                  <a:pt x="76" y="298"/>
                </a:lnTo>
                <a:lnTo>
                  <a:pt x="76" y="277"/>
                </a:lnTo>
                <a:lnTo>
                  <a:pt x="68" y="269"/>
                </a:lnTo>
                <a:lnTo>
                  <a:pt x="64" y="262"/>
                </a:lnTo>
                <a:lnTo>
                  <a:pt x="61" y="252"/>
                </a:lnTo>
                <a:lnTo>
                  <a:pt x="57" y="246"/>
                </a:lnTo>
                <a:lnTo>
                  <a:pt x="60" y="227"/>
                </a:lnTo>
                <a:lnTo>
                  <a:pt x="65" y="216"/>
                </a:lnTo>
                <a:lnTo>
                  <a:pt x="75" y="204"/>
                </a:lnTo>
                <a:lnTo>
                  <a:pt x="74" y="185"/>
                </a:lnTo>
                <a:lnTo>
                  <a:pt x="70" y="174"/>
                </a:lnTo>
                <a:lnTo>
                  <a:pt x="65" y="170"/>
                </a:lnTo>
                <a:lnTo>
                  <a:pt x="62" y="176"/>
                </a:lnTo>
                <a:lnTo>
                  <a:pt x="54" y="176"/>
                </a:lnTo>
                <a:lnTo>
                  <a:pt x="39" y="151"/>
                </a:lnTo>
                <a:lnTo>
                  <a:pt x="33" y="145"/>
                </a:lnTo>
                <a:lnTo>
                  <a:pt x="22" y="99"/>
                </a:lnTo>
                <a:lnTo>
                  <a:pt x="18" y="97"/>
                </a:lnTo>
                <a:lnTo>
                  <a:pt x="12" y="88"/>
                </a:lnTo>
                <a:lnTo>
                  <a:pt x="7" y="36"/>
                </a:lnTo>
                <a:lnTo>
                  <a:pt x="5" y="44"/>
                </a:lnTo>
                <a:lnTo>
                  <a:pt x="2" y="44"/>
                </a:lnTo>
                <a:lnTo>
                  <a:pt x="0" y="32"/>
                </a:lnTo>
                <a:lnTo>
                  <a:pt x="0" y="30"/>
                </a:lnTo>
                <a:lnTo>
                  <a:pt x="1" y="30"/>
                </a:lnTo>
                <a:lnTo>
                  <a:pt x="22" y="30"/>
                </a:lnTo>
                <a:lnTo>
                  <a:pt x="32" y="30"/>
                </a:lnTo>
                <a:lnTo>
                  <a:pt x="42" y="30"/>
                </a:lnTo>
                <a:lnTo>
                  <a:pt x="46" y="30"/>
                </a:lnTo>
                <a:lnTo>
                  <a:pt x="62" y="30"/>
                </a:lnTo>
                <a:lnTo>
                  <a:pt x="69" y="30"/>
                </a:lnTo>
                <a:lnTo>
                  <a:pt x="82" y="30"/>
                </a:lnTo>
                <a:lnTo>
                  <a:pt x="92" y="29"/>
                </a:lnTo>
                <a:lnTo>
                  <a:pt x="102" y="29"/>
                </a:lnTo>
                <a:lnTo>
                  <a:pt x="105" y="29"/>
                </a:lnTo>
                <a:lnTo>
                  <a:pt x="122" y="27"/>
                </a:lnTo>
                <a:lnTo>
                  <a:pt x="124" y="27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2120" y="2784600"/>
            <a:ext cx="1123920" cy="512640"/>
          </a:xfrm>
          <a:custGeom>
            <a:avLst/>
            <a:gdLst/>
            <a:ahLst/>
            <a:rect l="l" t="t" r="r" b="b"/>
            <a:pathLst>
              <a:path w="708" h="646">
                <a:moveTo>
                  <a:pt x="428" y="646"/>
                </a:moveTo>
                <a:lnTo>
                  <a:pt x="426" y="646"/>
                </a:lnTo>
                <a:lnTo>
                  <a:pt x="416" y="646"/>
                </a:lnTo>
                <a:lnTo>
                  <a:pt x="400" y="646"/>
                </a:lnTo>
                <a:lnTo>
                  <a:pt x="396" y="646"/>
                </a:lnTo>
                <a:lnTo>
                  <a:pt x="391" y="646"/>
                </a:lnTo>
                <a:lnTo>
                  <a:pt x="381" y="646"/>
                </a:lnTo>
                <a:lnTo>
                  <a:pt x="375" y="646"/>
                </a:lnTo>
                <a:lnTo>
                  <a:pt x="355" y="644"/>
                </a:lnTo>
                <a:lnTo>
                  <a:pt x="339" y="644"/>
                </a:lnTo>
                <a:lnTo>
                  <a:pt x="314" y="644"/>
                </a:lnTo>
                <a:lnTo>
                  <a:pt x="310" y="644"/>
                </a:lnTo>
                <a:lnTo>
                  <a:pt x="309" y="642"/>
                </a:lnTo>
                <a:lnTo>
                  <a:pt x="294" y="642"/>
                </a:lnTo>
                <a:lnTo>
                  <a:pt x="279" y="642"/>
                </a:lnTo>
                <a:lnTo>
                  <a:pt x="265" y="640"/>
                </a:lnTo>
                <a:lnTo>
                  <a:pt x="264" y="640"/>
                </a:lnTo>
                <a:lnTo>
                  <a:pt x="263" y="640"/>
                </a:lnTo>
                <a:lnTo>
                  <a:pt x="252" y="640"/>
                </a:lnTo>
                <a:lnTo>
                  <a:pt x="232" y="638"/>
                </a:lnTo>
                <a:lnTo>
                  <a:pt x="216" y="638"/>
                </a:lnTo>
                <a:lnTo>
                  <a:pt x="212" y="638"/>
                </a:lnTo>
                <a:lnTo>
                  <a:pt x="209" y="638"/>
                </a:lnTo>
                <a:lnTo>
                  <a:pt x="157" y="634"/>
                </a:lnTo>
                <a:lnTo>
                  <a:pt x="158" y="562"/>
                </a:lnTo>
                <a:lnTo>
                  <a:pt x="159" y="542"/>
                </a:lnTo>
                <a:lnTo>
                  <a:pt x="159" y="531"/>
                </a:lnTo>
                <a:lnTo>
                  <a:pt x="160" y="504"/>
                </a:lnTo>
                <a:lnTo>
                  <a:pt x="160" y="491"/>
                </a:lnTo>
                <a:lnTo>
                  <a:pt x="160" y="479"/>
                </a:lnTo>
                <a:lnTo>
                  <a:pt x="161" y="428"/>
                </a:lnTo>
                <a:lnTo>
                  <a:pt x="116" y="424"/>
                </a:lnTo>
                <a:lnTo>
                  <a:pt x="115" y="424"/>
                </a:lnTo>
                <a:lnTo>
                  <a:pt x="113" y="424"/>
                </a:lnTo>
                <a:lnTo>
                  <a:pt x="54" y="418"/>
                </a:lnTo>
                <a:lnTo>
                  <a:pt x="38" y="416"/>
                </a:lnTo>
                <a:lnTo>
                  <a:pt x="39" y="416"/>
                </a:lnTo>
                <a:lnTo>
                  <a:pt x="34" y="416"/>
                </a:lnTo>
                <a:lnTo>
                  <a:pt x="0" y="413"/>
                </a:lnTo>
                <a:lnTo>
                  <a:pt x="1" y="386"/>
                </a:lnTo>
                <a:lnTo>
                  <a:pt x="2" y="350"/>
                </a:lnTo>
                <a:lnTo>
                  <a:pt x="3" y="332"/>
                </a:lnTo>
                <a:lnTo>
                  <a:pt x="3" y="309"/>
                </a:lnTo>
                <a:lnTo>
                  <a:pt x="4" y="296"/>
                </a:lnTo>
                <a:lnTo>
                  <a:pt x="4" y="285"/>
                </a:lnTo>
                <a:lnTo>
                  <a:pt x="4" y="269"/>
                </a:lnTo>
                <a:lnTo>
                  <a:pt x="5" y="258"/>
                </a:lnTo>
                <a:lnTo>
                  <a:pt x="6" y="233"/>
                </a:lnTo>
                <a:lnTo>
                  <a:pt x="6" y="206"/>
                </a:lnTo>
                <a:lnTo>
                  <a:pt x="7" y="181"/>
                </a:lnTo>
                <a:lnTo>
                  <a:pt x="8" y="155"/>
                </a:lnTo>
                <a:lnTo>
                  <a:pt x="10" y="84"/>
                </a:lnTo>
                <a:lnTo>
                  <a:pt x="12" y="38"/>
                </a:lnTo>
                <a:lnTo>
                  <a:pt x="13" y="11"/>
                </a:lnTo>
                <a:lnTo>
                  <a:pt x="13" y="0"/>
                </a:lnTo>
                <a:lnTo>
                  <a:pt x="16" y="2"/>
                </a:lnTo>
                <a:lnTo>
                  <a:pt x="17" y="2"/>
                </a:lnTo>
                <a:lnTo>
                  <a:pt x="55" y="6"/>
                </a:lnTo>
                <a:lnTo>
                  <a:pt x="76" y="8"/>
                </a:lnTo>
                <a:lnTo>
                  <a:pt x="79" y="8"/>
                </a:lnTo>
                <a:lnTo>
                  <a:pt x="96" y="10"/>
                </a:lnTo>
                <a:lnTo>
                  <a:pt x="106" y="10"/>
                </a:lnTo>
                <a:lnTo>
                  <a:pt x="107" y="11"/>
                </a:lnTo>
                <a:lnTo>
                  <a:pt x="112" y="11"/>
                </a:lnTo>
                <a:lnTo>
                  <a:pt x="137" y="13"/>
                </a:lnTo>
                <a:lnTo>
                  <a:pt x="154" y="15"/>
                </a:lnTo>
                <a:lnTo>
                  <a:pt x="167" y="15"/>
                </a:lnTo>
                <a:lnTo>
                  <a:pt x="168" y="15"/>
                </a:lnTo>
                <a:lnTo>
                  <a:pt x="193" y="19"/>
                </a:lnTo>
                <a:lnTo>
                  <a:pt x="199" y="19"/>
                </a:lnTo>
                <a:lnTo>
                  <a:pt x="234" y="21"/>
                </a:lnTo>
                <a:lnTo>
                  <a:pt x="266" y="23"/>
                </a:lnTo>
                <a:lnTo>
                  <a:pt x="292" y="23"/>
                </a:lnTo>
                <a:lnTo>
                  <a:pt x="315" y="25"/>
                </a:lnTo>
                <a:lnTo>
                  <a:pt x="367" y="27"/>
                </a:lnTo>
                <a:lnTo>
                  <a:pt x="389" y="27"/>
                </a:lnTo>
                <a:lnTo>
                  <a:pt x="449" y="29"/>
                </a:lnTo>
                <a:lnTo>
                  <a:pt x="459" y="48"/>
                </a:lnTo>
                <a:lnTo>
                  <a:pt x="464" y="52"/>
                </a:lnTo>
                <a:lnTo>
                  <a:pt x="468" y="53"/>
                </a:lnTo>
                <a:lnTo>
                  <a:pt x="476" y="61"/>
                </a:lnTo>
                <a:lnTo>
                  <a:pt x="488" y="76"/>
                </a:lnTo>
                <a:lnTo>
                  <a:pt x="499" y="57"/>
                </a:lnTo>
                <a:lnTo>
                  <a:pt x="517" y="59"/>
                </a:lnTo>
                <a:lnTo>
                  <a:pt x="518" y="59"/>
                </a:lnTo>
                <a:lnTo>
                  <a:pt x="527" y="57"/>
                </a:lnTo>
                <a:lnTo>
                  <a:pt x="528" y="57"/>
                </a:lnTo>
                <a:lnTo>
                  <a:pt x="547" y="57"/>
                </a:lnTo>
                <a:lnTo>
                  <a:pt x="554" y="69"/>
                </a:lnTo>
                <a:lnTo>
                  <a:pt x="557" y="74"/>
                </a:lnTo>
                <a:lnTo>
                  <a:pt x="565" y="76"/>
                </a:lnTo>
                <a:lnTo>
                  <a:pt x="582" y="88"/>
                </a:lnTo>
                <a:lnTo>
                  <a:pt x="589" y="103"/>
                </a:lnTo>
                <a:lnTo>
                  <a:pt x="596" y="124"/>
                </a:lnTo>
                <a:lnTo>
                  <a:pt x="604" y="130"/>
                </a:lnTo>
                <a:lnTo>
                  <a:pt x="610" y="132"/>
                </a:lnTo>
                <a:lnTo>
                  <a:pt x="618" y="176"/>
                </a:lnTo>
                <a:lnTo>
                  <a:pt x="620" y="180"/>
                </a:lnTo>
                <a:lnTo>
                  <a:pt x="620" y="181"/>
                </a:lnTo>
                <a:lnTo>
                  <a:pt x="618" y="187"/>
                </a:lnTo>
                <a:lnTo>
                  <a:pt x="624" y="206"/>
                </a:lnTo>
                <a:lnTo>
                  <a:pt x="625" y="222"/>
                </a:lnTo>
                <a:lnTo>
                  <a:pt x="627" y="231"/>
                </a:lnTo>
                <a:lnTo>
                  <a:pt x="632" y="231"/>
                </a:lnTo>
                <a:lnTo>
                  <a:pt x="636" y="260"/>
                </a:lnTo>
                <a:lnTo>
                  <a:pt x="638" y="260"/>
                </a:lnTo>
                <a:lnTo>
                  <a:pt x="640" y="283"/>
                </a:lnTo>
                <a:lnTo>
                  <a:pt x="638" y="296"/>
                </a:lnTo>
                <a:lnTo>
                  <a:pt x="639" y="309"/>
                </a:lnTo>
                <a:lnTo>
                  <a:pt x="648" y="327"/>
                </a:lnTo>
                <a:lnTo>
                  <a:pt x="649" y="332"/>
                </a:lnTo>
                <a:lnTo>
                  <a:pt x="648" y="334"/>
                </a:lnTo>
                <a:lnTo>
                  <a:pt x="648" y="340"/>
                </a:lnTo>
                <a:lnTo>
                  <a:pt x="654" y="355"/>
                </a:lnTo>
                <a:lnTo>
                  <a:pt x="659" y="378"/>
                </a:lnTo>
                <a:lnTo>
                  <a:pt x="655" y="386"/>
                </a:lnTo>
                <a:lnTo>
                  <a:pt x="655" y="397"/>
                </a:lnTo>
                <a:lnTo>
                  <a:pt x="659" y="397"/>
                </a:lnTo>
                <a:lnTo>
                  <a:pt x="660" y="401"/>
                </a:lnTo>
                <a:lnTo>
                  <a:pt x="659" y="403"/>
                </a:lnTo>
                <a:lnTo>
                  <a:pt x="660" y="411"/>
                </a:lnTo>
                <a:lnTo>
                  <a:pt x="659" y="424"/>
                </a:lnTo>
                <a:lnTo>
                  <a:pt x="659" y="426"/>
                </a:lnTo>
                <a:lnTo>
                  <a:pt x="660" y="437"/>
                </a:lnTo>
                <a:lnTo>
                  <a:pt x="665" y="457"/>
                </a:lnTo>
                <a:lnTo>
                  <a:pt x="664" y="462"/>
                </a:lnTo>
                <a:lnTo>
                  <a:pt x="663" y="481"/>
                </a:lnTo>
                <a:lnTo>
                  <a:pt x="659" y="489"/>
                </a:lnTo>
                <a:lnTo>
                  <a:pt x="670" y="518"/>
                </a:lnTo>
                <a:lnTo>
                  <a:pt x="669" y="521"/>
                </a:lnTo>
                <a:lnTo>
                  <a:pt x="669" y="523"/>
                </a:lnTo>
                <a:lnTo>
                  <a:pt x="671" y="535"/>
                </a:lnTo>
                <a:lnTo>
                  <a:pt x="674" y="535"/>
                </a:lnTo>
                <a:lnTo>
                  <a:pt x="676" y="527"/>
                </a:lnTo>
                <a:lnTo>
                  <a:pt x="681" y="579"/>
                </a:lnTo>
                <a:lnTo>
                  <a:pt x="687" y="588"/>
                </a:lnTo>
                <a:lnTo>
                  <a:pt x="691" y="590"/>
                </a:lnTo>
                <a:lnTo>
                  <a:pt x="702" y="636"/>
                </a:lnTo>
                <a:lnTo>
                  <a:pt x="708" y="642"/>
                </a:lnTo>
                <a:lnTo>
                  <a:pt x="705" y="642"/>
                </a:lnTo>
                <a:lnTo>
                  <a:pt x="669" y="644"/>
                </a:lnTo>
                <a:lnTo>
                  <a:pt x="662" y="644"/>
                </a:lnTo>
                <a:lnTo>
                  <a:pt x="652" y="644"/>
                </a:lnTo>
                <a:lnTo>
                  <a:pt x="651" y="644"/>
                </a:lnTo>
                <a:lnTo>
                  <a:pt x="641" y="644"/>
                </a:lnTo>
                <a:lnTo>
                  <a:pt x="631" y="644"/>
                </a:lnTo>
                <a:lnTo>
                  <a:pt x="630" y="644"/>
                </a:lnTo>
                <a:lnTo>
                  <a:pt x="620" y="644"/>
                </a:lnTo>
                <a:lnTo>
                  <a:pt x="613" y="646"/>
                </a:lnTo>
                <a:lnTo>
                  <a:pt x="610" y="646"/>
                </a:lnTo>
                <a:lnTo>
                  <a:pt x="590" y="646"/>
                </a:lnTo>
                <a:lnTo>
                  <a:pt x="585" y="646"/>
                </a:lnTo>
                <a:lnTo>
                  <a:pt x="579" y="646"/>
                </a:lnTo>
                <a:lnTo>
                  <a:pt x="576" y="646"/>
                </a:lnTo>
                <a:lnTo>
                  <a:pt x="559" y="646"/>
                </a:lnTo>
                <a:lnTo>
                  <a:pt x="549" y="646"/>
                </a:lnTo>
                <a:lnTo>
                  <a:pt x="539" y="646"/>
                </a:lnTo>
                <a:lnTo>
                  <a:pt x="518" y="646"/>
                </a:lnTo>
                <a:lnTo>
                  <a:pt x="503" y="646"/>
                </a:lnTo>
                <a:lnTo>
                  <a:pt x="498" y="646"/>
                </a:lnTo>
                <a:lnTo>
                  <a:pt x="494" y="646"/>
                </a:lnTo>
                <a:lnTo>
                  <a:pt x="488" y="646"/>
                </a:lnTo>
                <a:lnTo>
                  <a:pt x="478" y="646"/>
                </a:lnTo>
                <a:lnTo>
                  <a:pt x="466" y="646"/>
                </a:lnTo>
                <a:lnTo>
                  <a:pt x="458" y="646"/>
                </a:lnTo>
                <a:lnTo>
                  <a:pt x="447" y="646"/>
                </a:lnTo>
                <a:lnTo>
                  <a:pt x="436" y="646"/>
                </a:lnTo>
                <a:lnTo>
                  <a:pt x="428" y="646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82880" y="1817640"/>
            <a:ext cx="895320" cy="511200"/>
          </a:xfrm>
          <a:custGeom>
            <a:avLst/>
            <a:gdLst/>
            <a:ahLst/>
            <a:rect l="l" t="t" r="r" b="b"/>
            <a:pathLst>
              <a:path w="564" h="646">
                <a:moveTo>
                  <a:pt x="154" y="633"/>
                </a:moveTo>
                <a:lnTo>
                  <a:pt x="210" y="636"/>
                </a:lnTo>
                <a:lnTo>
                  <a:pt x="220" y="636"/>
                </a:lnTo>
                <a:lnTo>
                  <a:pt x="267" y="640"/>
                </a:lnTo>
                <a:lnTo>
                  <a:pt x="268" y="640"/>
                </a:lnTo>
                <a:lnTo>
                  <a:pt x="305" y="642"/>
                </a:lnTo>
                <a:lnTo>
                  <a:pt x="314" y="642"/>
                </a:lnTo>
                <a:lnTo>
                  <a:pt x="326" y="642"/>
                </a:lnTo>
                <a:lnTo>
                  <a:pt x="333" y="642"/>
                </a:lnTo>
                <a:lnTo>
                  <a:pt x="361" y="644"/>
                </a:lnTo>
                <a:lnTo>
                  <a:pt x="380" y="644"/>
                </a:lnTo>
                <a:lnTo>
                  <a:pt x="399" y="644"/>
                </a:lnTo>
                <a:lnTo>
                  <a:pt x="401" y="644"/>
                </a:lnTo>
                <a:lnTo>
                  <a:pt x="428" y="646"/>
                </a:lnTo>
                <a:lnTo>
                  <a:pt x="437" y="646"/>
                </a:lnTo>
                <a:lnTo>
                  <a:pt x="455" y="646"/>
                </a:lnTo>
                <a:lnTo>
                  <a:pt x="456" y="646"/>
                </a:lnTo>
                <a:lnTo>
                  <a:pt x="458" y="646"/>
                </a:lnTo>
                <a:lnTo>
                  <a:pt x="494" y="646"/>
                </a:lnTo>
                <a:lnTo>
                  <a:pt x="512" y="646"/>
                </a:lnTo>
                <a:lnTo>
                  <a:pt x="514" y="646"/>
                </a:lnTo>
                <a:lnTo>
                  <a:pt x="531" y="646"/>
                </a:lnTo>
                <a:lnTo>
                  <a:pt x="550" y="644"/>
                </a:lnTo>
                <a:lnTo>
                  <a:pt x="564" y="644"/>
                </a:lnTo>
                <a:lnTo>
                  <a:pt x="562" y="631"/>
                </a:lnTo>
                <a:lnTo>
                  <a:pt x="563" y="627"/>
                </a:lnTo>
                <a:lnTo>
                  <a:pt x="558" y="560"/>
                </a:lnTo>
                <a:lnTo>
                  <a:pt x="550" y="529"/>
                </a:lnTo>
                <a:lnTo>
                  <a:pt x="547" y="505"/>
                </a:lnTo>
                <a:lnTo>
                  <a:pt x="546" y="503"/>
                </a:lnTo>
                <a:lnTo>
                  <a:pt x="545" y="503"/>
                </a:lnTo>
                <a:lnTo>
                  <a:pt x="547" y="453"/>
                </a:lnTo>
                <a:lnTo>
                  <a:pt x="543" y="428"/>
                </a:lnTo>
                <a:lnTo>
                  <a:pt x="541" y="398"/>
                </a:lnTo>
                <a:lnTo>
                  <a:pt x="542" y="390"/>
                </a:lnTo>
                <a:lnTo>
                  <a:pt x="542" y="380"/>
                </a:lnTo>
                <a:lnTo>
                  <a:pt x="541" y="361"/>
                </a:lnTo>
                <a:lnTo>
                  <a:pt x="542" y="359"/>
                </a:lnTo>
                <a:lnTo>
                  <a:pt x="540" y="354"/>
                </a:lnTo>
                <a:lnTo>
                  <a:pt x="541" y="352"/>
                </a:lnTo>
                <a:lnTo>
                  <a:pt x="540" y="327"/>
                </a:lnTo>
                <a:lnTo>
                  <a:pt x="538" y="302"/>
                </a:lnTo>
                <a:lnTo>
                  <a:pt x="537" y="293"/>
                </a:lnTo>
                <a:lnTo>
                  <a:pt x="527" y="253"/>
                </a:lnTo>
                <a:lnTo>
                  <a:pt x="520" y="193"/>
                </a:lnTo>
                <a:lnTo>
                  <a:pt x="518" y="191"/>
                </a:lnTo>
                <a:lnTo>
                  <a:pt x="518" y="188"/>
                </a:lnTo>
                <a:lnTo>
                  <a:pt x="520" y="184"/>
                </a:lnTo>
                <a:lnTo>
                  <a:pt x="519" y="142"/>
                </a:lnTo>
                <a:lnTo>
                  <a:pt x="517" y="117"/>
                </a:lnTo>
                <a:lnTo>
                  <a:pt x="516" y="117"/>
                </a:lnTo>
                <a:lnTo>
                  <a:pt x="514" y="52"/>
                </a:lnTo>
                <a:lnTo>
                  <a:pt x="515" y="50"/>
                </a:lnTo>
                <a:lnTo>
                  <a:pt x="511" y="25"/>
                </a:lnTo>
                <a:lnTo>
                  <a:pt x="460" y="25"/>
                </a:lnTo>
                <a:lnTo>
                  <a:pt x="383" y="25"/>
                </a:lnTo>
                <a:lnTo>
                  <a:pt x="346" y="23"/>
                </a:lnTo>
                <a:lnTo>
                  <a:pt x="298" y="23"/>
                </a:lnTo>
                <a:lnTo>
                  <a:pt x="213" y="18"/>
                </a:lnTo>
                <a:lnTo>
                  <a:pt x="203" y="18"/>
                </a:lnTo>
                <a:lnTo>
                  <a:pt x="166" y="16"/>
                </a:lnTo>
                <a:lnTo>
                  <a:pt x="100" y="10"/>
                </a:lnTo>
                <a:lnTo>
                  <a:pt x="19" y="0"/>
                </a:lnTo>
                <a:lnTo>
                  <a:pt x="18" y="50"/>
                </a:lnTo>
                <a:lnTo>
                  <a:pt x="17" y="67"/>
                </a:lnTo>
                <a:lnTo>
                  <a:pt x="17" y="75"/>
                </a:lnTo>
                <a:lnTo>
                  <a:pt x="17" y="77"/>
                </a:lnTo>
                <a:lnTo>
                  <a:pt x="16" y="102"/>
                </a:lnTo>
                <a:lnTo>
                  <a:pt x="16" y="123"/>
                </a:lnTo>
                <a:lnTo>
                  <a:pt x="14" y="176"/>
                </a:lnTo>
                <a:lnTo>
                  <a:pt x="13" y="203"/>
                </a:lnTo>
                <a:lnTo>
                  <a:pt x="13" y="228"/>
                </a:lnTo>
                <a:lnTo>
                  <a:pt x="12" y="253"/>
                </a:lnTo>
                <a:lnTo>
                  <a:pt x="9" y="323"/>
                </a:lnTo>
                <a:lnTo>
                  <a:pt x="9" y="329"/>
                </a:lnTo>
                <a:lnTo>
                  <a:pt x="9" y="337"/>
                </a:lnTo>
                <a:lnTo>
                  <a:pt x="8" y="379"/>
                </a:lnTo>
                <a:lnTo>
                  <a:pt x="5" y="455"/>
                </a:lnTo>
                <a:lnTo>
                  <a:pt x="4" y="476"/>
                </a:lnTo>
                <a:lnTo>
                  <a:pt x="4" y="497"/>
                </a:lnTo>
                <a:lnTo>
                  <a:pt x="4" y="505"/>
                </a:lnTo>
                <a:lnTo>
                  <a:pt x="2" y="550"/>
                </a:lnTo>
                <a:lnTo>
                  <a:pt x="2" y="556"/>
                </a:lnTo>
                <a:lnTo>
                  <a:pt x="1" y="587"/>
                </a:lnTo>
                <a:lnTo>
                  <a:pt x="0" y="619"/>
                </a:lnTo>
                <a:lnTo>
                  <a:pt x="4" y="619"/>
                </a:lnTo>
                <a:lnTo>
                  <a:pt x="33" y="621"/>
                </a:lnTo>
                <a:lnTo>
                  <a:pt x="80" y="627"/>
                </a:lnTo>
                <a:lnTo>
                  <a:pt x="84" y="627"/>
                </a:lnTo>
                <a:lnTo>
                  <a:pt x="117" y="629"/>
                </a:lnTo>
                <a:lnTo>
                  <a:pt x="145" y="633"/>
                </a:lnTo>
                <a:lnTo>
                  <a:pt x="154" y="633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53000" y="2308320"/>
            <a:ext cx="947520" cy="581040"/>
          </a:xfrm>
          <a:custGeom>
            <a:avLst/>
            <a:gdLst/>
            <a:ahLst/>
            <a:rect l="l" t="t" r="r" b="b"/>
            <a:pathLst>
              <a:path w="597" h="732">
                <a:moveTo>
                  <a:pt x="541" y="669"/>
                </a:moveTo>
                <a:lnTo>
                  <a:pt x="544" y="674"/>
                </a:lnTo>
                <a:lnTo>
                  <a:pt x="552" y="676"/>
                </a:lnTo>
                <a:lnTo>
                  <a:pt x="569" y="688"/>
                </a:lnTo>
                <a:lnTo>
                  <a:pt x="576" y="703"/>
                </a:lnTo>
                <a:lnTo>
                  <a:pt x="583" y="724"/>
                </a:lnTo>
                <a:lnTo>
                  <a:pt x="591" y="730"/>
                </a:lnTo>
                <a:lnTo>
                  <a:pt x="597" y="732"/>
                </a:lnTo>
                <a:lnTo>
                  <a:pt x="595" y="730"/>
                </a:lnTo>
                <a:lnTo>
                  <a:pt x="593" y="717"/>
                </a:lnTo>
                <a:lnTo>
                  <a:pt x="593" y="709"/>
                </a:lnTo>
                <a:lnTo>
                  <a:pt x="583" y="688"/>
                </a:lnTo>
                <a:lnTo>
                  <a:pt x="589" y="646"/>
                </a:lnTo>
                <a:lnTo>
                  <a:pt x="592" y="634"/>
                </a:lnTo>
                <a:lnTo>
                  <a:pt x="592" y="615"/>
                </a:lnTo>
                <a:lnTo>
                  <a:pt x="596" y="610"/>
                </a:lnTo>
                <a:lnTo>
                  <a:pt x="596" y="600"/>
                </a:lnTo>
                <a:lnTo>
                  <a:pt x="592" y="581"/>
                </a:lnTo>
                <a:lnTo>
                  <a:pt x="587" y="573"/>
                </a:lnTo>
                <a:lnTo>
                  <a:pt x="590" y="548"/>
                </a:lnTo>
                <a:lnTo>
                  <a:pt x="584" y="524"/>
                </a:lnTo>
                <a:lnTo>
                  <a:pt x="591" y="524"/>
                </a:lnTo>
                <a:lnTo>
                  <a:pt x="595" y="524"/>
                </a:lnTo>
                <a:lnTo>
                  <a:pt x="595" y="499"/>
                </a:lnTo>
                <a:lnTo>
                  <a:pt x="595" y="472"/>
                </a:lnTo>
                <a:lnTo>
                  <a:pt x="594" y="451"/>
                </a:lnTo>
                <a:lnTo>
                  <a:pt x="594" y="420"/>
                </a:lnTo>
                <a:lnTo>
                  <a:pt x="594" y="396"/>
                </a:lnTo>
                <a:lnTo>
                  <a:pt x="594" y="380"/>
                </a:lnTo>
                <a:lnTo>
                  <a:pt x="593" y="310"/>
                </a:lnTo>
                <a:lnTo>
                  <a:pt x="593" y="292"/>
                </a:lnTo>
                <a:lnTo>
                  <a:pt x="593" y="256"/>
                </a:lnTo>
                <a:lnTo>
                  <a:pt x="593" y="220"/>
                </a:lnTo>
                <a:lnTo>
                  <a:pt x="592" y="161"/>
                </a:lnTo>
                <a:lnTo>
                  <a:pt x="591" y="149"/>
                </a:lnTo>
                <a:lnTo>
                  <a:pt x="588" y="142"/>
                </a:lnTo>
                <a:lnTo>
                  <a:pt x="579" y="132"/>
                </a:lnTo>
                <a:lnTo>
                  <a:pt x="563" y="98"/>
                </a:lnTo>
                <a:lnTo>
                  <a:pt x="562" y="90"/>
                </a:lnTo>
                <a:lnTo>
                  <a:pt x="576" y="63"/>
                </a:lnTo>
                <a:lnTo>
                  <a:pt x="583" y="25"/>
                </a:lnTo>
                <a:lnTo>
                  <a:pt x="569" y="25"/>
                </a:lnTo>
                <a:lnTo>
                  <a:pt x="550" y="27"/>
                </a:lnTo>
                <a:lnTo>
                  <a:pt x="533" y="27"/>
                </a:lnTo>
                <a:lnTo>
                  <a:pt x="531" y="27"/>
                </a:lnTo>
                <a:lnTo>
                  <a:pt x="513" y="27"/>
                </a:lnTo>
                <a:lnTo>
                  <a:pt x="477" y="27"/>
                </a:lnTo>
                <a:lnTo>
                  <a:pt x="475" y="27"/>
                </a:lnTo>
                <a:lnTo>
                  <a:pt x="474" y="27"/>
                </a:lnTo>
                <a:lnTo>
                  <a:pt x="456" y="27"/>
                </a:lnTo>
                <a:lnTo>
                  <a:pt x="447" y="27"/>
                </a:lnTo>
                <a:lnTo>
                  <a:pt x="420" y="25"/>
                </a:lnTo>
                <a:lnTo>
                  <a:pt x="418" y="25"/>
                </a:lnTo>
                <a:lnTo>
                  <a:pt x="399" y="25"/>
                </a:lnTo>
                <a:lnTo>
                  <a:pt x="380" y="25"/>
                </a:lnTo>
                <a:lnTo>
                  <a:pt x="352" y="23"/>
                </a:lnTo>
                <a:lnTo>
                  <a:pt x="345" y="23"/>
                </a:lnTo>
                <a:lnTo>
                  <a:pt x="333" y="23"/>
                </a:lnTo>
                <a:lnTo>
                  <a:pt x="324" y="23"/>
                </a:lnTo>
                <a:lnTo>
                  <a:pt x="287" y="21"/>
                </a:lnTo>
                <a:lnTo>
                  <a:pt x="286" y="21"/>
                </a:lnTo>
                <a:lnTo>
                  <a:pt x="239" y="17"/>
                </a:lnTo>
                <a:lnTo>
                  <a:pt x="229" y="17"/>
                </a:lnTo>
                <a:lnTo>
                  <a:pt x="173" y="14"/>
                </a:lnTo>
                <a:lnTo>
                  <a:pt x="164" y="14"/>
                </a:lnTo>
                <a:lnTo>
                  <a:pt x="136" y="10"/>
                </a:lnTo>
                <a:lnTo>
                  <a:pt x="103" y="8"/>
                </a:lnTo>
                <a:lnTo>
                  <a:pt x="99" y="8"/>
                </a:lnTo>
                <a:lnTo>
                  <a:pt x="52" y="2"/>
                </a:lnTo>
                <a:lnTo>
                  <a:pt x="23" y="0"/>
                </a:lnTo>
                <a:lnTo>
                  <a:pt x="19" y="0"/>
                </a:lnTo>
                <a:lnTo>
                  <a:pt x="19" y="12"/>
                </a:lnTo>
                <a:lnTo>
                  <a:pt x="18" y="38"/>
                </a:lnTo>
                <a:lnTo>
                  <a:pt x="15" y="142"/>
                </a:lnTo>
                <a:lnTo>
                  <a:pt x="15" y="147"/>
                </a:lnTo>
                <a:lnTo>
                  <a:pt x="14" y="191"/>
                </a:lnTo>
                <a:lnTo>
                  <a:pt x="12" y="191"/>
                </a:lnTo>
                <a:lnTo>
                  <a:pt x="11" y="243"/>
                </a:lnTo>
                <a:lnTo>
                  <a:pt x="10" y="279"/>
                </a:lnTo>
                <a:lnTo>
                  <a:pt x="9" y="294"/>
                </a:lnTo>
                <a:lnTo>
                  <a:pt x="8" y="344"/>
                </a:lnTo>
                <a:lnTo>
                  <a:pt x="7" y="359"/>
                </a:lnTo>
                <a:lnTo>
                  <a:pt x="7" y="367"/>
                </a:lnTo>
                <a:lnTo>
                  <a:pt x="6" y="396"/>
                </a:lnTo>
                <a:lnTo>
                  <a:pt x="5" y="426"/>
                </a:lnTo>
                <a:lnTo>
                  <a:pt x="4" y="447"/>
                </a:lnTo>
                <a:lnTo>
                  <a:pt x="4" y="472"/>
                </a:lnTo>
                <a:lnTo>
                  <a:pt x="3" y="499"/>
                </a:lnTo>
                <a:lnTo>
                  <a:pt x="3" y="503"/>
                </a:lnTo>
                <a:lnTo>
                  <a:pt x="2" y="524"/>
                </a:lnTo>
                <a:lnTo>
                  <a:pt x="0" y="575"/>
                </a:lnTo>
                <a:lnTo>
                  <a:pt x="0" y="600"/>
                </a:lnTo>
                <a:lnTo>
                  <a:pt x="3" y="602"/>
                </a:lnTo>
                <a:lnTo>
                  <a:pt x="4" y="602"/>
                </a:lnTo>
                <a:lnTo>
                  <a:pt x="42" y="606"/>
                </a:lnTo>
                <a:lnTo>
                  <a:pt x="63" y="608"/>
                </a:lnTo>
                <a:lnTo>
                  <a:pt x="66" y="608"/>
                </a:lnTo>
                <a:lnTo>
                  <a:pt x="83" y="610"/>
                </a:lnTo>
                <a:lnTo>
                  <a:pt x="93" y="610"/>
                </a:lnTo>
                <a:lnTo>
                  <a:pt x="94" y="611"/>
                </a:lnTo>
                <a:lnTo>
                  <a:pt x="99" y="611"/>
                </a:lnTo>
                <a:lnTo>
                  <a:pt x="124" y="613"/>
                </a:lnTo>
                <a:lnTo>
                  <a:pt x="141" y="615"/>
                </a:lnTo>
                <a:lnTo>
                  <a:pt x="154" y="615"/>
                </a:lnTo>
                <a:lnTo>
                  <a:pt x="155" y="615"/>
                </a:lnTo>
                <a:lnTo>
                  <a:pt x="180" y="619"/>
                </a:lnTo>
                <a:lnTo>
                  <a:pt x="186" y="619"/>
                </a:lnTo>
                <a:lnTo>
                  <a:pt x="221" y="621"/>
                </a:lnTo>
                <a:lnTo>
                  <a:pt x="253" y="623"/>
                </a:lnTo>
                <a:lnTo>
                  <a:pt x="279" y="623"/>
                </a:lnTo>
                <a:lnTo>
                  <a:pt x="302" y="625"/>
                </a:lnTo>
                <a:lnTo>
                  <a:pt x="354" y="627"/>
                </a:lnTo>
                <a:lnTo>
                  <a:pt x="376" y="627"/>
                </a:lnTo>
                <a:lnTo>
                  <a:pt x="436" y="629"/>
                </a:lnTo>
                <a:lnTo>
                  <a:pt x="446" y="648"/>
                </a:lnTo>
                <a:lnTo>
                  <a:pt x="451" y="652"/>
                </a:lnTo>
                <a:lnTo>
                  <a:pt x="455" y="653"/>
                </a:lnTo>
                <a:lnTo>
                  <a:pt x="463" y="661"/>
                </a:lnTo>
                <a:lnTo>
                  <a:pt x="475" y="676"/>
                </a:lnTo>
                <a:lnTo>
                  <a:pt x="486" y="657"/>
                </a:lnTo>
                <a:lnTo>
                  <a:pt x="504" y="659"/>
                </a:lnTo>
                <a:lnTo>
                  <a:pt x="505" y="659"/>
                </a:lnTo>
                <a:lnTo>
                  <a:pt x="514" y="657"/>
                </a:lnTo>
                <a:lnTo>
                  <a:pt x="515" y="657"/>
                </a:lnTo>
                <a:lnTo>
                  <a:pt x="534" y="657"/>
                </a:lnTo>
                <a:lnTo>
                  <a:pt x="541" y="669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64600" y="2082960"/>
            <a:ext cx="228600" cy="409320"/>
          </a:xfrm>
          <a:custGeom>
            <a:avLst/>
            <a:gdLst/>
            <a:ahLst/>
            <a:rect l="l" t="t" r="r" b="b"/>
            <a:pathLst>
              <a:path w="144" h="515">
                <a:moveTo>
                  <a:pt x="32" y="319"/>
                </a:moveTo>
                <a:lnTo>
                  <a:pt x="31" y="345"/>
                </a:lnTo>
                <a:lnTo>
                  <a:pt x="40" y="342"/>
                </a:lnTo>
                <a:lnTo>
                  <a:pt x="51" y="401"/>
                </a:lnTo>
                <a:lnTo>
                  <a:pt x="53" y="414"/>
                </a:lnTo>
                <a:lnTo>
                  <a:pt x="56" y="439"/>
                </a:lnTo>
                <a:lnTo>
                  <a:pt x="60" y="475"/>
                </a:lnTo>
                <a:lnTo>
                  <a:pt x="62" y="498"/>
                </a:lnTo>
                <a:lnTo>
                  <a:pt x="64" y="515"/>
                </a:lnTo>
                <a:lnTo>
                  <a:pt x="65" y="515"/>
                </a:lnTo>
                <a:lnTo>
                  <a:pt x="80" y="510"/>
                </a:lnTo>
                <a:lnTo>
                  <a:pt x="82" y="508"/>
                </a:lnTo>
                <a:lnTo>
                  <a:pt x="84" y="508"/>
                </a:lnTo>
                <a:lnTo>
                  <a:pt x="85" y="508"/>
                </a:lnTo>
                <a:lnTo>
                  <a:pt x="86" y="506"/>
                </a:lnTo>
                <a:lnTo>
                  <a:pt x="91" y="504"/>
                </a:lnTo>
                <a:lnTo>
                  <a:pt x="105" y="498"/>
                </a:lnTo>
                <a:lnTo>
                  <a:pt x="124" y="491"/>
                </a:lnTo>
                <a:lnTo>
                  <a:pt x="127" y="489"/>
                </a:lnTo>
                <a:lnTo>
                  <a:pt x="115" y="449"/>
                </a:lnTo>
                <a:lnTo>
                  <a:pt x="120" y="435"/>
                </a:lnTo>
                <a:lnTo>
                  <a:pt x="116" y="403"/>
                </a:lnTo>
                <a:lnTo>
                  <a:pt x="115" y="387"/>
                </a:lnTo>
                <a:lnTo>
                  <a:pt x="112" y="334"/>
                </a:lnTo>
                <a:lnTo>
                  <a:pt x="110" y="317"/>
                </a:lnTo>
                <a:lnTo>
                  <a:pt x="113" y="311"/>
                </a:lnTo>
                <a:lnTo>
                  <a:pt x="112" y="305"/>
                </a:lnTo>
                <a:lnTo>
                  <a:pt x="115" y="280"/>
                </a:lnTo>
                <a:lnTo>
                  <a:pt x="118" y="273"/>
                </a:lnTo>
                <a:lnTo>
                  <a:pt x="119" y="223"/>
                </a:lnTo>
                <a:lnTo>
                  <a:pt x="121" y="196"/>
                </a:lnTo>
                <a:lnTo>
                  <a:pt x="120" y="189"/>
                </a:lnTo>
                <a:lnTo>
                  <a:pt x="116" y="172"/>
                </a:lnTo>
                <a:lnTo>
                  <a:pt x="118" y="154"/>
                </a:lnTo>
                <a:lnTo>
                  <a:pt x="130" y="145"/>
                </a:lnTo>
                <a:lnTo>
                  <a:pt x="131" y="137"/>
                </a:lnTo>
                <a:lnTo>
                  <a:pt x="133" y="130"/>
                </a:lnTo>
                <a:lnTo>
                  <a:pt x="144" y="105"/>
                </a:lnTo>
                <a:lnTo>
                  <a:pt x="134" y="57"/>
                </a:lnTo>
                <a:lnTo>
                  <a:pt x="139" y="19"/>
                </a:lnTo>
                <a:lnTo>
                  <a:pt x="136" y="0"/>
                </a:lnTo>
                <a:lnTo>
                  <a:pt x="107" y="15"/>
                </a:lnTo>
                <a:lnTo>
                  <a:pt x="59" y="40"/>
                </a:lnTo>
                <a:lnTo>
                  <a:pt x="11" y="61"/>
                </a:lnTo>
                <a:lnTo>
                  <a:pt x="7" y="63"/>
                </a:lnTo>
                <a:lnTo>
                  <a:pt x="0" y="66"/>
                </a:lnTo>
                <a:lnTo>
                  <a:pt x="1" y="97"/>
                </a:lnTo>
                <a:lnTo>
                  <a:pt x="9" y="154"/>
                </a:lnTo>
                <a:lnTo>
                  <a:pt x="10" y="156"/>
                </a:lnTo>
                <a:lnTo>
                  <a:pt x="12" y="158"/>
                </a:lnTo>
                <a:lnTo>
                  <a:pt x="12" y="160"/>
                </a:lnTo>
                <a:lnTo>
                  <a:pt x="17" y="168"/>
                </a:lnTo>
                <a:lnTo>
                  <a:pt x="22" y="214"/>
                </a:lnTo>
                <a:lnTo>
                  <a:pt x="18" y="231"/>
                </a:lnTo>
                <a:lnTo>
                  <a:pt x="18" y="256"/>
                </a:lnTo>
                <a:lnTo>
                  <a:pt x="29" y="307"/>
                </a:lnTo>
                <a:lnTo>
                  <a:pt x="30" y="309"/>
                </a:lnTo>
                <a:lnTo>
                  <a:pt x="32" y="319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69360" y="2563920"/>
            <a:ext cx="234720" cy="218880"/>
          </a:xfrm>
          <a:custGeom>
            <a:avLst/>
            <a:gdLst/>
            <a:ahLst/>
            <a:rect l="l" t="t" r="r" b="b"/>
            <a:pathLst>
              <a:path w="148" h="277">
                <a:moveTo>
                  <a:pt x="53" y="220"/>
                </a:moveTo>
                <a:lnTo>
                  <a:pt x="62" y="199"/>
                </a:lnTo>
                <a:lnTo>
                  <a:pt x="78" y="191"/>
                </a:lnTo>
                <a:lnTo>
                  <a:pt x="87" y="182"/>
                </a:lnTo>
                <a:lnTo>
                  <a:pt x="95" y="182"/>
                </a:lnTo>
                <a:lnTo>
                  <a:pt x="97" y="180"/>
                </a:lnTo>
                <a:lnTo>
                  <a:pt x="110" y="170"/>
                </a:lnTo>
                <a:lnTo>
                  <a:pt x="135" y="149"/>
                </a:lnTo>
                <a:lnTo>
                  <a:pt x="141" y="143"/>
                </a:lnTo>
                <a:lnTo>
                  <a:pt x="143" y="141"/>
                </a:lnTo>
                <a:lnTo>
                  <a:pt x="145" y="141"/>
                </a:lnTo>
                <a:lnTo>
                  <a:pt x="148" y="120"/>
                </a:lnTo>
                <a:lnTo>
                  <a:pt x="144" y="84"/>
                </a:lnTo>
                <a:lnTo>
                  <a:pt x="143" y="78"/>
                </a:lnTo>
                <a:lnTo>
                  <a:pt x="143" y="75"/>
                </a:lnTo>
                <a:lnTo>
                  <a:pt x="143" y="73"/>
                </a:lnTo>
                <a:lnTo>
                  <a:pt x="142" y="71"/>
                </a:lnTo>
                <a:lnTo>
                  <a:pt x="139" y="59"/>
                </a:lnTo>
                <a:lnTo>
                  <a:pt x="139" y="54"/>
                </a:lnTo>
                <a:lnTo>
                  <a:pt x="133" y="17"/>
                </a:lnTo>
                <a:lnTo>
                  <a:pt x="131" y="2"/>
                </a:lnTo>
                <a:lnTo>
                  <a:pt x="130" y="0"/>
                </a:lnTo>
                <a:lnTo>
                  <a:pt x="110" y="10"/>
                </a:lnTo>
                <a:lnTo>
                  <a:pt x="107" y="10"/>
                </a:lnTo>
                <a:lnTo>
                  <a:pt x="106" y="10"/>
                </a:lnTo>
                <a:lnTo>
                  <a:pt x="105" y="12"/>
                </a:lnTo>
                <a:lnTo>
                  <a:pt x="90" y="17"/>
                </a:lnTo>
                <a:lnTo>
                  <a:pt x="87" y="19"/>
                </a:lnTo>
                <a:lnTo>
                  <a:pt x="76" y="25"/>
                </a:lnTo>
                <a:lnTo>
                  <a:pt x="53" y="44"/>
                </a:lnTo>
                <a:lnTo>
                  <a:pt x="52" y="35"/>
                </a:lnTo>
                <a:lnTo>
                  <a:pt x="37" y="42"/>
                </a:lnTo>
                <a:lnTo>
                  <a:pt x="34" y="44"/>
                </a:lnTo>
                <a:lnTo>
                  <a:pt x="9" y="54"/>
                </a:lnTo>
                <a:lnTo>
                  <a:pt x="4" y="56"/>
                </a:lnTo>
                <a:lnTo>
                  <a:pt x="0" y="57"/>
                </a:lnTo>
                <a:lnTo>
                  <a:pt x="2" y="67"/>
                </a:lnTo>
                <a:lnTo>
                  <a:pt x="6" y="119"/>
                </a:lnTo>
                <a:lnTo>
                  <a:pt x="8" y="136"/>
                </a:lnTo>
                <a:lnTo>
                  <a:pt x="9" y="143"/>
                </a:lnTo>
                <a:lnTo>
                  <a:pt x="9" y="147"/>
                </a:lnTo>
                <a:lnTo>
                  <a:pt x="11" y="164"/>
                </a:lnTo>
                <a:lnTo>
                  <a:pt x="12" y="182"/>
                </a:lnTo>
                <a:lnTo>
                  <a:pt x="13" y="187"/>
                </a:lnTo>
                <a:lnTo>
                  <a:pt x="14" y="197"/>
                </a:lnTo>
                <a:lnTo>
                  <a:pt x="22" y="226"/>
                </a:lnTo>
                <a:lnTo>
                  <a:pt x="6" y="256"/>
                </a:lnTo>
                <a:lnTo>
                  <a:pt x="15" y="277"/>
                </a:lnTo>
                <a:lnTo>
                  <a:pt x="34" y="252"/>
                </a:lnTo>
                <a:lnTo>
                  <a:pt x="43" y="233"/>
                </a:lnTo>
                <a:lnTo>
                  <a:pt x="53" y="220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719840" y="1619280"/>
            <a:ext cx="500400" cy="745920"/>
          </a:xfrm>
          <a:custGeom>
            <a:avLst/>
            <a:gdLst/>
            <a:ahLst/>
            <a:rect l="l" t="t" r="r" b="b"/>
            <a:pathLst>
              <a:path w="315" h="942">
                <a:moveTo>
                  <a:pt x="48" y="806"/>
                </a:moveTo>
                <a:lnTo>
                  <a:pt x="41" y="766"/>
                </a:lnTo>
                <a:lnTo>
                  <a:pt x="33" y="716"/>
                </a:lnTo>
                <a:lnTo>
                  <a:pt x="32" y="711"/>
                </a:lnTo>
                <a:lnTo>
                  <a:pt x="17" y="619"/>
                </a:lnTo>
                <a:lnTo>
                  <a:pt x="1" y="531"/>
                </a:lnTo>
                <a:lnTo>
                  <a:pt x="0" y="522"/>
                </a:lnTo>
                <a:lnTo>
                  <a:pt x="3" y="501"/>
                </a:lnTo>
                <a:lnTo>
                  <a:pt x="17" y="518"/>
                </a:lnTo>
                <a:lnTo>
                  <a:pt x="17" y="508"/>
                </a:lnTo>
                <a:lnTo>
                  <a:pt x="18" y="476"/>
                </a:lnTo>
                <a:lnTo>
                  <a:pt x="28" y="476"/>
                </a:lnTo>
                <a:lnTo>
                  <a:pt x="22" y="434"/>
                </a:lnTo>
                <a:lnTo>
                  <a:pt x="26" y="420"/>
                </a:lnTo>
                <a:lnTo>
                  <a:pt x="36" y="397"/>
                </a:lnTo>
                <a:lnTo>
                  <a:pt x="41" y="354"/>
                </a:lnTo>
                <a:lnTo>
                  <a:pt x="35" y="346"/>
                </a:lnTo>
                <a:lnTo>
                  <a:pt x="35" y="319"/>
                </a:lnTo>
                <a:lnTo>
                  <a:pt x="31" y="294"/>
                </a:lnTo>
                <a:lnTo>
                  <a:pt x="40" y="254"/>
                </a:lnTo>
                <a:lnTo>
                  <a:pt x="38" y="222"/>
                </a:lnTo>
                <a:lnTo>
                  <a:pt x="36" y="197"/>
                </a:lnTo>
                <a:lnTo>
                  <a:pt x="70" y="17"/>
                </a:lnTo>
                <a:lnTo>
                  <a:pt x="86" y="44"/>
                </a:lnTo>
                <a:lnTo>
                  <a:pt x="93" y="54"/>
                </a:lnTo>
                <a:lnTo>
                  <a:pt x="120" y="35"/>
                </a:lnTo>
                <a:lnTo>
                  <a:pt x="135" y="2"/>
                </a:lnTo>
                <a:lnTo>
                  <a:pt x="140" y="0"/>
                </a:lnTo>
                <a:lnTo>
                  <a:pt x="168" y="19"/>
                </a:lnTo>
                <a:lnTo>
                  <a:pt x="175" y="33"/>
                </a:lnTo>
                <a:lnTo>
                  <a:pt x="182" y="36"/>
                </a:lnTo>
                <a:lnTo>
                  <a:pt x="225" y="306"/>
                </a:lnTo>
                <a:lnTo>
                  <a:pt x="250" y="313"/>
                </a:lnTo>
                <a:lnTo>
                  <a:pt x="254" y="306"/>
                </a:lnTo>
                <a:lnTo>
                  <a:pt x="264" y="376"/>
                </a:lnTo>
                <a:lnTo>
                  <a:pt x="276" y="394"/>
                </a:lnTo>
                <a:lnTo>
                  <a:pt x="278" y="392"/>
                </a:lnTo>
                <a:lnTo>
                  <a:pt x="279" y="380"/>
                </a:lnTo>
                <a:lnTo>
                  <a:pt x="293" y="386"/>
                </a:lnTo>
                <a:lnTo>
                  <a:pt x="308" y="418"/>
                </a:lnTo>
                <a:lnTo>
                  <a:pt x="315" y="438"/>
                </a:lnTo>
                <a:lnTo>
                  <a:pt x="301" y="489"/>
                </a:lnTo>
                <a:lnTo>
                  <a:pt x="298" y="489"/>
                </a:lnTo>
                <a:lnTo>
                  <a:pt x="299" y="493"/>
                </a:lnTo>
                <a:lnTo>
                  <a:pt x="296" y="491"/>
                </a:lnTo>
                <a:lnTo>
                  <a:pt x="291" y="495"/>
                </a:lnTo>
                <a:lnTo>
                  <a:pt x="292" y="501"/>
                </a:lnTo>
                <a:lnTo>
                  <a:pt x="284" y="514"/>
                </a:lnTo>
                <a:lnTo>
                  <a:pt x="285" y="525"/>
                </a:lnTo>
                <a:lnTo>
                  <a:pt x="279" y="541"/>
                </a:lnTo>
                <a:lnTo>
                  <a:pt x="277" y="531"/>
                </a:lnTo>
                <a:lnTo>
                  <a:pt x="263" y="537"/>
                </a:lnTo>
                <a:lnTo>
                  <a:pt x="261" y="558"/>
                </a:lnTo>
                <a:lnTo>
                  <a:pt x="256" y="562"/>
                </a:lnTo>
                <a:lnTo>
                  <a:pt x="251" y="567"/>
                </a:lnTo>
                <a:lnTo>
                  <a:pt x="252" y="581"/>
                </a:lnTo>
                <a:lnTo>
                  <a:pt x="239" y="608"/>
                </a:lnTo>
                <a:lnTo>
                  <a:pt x="227" y="611"/>
                </a:lnTo>
                <a:lnTo>
                  <a:pt x="214" y="585"/>
                </a:lnTo>
                <a:lnTo>
                  <a:pt x="217" y="602"/>
                </a:lnTo>
                <a:lnTo>
                  <a:pt x="208" y="651"/>
                </a:lnTo>
                <a:lnTo>
                  <a:pt x="194" y="617"/>
                </a:lnTo>
                <a:lnTo>
                  <a:pt x="191" y="579"/>
                </a:lnTo>
                <a:lnTo>
                  <a:pt x="189" y="577"/>
                </a:lnTo>
                <a:lnTo>
                  <a:pt x="186" y="596"/>
                </a:lnTo>
                <a:lnTo>
                  <a:pt x="181" y="611"/>
                </a:lnTo>
                <a:lnTo>
                  <a:pt x="180" y="638"/>
                </a:lnTo>
                <a:lnTo>
                  <a:pt x="180" y="665"/>
                </a:lnTo>
                <a:lnTo>
                  <a:pt x="186" y="688"/>
                </a:lnTo>
                <a:lnTo>
                  <a:pt x="170" y="724"/>
                </a:lnTo>
                <a:lnTo>
                  <a:pt x="164" y="722"/>
                </a:lnTo>
                <a:lnTo>
                  <a:pt x="158" y="730"/>
                </a:lnTo>
                <a:lnTo>
                  <a:pt x="157" y="739"/>
                </a:lnTo>
                <a:lnTo>
                  <a:pt x="149" y="751"/>
                </a:lnTo>
                <a:lnTo>
                  <a:pt x="144" y="751"/>
                </a:lnTo>
                <a:lnTo>
                  <a:pt x="142" y="766"/>
                </a:lnTo>
                <a:lnTo>
                  <a:pt x="137" y="779"/>
                </a:lnTo>
                <a:lnTo>
                  <a:pt x="132" y="772"/>
                </a:lnTo>
                <a:lnTo>
                  <a:pt x="128" y="770"/>
                </a:lnTo>
                <a:lnTo>
                  <a:pt x="124" y="783"/>
                </a:lnTo>
                <a:lnTo>
                  <a:pt x="115" y="793"/>
                </a:lnTo>
                <a:lnTo>
                  <a:pt x="111" y="808"/>
                </a:lnTo>
                <a:lnTo>
                  <a:pt x="114" y="821"/>
                </a:lnTo>
                <a:lnTo>
                  <a:pt x="112" y="827"/>
                </a:lnTo>
                <a:lnTo>
                  <a:pt x="109" y="825"/>
                </a:lnTo>
                <a:lnTo>
                  <a:pt x="103" y="833"/>
                </a:lnTo>
                <a:lnTo>
                  <a:pt x="102" y="841"/>
                </a:lnTo>
                <a:lnTo>
                  <a:pt x="103" y="848"/>
                </a:lnTo>
                <a:lnTo>
                  <a:pt x="107" y="846"/>
                </a:lnTo>
                <a:lnTo>
                  <a:pt x="93" y="898"/>
                </a:lnTo>
                <a:lnTo>
                  <a:pt x="96" y="915"/>
                </a:lnTo>
                <a:lnTo>
                  <a:pt x="90" y="942"/>
                </a:lnTo>
                <a:lnTo>
                  <a:pt x="87" y="938"/>
                </a:lnTo>
                <a:lnTo>
                  <a:pt x="86" y="938"/>
                </a:lnTo>
                <a:lnTo>
                  <a:pt x="80" y="932"/>
                </a:lnTo>
                <a:lnTo>
                  <a:pt x="75" y="909"/>
                </a:lnTo>
                <a:lnTo>
                  <a:pt x="63" y="894"/>
                </a:lnTo>
                <a:lnTo>
                  <a:pt x="57" y="856"/>
                </a:lnTo>
                <a:lnTo>
                  <a:pt x="50" y="816"/>
                </a:lnTo>
                <a:lnTo>
                  <a:pt x="48" y="806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072280" y="2117880"/>
            <a:ext cx="22320" cy="10800"/>
          </a:xfrm>
          <a:custGeom>
            <a:avLst/>
            <a:gdLst/>
            <a:ahLst/>
            <a:rect l="l" t="t" r="r" b="b"/>
            <a:pathLst>
              <a:path w="14" h="15">
                <a:moveTo>
                  <a:pt x="2" y="15"/>
                </a:moveTo>
                <a:lnTo>
                  <a:pt x="14" y="9"/>
                </a:lnTo>
                <a:lnTo>
                  <a:pt x="7" y="0"/>
                </a:lnTo>
                <a:lnTo>
                  <a:pt x="0" y="5"/>
                </a:lnTo>
                <a:lnTo>
                  <a:pt x="2" y="15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66120" y="2397240"/>
            <a:ext cx="453960" cy="234720"/>
          </a:xfrm>
          <a:custGeom>
            <a:avLst/>
            <a:gdLst/>
            <a:ahLst/>
            <a:rect l="l" t="t" r="r" b="b"/>
            <a:pathLst>
              <a:path w="286" h="296">
                <a:moveTo>
                  <a:pt x="229" y="229"/>
                </a:moveTo>
                <a:lnTo>
                  <a:pt x="223" y="239"/>
                </a:lnTo>
                <a:lnTo>
                  <a:pt x="218" y="250"/>
                </a:lnTo>
                <a:lnTo>
                  <a:pt x="219" y="250"/>
                </a:lnTo>
                <a:lnTo>
                  <a:pt x="214" y="252"/>
                </a:lnTo>
                <a:lnTo>
                  <a:pt x="212" y="273"/>
                </a:lnTo>
                <a:lnTo>
                  <a:pt x="207" y="285"/>
                </a:lnTo>
                <a:lnTo>
                  <a:pt x="200" y="286"/>
                </a:lnTo>
                <a:lnTo>
                  <a:pt x="197" y="267"/>
                </a:lnTo>
                <a:lnTo>
                  <a:pt x="195" y="254"/>
                </a:lnTo>
                <a:lnTo>
                  <a:pt x="188" y="250"/>
                </a:lnTo>
                <a:lnTo>
                  <a:pt x="184" y="243"/>
                </a:lnTo>
                <a:lnTo>
                  <a:pt x="182" y="241"/>
                </a:lnTo>
                <a:lnTo>
                  <a:pt x="177" y="239"/>
                </a:lnTo>
                <a:lnTo>
                  <a:pt x="172" y="214"/>
                </a:lnTo>
                <a:lnTo>
                  <a:pt x="169" y="218"/>
                </a:lnTo>
                <a:lnTo>
                  <a:pt x="167" y="199"/>
                </a:lnTo>
                <a:lnTo>
                  <a:pt x="166" y="193"/>
                </a:lnTo>
                <a:lnTo>
                  <a:pt x="161" y="195"/>
                </a:lnTo>
                <a:lnTo>
                  <a:pt x="157" y="197"/>
                </a:lnTo>
                <a:lnTo>
                  <a:pt x="154" y="199"/>
                </a:lnTo>
                <a:lnTo>
                  <a:pt x="136" y="208"/>
                </a:lnTo>
                <a:lnTo>
                  <a:pt x="133" y="210"/>
                </a:lnTo>
                <a:lnTo>
                  <a:pt x="132" y="208"/>
                </a:lnTo>
                <a:lnTo>
                  <a:pt x="112" y="218"/>
                </a:lnTo>
                <a:lnTo>
                  <a:pt x="109" y="218"/>
                </a:lnTo>
                <a:lnTo>
                  <a:pt x="108" y="218"/>
                </a:lnTo>
                <a:lnTo>
                  <a:pt x="107" y="220"/>
                </a:lnTo>
                <a:lnTo>
                  <a:pt x="92" y="225"/>
                </a:lnTo>
                <a:lnTo>
                  <a:pt x="89" y="227"/>
                </a:lnTo>
                <a:lnTo>
                  <a:pt x="78" y="233"/>
                </a:lnTo>
                <a:lnTo>
                  <a:pt x="55" y="252"/>
                </a:lnTo>
                <a:lnTo>
                  <a:pt x="54" y="243"/>
                </a:lnTo>
                <a:lnTo>
                  <a:pt x="39" y="250"/>
                </a:lnTo>
                <a:lnTo>
                  <a:pt x="36" y="252"/>
                </a:lnTo>
                <a:lnTo>
                  <a:pt x="11" y="262"/>
                </a:lnTo>
                <a:lnTo>
                  <a:pt x="6" y="264"/>
                </a:lnTo>
                <a:lnTo>
                  <a:pt x="2" y="265"/>
                </a:lnTo>
                <a:lnTo>
                  <a:pt x="0" y="260"/>
                </a:lnTo>
                <a:lnTo>
                  <a:pt x="0" y="250"/>
                </a:lnTo>
                <a:lnTo>
                  <a:pt x="1" y="168"/>
                </a:lnTo>
                <a:lnTo>
                  <a:pt x="1" y="143"/>
                </a:lnTo>
                <a:lnTo>
                  <a:pt x="1" y="132"/>
                </a:lnTo>
                <a:lnTo>
                  <a:pt x="1" y="118"/>
                </a:lnTo>
                <a:lnTo>
                  <a:pt x="16" y="113"/>
                </a:lnTo>
                <a:lnTo>
                  <a:pt x="18" y="111"/>
                </a:lnTo>
                <a:lnTo>
                  <a:pt x="20" y="111"/>
                </a:lnTo>
                <a:lnTo>
                  <a:pt x="21" y="111"/>
                </a:lnTo>
                <a:lnTo>
                  <a:pt x="22" y="109"/>
                </a:lnTo>
                <a:lnTo>
                  <a:pt x="27" y="107"/>
                </a:lnTo>
                <a:lnTo>
                  <a:pt x="41" y="101"/>
                </a:lnTo>
                <a:lnTo>
                  <a:pt x="60" y="94"/>
                </a:lnTo>
                <a:lnTo>
                  <a:pt x="63" y="92"/>
                </a:lnTo>
                <a:lnTo>
                  <a:pt x="70" y="90"/>
                </a:lnTo>
                <a:lnTo>
                  <a:pt x="72" y="90"/>
                </a:lnTo>
                <a:lnTo>
                  <a:pt x="77" y="88"/>
                </a:lnTo>
                <a:lnTo>
                  <a:pt x="93" y="80"/>
                </a:lnTo>
                <a:lnTo>
                  <a:pt x="101" y="76"/>
                </a:lnTo>
                <a:lnTo>
                  <a:pt x="104" y="76"/>
                </a:lnTo>
                <a:lnTo>
                  <a:pt x="106" y="74"/>
                </a:lnTo>
                <a:lnTo>
                  <a:pt x="153" y="53"/>
                </a:lnTo>
                <a:lnTo>
                  <a:pt x="154" y="48"/>
                </a:lnTo>
                <a:lnTo>
                  <a:pt x="155" y="44"/>
                </a:lnTo>
                <a:lnTo>
                  <a:pt x="156" y="42"/>
                </a:lnTo>
                <a:lnTo>
                  <a:pt x="167" y="23"/>
                </a:lnTo>
                <a:lnTo>
                  <a:pt x="169" y="11"/>
                </a:lnTo>
                <a:lnTo>
                  <a:pt x="184" y="0"/>
                </a:lnTo>
                <a:lnTo>
                  <a:pt x="195" y="34"/>
                </a:lnTo>
                <a:lnTo>
                  <a:pt x="205" y="30"/>
                </a:lnTo>
                <a:lnTo>
                  <a:pt x="206" y="44"/>
                </a:lnTo>
                <a:lnTo>
                  <a:pt x="197" y="59"/>
                </a:lnTo>
                <a:lnTo>
                  <a:pt x="188" y="95"/>
                </a:lnTo>
                <a:lnTo>
                  <a:pt x="186" y="92"/>
                </a:lnTo>
                <a:lnTo>
                  <a:pt x="187" y="105"/>
                </a:lnTo>
                <a:lnTo>
                  <a:pt x="192" y="115"/>
                </a:lnTo>
                <a:lnTo>
                  <a:pt x="193" y="115"/>
                </a:lnTo>
                <a:lnTo>
                  <a:pt x="201" y="122"/>
                </a:lnTo>
                <a:lnTo>
                  <a:pt x="205" y="120"/>
                </a:lnTo>
                <a:lnTo>
                  <a:pt x="226" y="164"/>
                </a:lnTo>
                <a:lnTo>
                  <a:pt x="218" y="170"/>
                </a:lnTo>
                <a:lnTo>
                  <a:pt x="225" y="178"/>
                </a:lnTo>
                <a:lnTo>
                  <a:pt x="229" y="174"/>
                </a:lnTo>
                <a:lnTo>
                  <a:pt x="236" y="200"/>
                </a:lnTo>
                <a:lnTo>
                  <a:pt x="240" y="206"/>
                </a:lnTo>
                <a:lnTo>
                  <a:pt x="261" y="206"/>
                </a:lnTo>
                <a:lnTo>
                  <a:pt x="275" y="185"/>
                </a:lnTo>
                <a:lnTo>
                  <a:pt x="274" y="166"/>
                </a:lnTo>
                <a:lnTo>
                  <a:pt x="270" y="166"/>
                </a:lnTo>
                <a:lnTo>
                  <a:pt x="260" y="132"/>
                </a:lnTo>
                <a:lnTo>
                  <a:pt x="271" y="143"/>
                </a:lnTo>
                <a:lnTo>
                  <a:pt x="286" y="200"/>
                </a:lnTo>
                <a:lnTo>
                  <a:pt x="285" y="231"/>
                </a:lnTo>
                <a:lnTo>
                  <a:pt x="284" y="208"/>
                </a:lnTo>
                <a:lnTo>
                  <a:pt x="281" y="206"/>
                </a:lnTo>
                <a:lnTo>
                  <a:pt x="254" y="233"/>
                </a:lnTo>
                <a:lnTo>
                  <a:pt x="246" y="250"/>
                </a:lnTo>
                <a:lnTo>
                  <a:pt x="237" y="258"/>
                </a:lnTo>
                <a:lnTo>
                  <a:pt x="234" y="264"/>
                </a:lnTo>
                <a:lnTo>
                  <a:pt x="216" y="296"/>
                </a:lnTo>
                <a:lnTo>
                  <a:pt x="217" y="288"/>
                </a:lnTo>
                <a:lnTo>
                  <a:pt x="232" y="264"/>
                </a:lnTo>
                <a:lnTo>
                  <a:pt x="233" y="241"/>
                </a:lnTo>
                <a:lnTo>
                  <a:pt x="230" y="231"/>
                </a:lnTo>
                <a:lnTo>
                  <a:pt x="229" y="229"/>
                </a:lnTo>
                <a:close/>
              </a:path>
            </a:pathLst>
          </a:custGeom>
          <a:solidFill>
            <a:srgbClr val="0000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24680" y="2610000"/>
            <a:ext cx="47880" cy="34920"/>
          </a:xfrm>
          <a:custGeom>
            <a:avLst/>
            <a:gdLst/>
            <a:ahLst/>
            <a:rect l="l" t="t" r="r" b="b"/>
            <a:pathLst>
              <a:path w="30" h="44">
                <a:moveTo>
                  <a:pt x="0" y="37"/>
                </a:moveTo>
                <a:lnTo>
                  <a:pt x="6" y="44"/>
                </a:lnTo>
                <a:lnTo>
                  <a:pt x="8" y="37"/>
                </a:lnTo>
                <a:lnTo>
                  <a:pt x="30" y="21"/>
                </a:lnTo>
                <a:lnTo>
                  <a:pt x="26" y="10"/>
                </a:lnTo>
                <a:lnTo>
                  <a:pt x="15" y="0"/>
                </a:lnTo>
                <a:lnTo>
                  <a:pt x="6" y="29"/>
                </a:lnTo>
                <a:lnTo>
                  <a:pt x="0" y="37"/>
                </a:lnTo>
                <a:close/>
              </a:path>
            </a:pathLst>
          </a:custGeom>
          <a:solidFill>
            <a:srgbClr val="0000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94520" y="2606760"/>
            <a:ext cx="36720" cy="25200"/>
          </a:xfrm>
          <a:custGeom>
            <a:avLst/>
            <a:gdLst/>
            <a:ahLst/>
            <a:rect l="l" t="t" r="r" b="b"/>
            <a:pathLst>
              <a:path w="23" h="30">
                <a:moveTo>
                  <a:pt x="0" y="24"/>
                </a:moveTo>
                <a:lnTo>
                  <a:pt x="2" y="28"/>
                </a:lnTo>
                <a:lnTo>
                  <a:pt x="17" y="30"/>
                </a:lnTo>
                <a:lnTo>
                  <a:pt x="23" y="13"/>
                </a:lnTo>
                <a:lnTo>
                  <a:pt x="21" y="9"/>
                </a:lnTo>
                <a:lnTo>
                  <a:pt x="16" y="0"/>
                </a:lnTo>
                <a:lnTo>
                  <a:pt x="18" y="11"/>
                </a:lnTo>
                <a:lnTo>
                  <a:pt x="16" y="19"/>
                </a:lnTo>
                <a:lnTo>
                  <a:pt x="6" y="26"/>
                </a:lnTo>
                <a:lnTo>
                  <a:pt x="0" y="24"/>
                </a:lnTo>
                <a:close/>
              </a:path>
            </a:pathLst>
          </a:custGeom>
          <a:solidFill>
            <a:srgbClr val="0000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39200" y="2025720"/>
            <a:ext cx="223560" cy="444600"/>
          </a:xfrm>
          <a:custGeom>
            <a:avLst/>
            <a:gdLst/>
            <a:ahLst/>
            <a:rect l="l" t="t" r="r" b="b"/>
            <a:pathLst>
              <a:path w="141" h="562">
                <a:moveTo>
                  <a:pt x="3" y="384"/>
                </a:moveTo>
                <a:lnTo>
                  <a:pt x="2" y="378"/>
                </a:lnTo>
                <a:lnTo>
                  <a:pt x="5" y="353"/>
                </a:lnTo>
                <a:lnTo>
                  <a:pt x="8" y="346"/>
                </a:lnTo>
                <a:lnTo>
                  <a:pt x="9" y="296"/>
                </a:lnTo>
                <a:lnTo>
                  <a:pt x="11" y="269"/>
                </a:lnTo>
                <a:lnTo>
                  <a:pt x="10" y="262"/>
                </a:lnTo>
                <a:lnTo>
                  <a:pt x="6" y="245"/>
                </a:lnTo>
                <a:lnTo>
                  <a:pt x="8" y="227"/>
                </a:lnTo>
                <a:lnTo>
                  <a:pt x="20" y="218"/>
                </a:lnTo>
                <a:lnTo>
                  <a:pt x="21" y="210"/>
                </a:lnTo>
                <a:lnTo>
                  <a:pt x="23" y="203"/>
                </a:lnTo>
                <a:lnTo>
                  <a:pt x="34" y="178"/>
                </a:lnTo>
                <a:lnTo>
                  <a:pt x="24" y="130"/>
                </a:lnTo>
                <a:lnTo>
                  <a:pt x="29" y="92"/>
                </a:lnTo>
                <a:lnTo>
                  <a:pt x="26" y="73"/>
                </a:lnTo>
                <a:lnTo>
                  <a:pt x="24" y="27"/>
                </a:lnTo>
                <a:lnTo>
                  <a:pt x="38" y="13"/>
                </a:lnTo>
                <a:lnTo>
                  <a:pt x="39" y="15"/>
                </a:lnTo>
                <a:lnTo>
                  <a:pt x="47" y="12"/>
                </a:lnTo>
                <a:lnTo>
                  <a:pt x="48" y="0"/>
                </a:lnTo>
                <a:lnTo>
                  <a:pt x="51" y="10"/>
                </a:lnTo>
                <a:lnTo>
                  <a:pt x="52" y="19"/>
                </a:lnTo>
                <a:lnTo>
                  <a:pt x="68" y="107"/>
                </a:lnTo>
                <a:lnTo>
                  <a:pt x="83" y="199"/>
                </a:lnTo>
                <a:lnTo>
                  <a:pt x="84" y="204"/>
                </a:lnTo>
                <a:lnTo>
                  <a:pt x="92" y="254"/>
                </a:lnTo>
                <a:lnTo>
                  <a:pt x="99" y="294"/>
                </a:lnTo>
                <a:lnTo>
                  <a:pt x="101" y="304"/>
                </a:lnTo>
                <a:lnTo>
                  <a:pt x="108" y="344"/>
                </a:lnTo>
                <a:lnTo>
                  <a:pt x="114" y="382"/>
                </a:lnTo>
                <a:lnTo>
                  <a:pt x="126" y="397"/>
                </a:lnTo>
                <a:lnTo>
                  <a:pt x="131" y="420"/>
                </a:lnTo>
                <a:lnTo>
                  <a:pt x="137" y="426"/>
                </a:lnTo>
                <a:lnTo>
                  <a:pt x="138" y="426"/>
                </a:lnTo>
                <a:lnTo>
                  <a:pt x="141" y="430"/>
                </a:lnTo>
                <a:lnTo>
                  <a:pt x="139" y="460"/>
                </a:lnTo>
                <a:lnTo>
                  <a:pt x="138" y="470"/>
                </a:lnTo>
                <a:lnTo>
                  <a:pt x="123" y="481"/>
                </a:lnTo>
                <a:lnTo>
                  <a:pt x="121" y="493"/>
                </a:lnTo>
                <a:lnTo>
                  <a:pt x="110" y="512"/>
                </a:lnTo>
                <a:lnTo>
                  <a:pt x="109" y="514"/>
                </a:lnTo>
                <a:lnTo>
                  <a:pt x="108" y="518"/>
                </a:lnTo>
                <a:lnTo>
                  <a:pt x="107" y="523"/>
                </a:lnTo>
                <a:lnTo>
                  <a:pt x="60" y="544"/>
                </a:lnTo>
                <a:lnTo>
                  <a:pt x="58" y="546"/>
                </a:lnTo>
                <a:lnTo>
                  <a:pt x="55" y="546"/>
                </a:lnTo>
                <a:lnTo>
                  <a:pt x="47" y="550"/>
                </a:lnTo>
                <a:lnTo>
                  <a:pt x="31" y="558"/>
                </a:lnTo>
                <a:lnTo>
                  <a:pt x="26" y="560"/>
                </a:lnTo>
                <a:lnTo>
                  <a:pt x="24" y="560"/>
                </a:lnTo>
                <a:lnTo>
                  <a:pt x="17" y="562"/>
                </a:lnTo>
                <a:lnTo>
                  <a:pt x="5" y="522"/>
                </a:lnTo>
                <a:lnTo>
                  <a:pt x="10" y="508"/>
                </a:lnTo>
                <a:lnTo>
                  <a:pt x="6" y="476"/>
                </a:lnTo>
                <a:lnTo>
                  <a:pt x="5" y="460"/>
                </a:lnTo>
                <a:lnTo>
                  <a:pt x="2" y="407"/>
                </a:lnTo>
                <a:lnTo>
                  <a:pt x="0" y="390"/>
                </a:lnTo>
                <a:lnTo>
                  <a:pt x="3" y="384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88160" y="2135160"/>
            <a:ext cx="1014480" cy="741240"/>
          </a:xfrm>
          <a:custGeom>
            <a:avLst/>
            <a:gdLst/>
            <a:ahLst/>
            <a:rect l="l" t="t" r="r" b="b"/>
            <a:pathLst>
              <a:path w="639" h="935">
                <a:moveTo>
                  <a:pt x="488" y="822"/>
                </a:moveTo>
                <a:lnTo>
                  <a:pt x="487" y="822"/>
                </a:lnTo>
                <a:lnTo>
                  <a:pt x="466" y="810"/>
                </a:lnTo>
                <a:lnTo>
                  <a:pt x="460" y="807"/>
                </a:lnTo>
                <a:lnTo>
                  <a:pt x="459" y="805"/>
                </a:lnTo>
                <a:lnTo>
                  <a:pt x="458" y="805"/>
                </a:lnTo>
                <a:lnTo>
                  <a:pt x="455" y="803"/>
                </a:lnTo>
                <a:lnTo>
                  <a:pt x="449" y="799"/>
                </a:lnTo>
                <a:lnTo>
                  <a:pt x="446" y="797"/>
                </a:lnTo>
                <a:lnTo>
                  <a:pt x="436" y="791"/>
                </a:lnTo>
                <a:lnTo>
                  <a:pt x="429" y="786"/>
                </a:lnTo>
                <a:lnTo>
                  <a:pt x="416" y="778"/>
                </a:lnTo>
                <a:lnTo>
                  <a:pt x="414" y="774"/>
                </a:lnTo>
                <a:lnTo>
                  <a:pt x="410" y="766"/>
                </a:lnTo>
                <a:lnTo>
                  <a:pt x="409" y="766"/>
                </a:lnTo>
                <a:lnTo>
                  <a:pt x="400" y="766"/>
                </a:lnTo>
                <a:lnTo>
                  <a:pt x="388" y="759"/>
                </a:lnTo>
                <a:lnTo>
                  <a:pt x="381" y="742"/>
                </a:lnTo>
                <a:lnTo>
                  <a:pt x="382" y="736"/>
                </a:lnTo>
                <a:lnTo>
                  <a:pt x="378" y="711"/>
                </a:lnTo>
                <a:lnTo>
                  <a:pt x="369" y="694"/>
                </a:lnTo>
                <a:lnTo>
                  <a:pt x="367" y="692"/>
                </a:lnTo>
                <a:lnTo>
                  <a:pt x="360" y="696"/>
                </a:lnTo>
                <a:lnTo>
                  <a:pt x="348" y="671"/>
                </a:lnTo>
                <a:lnTo>
                  <a:pt x="347" y="671"/>
                </a:lnTo>
                <a:lnTo>
                  <a:pt x="339" y="677"/>
                </a:lnTo>
                <a:lnTo>
                  <a:pt x="315" y="686"/>
                </a:lnTo>
                <a:lnTo>
                  <a:pt x="299" y="692"/>
                </a:lnTo>
                <a:lnTo>
                  <a:pt x="291" y="696"/>
                </a:lnTo>
                <a:lnTo>
                  <a:pt x="289" y="698"/>
                </a:lnTo>
                <a:lnTo>
                  <a:pt x="288" y="698"/>
                </a:lnTo>
                <a:lnTo>
                  <a:pt x="280" y="701"/>
                </a:lnTo>
                <a:lnTo>
                  <a:pt x="270" y="705"/>
                </a:lnTo>
                <a:lnTo>
                  <a:pt x="256" y="711"/>
                </a:lnTo>
                <a:lnTo>
                  <a:pt x="237" y="717"/>
                </a:lnTo>
                <a:lnTo>
                  <a:pt x="230" y="721"/>
                </a:lnTo>
                <a:lnTo>
                  <a:pt x="226" y="722"/>
                </a:lnTo>
                <a:lnTo>
                  <a:pt x="223" y="722"/>
                </a:lnTo>
                <a:lnTo>
                  <a:pt x="214" y="726"/>
                </a:lnTo>
                <a:lnTo>
                  <a:pt x="182" y="740"/>
                </a:lnTo>
                <a:lnTo>
                  <a:pt x="173" y="744"/>
                </a:lnTo>
                <a:lnTo>
                  <a:pt x="172" y="744"/>
                </a:lnTo>
                <a:lnTo>
                  <a:pt x="166" y="745"/>
                </a:lnTo>
                <a:lnTo>
                  <a:pt x="163" y="747"/>
                </a:lnTo>
                <a:lnTo>
                  <a:pt x="151" y="753"/>
                </a:lnTo>
                <a:lnTo>
                  <a:pt x="134" y="759"/>
                </a:lnTo>
                <a:lnTo>
                  <a:pt x="127" y="761"/>
                </a:lnTo>
                <a:lnTo>
                  <a:pt x="124" y="763"/>
                </a:lnTo>
                <a:lnTo>
                  <a:pt x="119" y="765"/>
                </a:lnTo>
                <a:lnTo>
                  <a:pt x="95" y="772"/>
                </a:lnTo>
                <a:lnTo>
                  <a:pt x="77" y="780"/>
                </a:lnTo>
                <a:lnTo>
                  <a:pt x="72" y="782"/>
                </a:lnTo>
                <a:lnTo>
                  <a:pt x="67" y="784"/>
                </a:lnTo>
                <a:lnTo>
                  <a:pt x="66" y="784"/>
                </a:lnTo>
                <a:lnTo>
                  <a:pt x="61" y="786"/>
                </a:lnTo>
                <a:lnTo>
                  <a:pt x="51" y="789"/>
                </a:lnTo>
                <a:lnTo>
                  <a:pt x="28" y="797"/>
                </a:lnTo>
                <a:lnTo>
                  <a:pt x="17" y="801"/>
                </a:lnTo>
                <a:lnTo>
                  <a:pt x="14" y="803"/>
                </a:lnTo>
                <a:lnTo>
                  <a:pt x="5" y="805"/>
                </a:lnTo>
                <a:lnTo>
                  <a:pt x="0" y="749"/>
                </a:lnTo>
                <a:lnTo>
                  <a:pt x="10" y="734"/>
                </a:lnTo>
                <a:lnTo>
                  <a:pt x="30" y="692"/>
                </a:lnTo>
                <a:lnTo>
                  <a:pt x="43" y="673"/>
                </a:lnTo>
                <a:lnTo>
                  <a:pt x="50" y="640"/>
                </a:lnTo>
                <a:lnTo>
                  <a:pt x="58" y="629"/>
                </a:lnTo>
                <a:lnTo>
                  <a:pt x="52" y="591"/>
                </a:lnTo>
                <a:lnTo>
                  <a:pt x="44" y="585"/>
                </a:lnTo>
                <a:lnTo>
                  <a:pt x="42" y="568"/>
                </a:lnTo>
                <a:lnTo>
                  <a:pt x="38" y="560"/>
                </a:lnTo>
                <a:lnTo>
                  <a:pt x="34" y="530"/>
                </a:lnTo>
                <a:lnTo>
                  <a:pt x="79" y="491"/>
                </a:lnTo>
                <a:lnTo>
                  <a:pt x="104" y="482"/>
                </a:lnTo>
                <a:lnTo>
                  <a:pt x="115" y="480"/>
                </a:lnTo>
                <a:lnTo>
                  <a:pt x="134" y="478"/>
                </a:lnTo>
                <a:lnTo>
                  <a:pt x="152" y="491"/>
                </a:lnTo>
                <a:lnTo>
                  <a:pt x="164" y="478"/>
                </a:lnTo>
                <a:lnTo>
                  <a:pt x="182" y="470"/>
                </a:lnTo>
                <a:lnTo>
                  <a:pt x="192" y="468"/>
                </a:lnTo>
                <a:lnTo>
                  <a:pt x="212" y="446"/>
                </a:lnTo>
                <a:lnTo>
                  <a:pt x="216" y="438"/>
                </a:lnTo>
                <a:lnTo>
                  <a:pt x="218" y="426"/>
                </a:lnTo>
                <a:lnTo>
                  <a:pt x="229" y="405"/>
                </a:lnTo>
                <a:lnTo>
                  <a:pt x="244" y="394"/>
                </a:lnTo>
                <a:lnTo>
                  <a:pt x="246" y="373"/>
                </a:lnTo>
                <a:lnTo>
                  <a:pt x="244" y="361"/>
                </a:lnTo>
                <a:lnTo>
                  <a:pt x="239" y="337"/>
                </a:lnTo>
                <a:lnTo>
                  <a:pt x="235" y="335"/>
                </a:lnTo>
                <a:lnTo>
                  <a:pt x="234" y="325"/>
                </a:lnTo>
                <a:lnTo>
                  <a:pt x="239" y="325"/>
                </a:lnTo>
                <a:lnTo>
                  <a:pt x="244" y="314"/>
                </a:lnTo>
                <a:lnTo>
                  <a:pt x="234" y="304"/>
                </a:lnTo>
                <a:lnTo>
                  <a:pt x="232" y="308"/>
                </a:lnTo>
                <a:lnTo>
                  <a:pt x="232" y="300"/>
                </a:lnTo>
                <a:lnTo>
                  <a:pt x="222" y="295"/>
                </a:lnTo>
                <a:lnTo>
                  <a:pt x="224" y="260"/>
                </a:lnTo>
                <a:lnTo>
                  <a:pt x="234" y="249"/>
                </a:lnTo>
                <a:lnTo>
                  <a:pt x="233" y="239"/>
                </a:lnTo>
                <a:lnTo>
                  <a:pt x="251" y="211"/>
                </a:lnTo>
                <a:lnTo>
                  <a:pt x="254" y="207"/>
                </a:lnTo>
                <a:lnTo>
                  <a:pt x="256" y="191"/>
                </a:lnTo>
                <a:lnTo>
                  <a:pt x="285" y="102"/>
                </a:lnTo>
                <a:lnTo>
                  <a:pt x="296" y="85"/>
                </a:lnTo>
                <a:lnTo>
                  <a:pt x="296" y="81"/>
                </a:lnTo>
                <a:lnTo>
                  <a:pt x="314" y="54"/>
                </a:lnTo>
                <a:lnTo>
                  <a:pt x="324" y="52"/>
                </a:lnTo>
                <a:lnTo>
                  <a:pt x="324" y="50"/>
                </a:lnTo>
                <a:lnTo>
                  <a:pt x="326" y="48"/>
                </a:lnTo>
                <a:lnTo>
                  <a:pt x="376" y="27"/>
                </a:lnTo>
                <a:lnTo>
                  <a:pt x="378" y="27"/>
                </a:lnTo>
                <a:lnTo>
                  <a:pt x="405" y="12"/>
                </a:lnTo>
                <a:lnTo>
                  <a:pt x="426" y="0"/>
                </a:lnTo>
                <a:lnTo>
                  <a:pt x="427" y="31"/>
                </a:lnTo>
                <a:lnTo>
                  <a:pt x="435" y="88"/>
                </a:lnTo>
                <a:lnTo>
                  <a:pt x="436" y="90"/>
                </a:lnTo>
                <a:lnTo>
                  <a:pt x="438" y="92"/>
                </a:lnTo>
                <a:lnTo>
                  <a:pt x="438" y="94"/>
                </a:lnTo>
                <a:lnTo>
                  <a:pt x="443" y="102"/>
                </a:lnTo>
                <a:lnTo>
                  <a:pt x="448" y="148"/>
                </a:lnTo>
                <a:lnTo>
                  <a:pt x="444" y="165"/>
                </a:lnTo>
                <a:lnTo>
                  <a:pt x="444" y="190"/>
                </a:lnTo>
                <a:lnTo>
                  <a:pt x="455" y="241"/>
                </a:lnTo>
                <a:lnTo>
                  <a:pt x="456" y="243"/>
                </a:lnTo>
                <a:lnTo>
                  <a:pt x="458" y="253"/>
                </a:lnTo>
                <a:lnTo>
                  <a:pt x="457" y="279"/>
                </a:lnTo>
                <a:lnTo>
                  <a:pt x="466" y="276"/>
                </a:lnTo>
                <a:lnTo>
                  <a:pt x="477" y="335"/>
                </a:lnTo>
                <a:lnTo>
                  <a:pt x="479" y="348"/>
                </a:lnTo>
                <a:lnTo>
                  <a:pt x="482" y="373"/>
                </a:lnTo>
                <a:lnTo>
                  <a:pt x="486" y="409"/>
                </a:lnTo>
                <a:lnTo>
                  <a:pt x="488" y="432"/>
                </a:lnTo>
                <a:lnTo>
                  <a:pt x="490" y="449"/>
                </a:lnTo>
                <a:lnTo>
                  <a:pt x="491" y="449"/>
                </a:lnTo>
                <a:lnTo>
                  <a:pt x="491" y="463"/>
                </a:lnTo>
                <a:lnTo>
                  <a:pt x="491" y="474"/>
                </a:lnTo>
                <a:lnTo>
                  <a:pt x="491" y="499"/>
                </a:lnTo>
                <a:lnTo>
                  <a:pt x="490" y="581"/>
                </a:lnTo>
                <a:lnTo>
                  <a:pt x="490" y="591"/>
                </a:lnTo>
                <a:lnTo>
                  <a:pt x="492" y="596"/>
                </a:lnTo>
                <a:lnTo>
                  <a:pt x="494" y="606"/>
                </a:lnTo>
                <a:lnTo>
                  <a:pt x="498" y="658"/>
                </a:lnTo>
                <a:lnTo>
                  <a:pt x="500" y="675"/>
                </a:lnTo>
                <a:lnTo>
                  <a:pt x="501" y="682"/>
                </a:lnTo>
                <a:lnTo>
                  <a:pt x="501" y="686"/>
                </a:lnTo>
                <a:lnTo>
                  <a:pt x="503" y="703"/>
                </a:lnTo>
                <a:lnTo>
                  <a:pt x="504" y="721"/>
                </a:lnTo>
                <a:lnTo>
                  <a:pt x="505" y="726"/>
                </a:lnTo>
                <a:lnTo>
                  <a:pt x="506" y="736"/>
                </a:lnTo>
                <a:lnTo>
                  <a:pt x="514" y="765"/>
                </a:lnTo>
                <a:lnTo>
                  <a:pt x="498" y="795"/>
                </a:lnTo>
                <a:lnTo>
                  <a:pt x="507" y="816"/>
                </a:lnTo>
                <a:lnTo>
                  <a:pt x="501" y="833"/>
                </a:lnTo>
                <a:lnTo>
                  <a:pt x="501" y="841"/>
                </a:lnTo>
                <a:lnTo>
                  <a:pt x="500" y="843"/>
                </a:lnTo>
                <a:lnTo>
                  <a:pt x="501" y="845"/>
                </a:lnTo>
                <a:lnTo>
                  <a:pt x="502" y="849"/>
                </a:lnTo>
                <a:lnTo>
                  <a:pt x="510" y="837"/>
                </a:lnTo>
                <a:lnTo>
                  <a:pt x="511" y="831"/>
                </a:lnTo>
                <a:lnTo>
                  <a:pt x="521" y="824"/>
                </a:lnTo>
                <a:lnTo>
                  <a:pt x="529" y="814"/>
                </a:lnTo>
                <a:lnTo>
                  <a:pt x="540" y="816"/>
                </a:lnTo>
                <a:lnTo>
                  <a:pt x="549" y="799"/>
                </a:lnTo>
                <a:lnTo>
                  <a:pt x="586" y="780"/>
                </a:lnTo>
                <a:lnTo>
                  <a:pt x="604" y="740"/>
                </a:lnTo>
                <a:lnTo>
                  <a:pt x="613" y="726"/>
                </a:lnTo>
                <a:lnTo>
                  <a:pt x="610" y="736"/>
                </a:lnTo>
                <a:lnTo>
                  <a:pt x="615" y="751"/>
                </a:lnTo>
                <a:lnTo>
                  <a:pt x="626" y="755"/>
                </a:lnTo>
                <a:lnTo>
                  <a:pt x="637" y="736"/>
                </a:lnTo>
                <a:lnTo>
                  <a:pt x="639" y="742"/>
                </a:lnTo>
                <a:lnTo>
                  <a:pt x="618" y="776"/>
                </a:lnTo>
                <a:lnTo>
                  <a:pt x="548" y="873"/>
                </a:lnTo>
                <a:lnTo>
                  <a:pt x="535" y="883"/>
                </a:lnTo>
                <a:lnTo>
                  <a:pt x="520" y="894"/>
                </a:lnTo>
                <a:lnTo>
                  <a:pt x="509" y="900"/>
                </a:lnTo>
                <a:lnTo>
                  <a:pt x="500" y="908"/>
                </a:lnTo>
                <a:lnTo>
                  <a:pt x="496" y="914"/>
                </a:lnTo>
                <a:lnTo>
                  <a:pt x="496" y="910"/>
                </a:lnTo>
                <a:lnTo>
                  <a:pt x="491" y="912"/>
                </a:lnTo>
                <a:lnTo>
                  <a:pt x="486" y="906"/>
                </a:lnTo>
                <a:lnTo>
                  <a:pt x="481" y="921"/>
                </a:lnTo>
                <a:lnTo>
                  <a:pt x="473" y="935"/>
                </a:lnTo>
                <a:lnTo>
                  <a:pt x="472" y="935"/>
                </a:lnTo>
                <a:lnTo>
                  <a:pt x="472" y="931"/>
                </a:lnTo>
                <a:lnTo>
                  <a:pt x="472" y="927"/>
                </a:lnTo>
                <a:lnTo>
                  <a:pt x="474" y="914"/>
                </a:lnTo>
                <a:lnTo>
                  <a:pt x="473" y="910"/>
                </a:lnTo>
                <a:lnTo>
                  <a:pt x="473" y="906"/>
                </a:lnTo>
                <a:lnTo>
                  <a:pt x="476" y="902"/>
                </a:lnTo>
                <a:lnTo>
                  <a:pt x="477" y="902"/>
                </a:lnTo>
                <a:lnTo>
                  <a:pt x="482" y="898"/>
                </a:lnTo>
                <a:lnTo>
                  <a:pt x="484" y="896"/>
                </a:lnTo>
                <a:lnTo>
                  <a:pt x="485" y="891"/>
                </a:lnTo>
                <a:lnTo>
                  <a:pt x="485" y="883"/>
                </a:lnTo>
                <a:lnTo>
                  <a:pt x="485" y="875"/>
                </a:lnTo>
                <a:lnTo>
                  <a:pt x="486" y="866"/>
                </a:lnTo>
                <a:lnTo>
                  <a:pt x="488" y="849"/>
                </a:lnTo>
                <a:lnTo>
                  <a:pt x="488" y="847"/>
                </a:lnTo>
                <a:lnTo>
                  <a:pt x="488" y="845"/>
                </a:lnTo>
                <a:lnTo>
                  <a:pt x="488" y="839"/>
                </a:lnTo>
                <a:lnTo>
                  <a:pt x="488" y="828"/>
                </a:lnTo>
                <a:lnTo>
                  <a:pt x="488" y="826"/>
                </a:lnTo>
                <a:lnTo>
                  <a:pt x="488" y="822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67360" y="4417920"/>
            <a:ext cx="766800" cy="642960"/>
          </a:xfrm>
          <a:custGeom>
            <a:avLst/>
            <a:gdLst/>
            <a:ahLst/>
            <a:rect l="l" t="t" r="r" b="b"/>
            <a:pathLst>
              <a:path w="483" h="812">
                <a:moveTo>
                  <a:pt x="270" y="413"/>
                </a:moveTo>
                <a:lnTo>
                  <a:pt x="280" y="413"/>
                </a:lnTo>
                <a:lnTo>
                  <a:pt x="286" y="411"/>
                </a:lnTo>
                <a:lnTo>
                  <a:pt x="301" y="409"/>
                </a:lnTo>
                <a:lnTo>
                  <a:pt x="308" y="409"/>
                </a:lnTo>
                <a:lnTo>
                  <a:pt x="312" y="407"/>
                </a:lnTo>
                <a:lnTo>
                  <a:pt x="325" y="405"/>
                </a:lnTo>
                <a:lnTo>
                  <a:pt x="327" y="405"/>
                </a:lnTo>
                <a:lnTo>
                  <a:pt x="331" y="405"/>
                </a:lnTo>
                <a:lnTo>
                  <a:pt x="342" y="403"/>
                </a:lnTo>
                <a:lnTo>
                  <a:pt x="345" y="403"/>
                </a:lnTo>
                <a:lnTo>
                  <a:pt x="353" y="401"/>
                </a:lnTo>
                <a:lnTo>
                  <a:pt x="354" y="401"/>
                </a:lnTo>
                <a:lnTo>
                  <a:pt x="365" y="399"/>
                </a:lnTo>
                <a:lnTo>
                  <a:pt x="392" y="396"/>
                </a:lnTo>
                <a:lnTo>
                  <a:pt x="400" y="394"/>
                </a:lnTo>
                <a:lnTo>
                  <a:pt x="400" y="396"/>
                </a:lnTo>
                <a:lnTo>
                  <a:pt x="402" y="394"/>
                </a:lnTo>
                <a:lnTo>
                  <a:pt x="400" y="411"/>
                </a:lnTo>
                <a:lnTo>
                  <a:pt x="395" y="447"/>
                </a:lnTo>
                <a:lnTo>
                  <a:pt x="394" y="464"/>
                </a:lnTo>
                <a:lnTo>
                  <a:pt x="404" y="499"/>
                </a:lnTo>
                <a:lnTo>
                  <a:pt x="404" y="497"/>
                </a:lnTo>
                <a:lnTo>
                  <a:pt x="410" y="504"/>
                </a:lnTo>
                <a:lnTo>
                  <a:pt x="410" y="506"/>
                </a:lnTo>
                <a:lnTo>
                  <a:pt x="418" y="546"/>
                </a:lnTo>
                <a:lnTo>
                  <a:pt x="428" y="560"/>
                </a:lnTo>
                <a:lnTo>
                  <a:pt x="419" y="567"/>
                </a:lnTo>
                <a:lnTo>
                  <a:pt x="408" y="592"/>
                </a:lnTo>
                <a:lnTo>
                  <a:pt x="399" y="602"/>
                </a:lnTo>
                <a:lnTo>
                  <a:pt x="409" y="611"/>
                </a:lnTo>
                <a:lnTo>
                  <a:pt x="414" y="625"/>
                </a:lnTo>
                <a:lnTo>
                  <a:pt x="421" y="627"/>
                </a:lnTo>
                <a:lnTo>
                  <a:pt x="426" y="598"/>
                </a:lnTo>
                <a:lnTo>
                  <a:pt x="431" y="590"/>
                </a:lnTo>
                <a:lnTo>
                  <a:pt x="443" y="585"/>
                </a:lnTo>
                <a:lnTo>
                  <a:pt x="459" y="560"/>
                </a:lnTo>
                <a:lnTo>
                  <a:pt x="460" y="606"/>
                </a:lnTo>
                <a:lnTo>
                  <a:pt x="455" y="611"/>
                </a:lnTo>
                <a:lnTo>
                  <a:pt x="456" y="621"/>
                </a:lnTo>
                <a:lnTo>
                  <a:pt x="442" y="648"/>
                </a:lnTo>
                <a:lnTo>
                  <a:pt x="440" y="665"/>
                </a:lnTo>
                <a:lnTo>
                  <a:pt x="434" y="655"/>
                </a:lnTo>
                <a:lnTo>
                  <a:pt x="435" y="671"/>
                </a:lnTo>
                <a:lnTo>
                  <a:pt x="423" y="665"/>
                </a:lnTo>
                <a:lnTo>
                  <a:pt x="435" y="673"/>
                </a:lnTo>
                <a:lnTo>
                  <a:pt x="423" y="676"/>
                </a:lnTo>
                <a:lnTo>
                  <a:pt x="433" y="699"/>
                </a:lnTo>
                <a:lnTo>
                  <a:pt x="427" y="699"/>
                </a:lnTo>
                <a:lnTo>
                  <a:pt x="437" y="722"/>
                </a:lnTo>
                <a:lnTo>
                  <a:pt x="449" y="720"/>
                </a:lnTo>
                <a:lnTo>
                  <a:pt x="462" y="734"/>
                </a:lnTo>
                <a:lnTo>
                  <a:pt x="468" y="730"/>
                </a:lnTo>
                <a:lnTo>
                  <a:pt x="477" y="747"/>
                </a:lnTo>
                <a:lnTo>
                  <a:pt x="483" y="751"/>
                </a:lnTo>
                <a:lnTo>
                  <a:pt x="481" y="781"/>
                </a:lnTo>
                <a:lnTo>
                  <a:pt x="474" y="785"/>
                </a:lnTo>
                <a:lnTo>
                  <a:pt x="473" y="802"/>
                </a:lnTo>
                <a:lnTo>
                  <a:pt x="473" y="797"/>
                </a:lnTo>
                <a:lnTo>
                  <a:pt x="464" y="781"/>
                </a:lnTo>
                <a:lnTo>
                  <a:pt x="453" y="808"/>
                </a:lnTo>
                <a:lnTo>
                  <a:pt x="450" y="806"/>
                </a:lnTo>
                <a:lnTo>
                  <a:pt x="453" y="800"/>
                </a:lnTo>
                <a:lnTo>
                  <a:pt x="451" y="783"/>
                </a:lnTo>
                <a:lnTo>
                  <a:pt x="449" y="783"/>
                </a:lnTo>
                <a:lnTo>
                  <a:pt x="440" y="757"/>
                </a:lnTo>
                <a:lnTo>
                  <a:pt x="415" y="743"/>
                </a:lnTo>
                <a:lnTo>
                  <a:pt x="401" y="747"/>
                </a:lnTo>
                <a:lnTo>
                  <a:pt x="385" y="778"/>
                </a:lnTo>
                <a:lnTo>
                  <a:pt x="369" y="795"/>
                </a:lnTo>
                <a:lnTo>
                  <a:pt x="358" y="802"/>
                </a:lnTo>
                <a:lnTo>
                  <a:pt x="367" y="797"/>
                </a:lnTo>
                <a:lnTo>
                  <a:pt x="371" y="787"/>
                </a:lnTo>
                <a:lnTo>
                  <a:pt x="362" y="762"/>
                </a:lnTo>
                <a:lnTo>
                  <a:pt x="356" y="760"/>
                </a:lnTo>
                <a:lnTo>
                  <a:pt x="354" y="774"/>
                </a:lnTo>
                <a:lnTo>
                  <a:pt x="345" y="772"/>
                </a:lnTo>
                <a:lnTo>
                  <a:pt x="330" y="793"/>
                </a:lnTo>
                <a:lnTo>
                  <a:pt x="319" y="812"/>
                </a:lnTo>
                <a:lnTo>
                  <a:pt x="315" y="812"/>
                </a:lnTo>
                <a:lnTo>
                  <a:pt x="306" y="791"/>
                </a:lnTo>
                <a:lnTo>
                  <a:pt x="289" y="793"/>
                </a:lnTo>
                <a:lnTo>
                  <a:pt x="264" y="758"/>
                </a:lnTo>
                <a:lnTo>
                  <a:pt x="270" y="762"/>
                </a:lnTo>
                <a:lnTo>
                  <a:pt x="276" y="749"/>
                </a:lnTo>
                <a:lnTo>
                  <a:pt x="272" y="728"/>
                </a:lnTo>
                <a:lnTo>
                  <a:pt x="250" y="718"/>
                </a:lnTo>
                <a:lnTo>
                  <a:pt x="246" y="722"/>
                </a:lnTo>
                <a:lnTo>
                  <a:pt x="245" y="701"/>
                </a:lnTo>
                <a:lnTo>
                  <a:pt x="238" y="701"/>
                </a:lnTo>
                <a:lnTo>
                  <a:pt x="238" y="678"/>
                </a:lnTo>
                <a:lnTo>
                  <a:pt x="226" y="676"/>
                </a:lnTo>
                <a:lnTo>
                  <a:pt x="215" y="686"/>
                </a:lnTo>
                <a:lnTo>
                  <a:pt x="216" y="680"/>
                </a:lnTo>
                <a:lnTo>
                  <a:pt x="214" y="678"/>
                </a:lnTo>
                <a:lnTo>
                  <a:pt x="214" y="661"/>
                </a:lnTo>
                <a:lnTo>
                  <a:pt x="205" y="663"/>
                </a:lnTo>
                <a:lnTo>
                  <a:pt x="203" y="671"/>
                </a:lnTo>
                <a:lnTo>
                  <a:pt x="188" y="682"/>
                </a:lnTo>
                <a:lnTo>
                  <a:pt x="204" y="709"/>
                </a:lnTo>
                <a:lnTo>
                  <a:pt x="218" y="703"/>
                </a:lnTo>
                <a:lnTo>
                  <a:pt x="227" y="713"/>
                </a:lnTo>
                <a:lnTo>
                  <a:pt x="226" y="732"/>
                </a:lnTo>
                <a:lnTo>
                  <a:pt x="216" y="730"/>
                </a:lnTo>
                <a:lnTo>
                  <a:pt x="200" y="715"/>
                </a:lnTo>
                <a:lnTo>
                  <a:pt x="191" y="715"/>
                </a:lnTo>
                <a:lnTo>
                  <a:pt x="181" y="726"/>
                </a:lnTo>
                <a:lnTo>
                  <a:pt x="146" y="720"/>
                </a:lnTo>
                <a:lnTo>
                  <a:pt x="113" y="697"/>
                </a:lnTo>
                <a:lnTo>
                  <a:pt x="85" y="686"/>
                </a:lnTo>
                <a:lnTo>
                  <a:pt x="41" y="699"/>
                </a:lnTo>
                <a:lnTo>
                  <a:pt x="34" y="718"/>
                </a:lnTo>
                <a:lnTo>
                  <a:pt x="29" y="699"/>
                </a:lnTo>
                <a:lnTo>
                  <a:pt x="28" y="676"/>
                </a:lnTo>
                <a:lnTo>
                  <a:pt x="31" y="673"/>
                </a:lnTo>
                <a:lnTo>
                  <a:pt x="38" y="644"/>
                </a:lnTo>
                <a:lnTo>
                  <a:pt x="41" y="638"/>
                </a:lnTo>
                <a:lnTo>
                  <a:pt x="42" y="632"/>
                </a:lnTo>
                <a:lnTo>
                  <a:pt x="44" y="617"/>
                </a:lnTo>
                <a:lnTo>
                  <a:pt x="42" y="592"/>
                </a:lnTo>
                <a:lnTo>
                  <a:pt x="38" y="579"/>
                </a:lnTo>
                <a:lnTo>
                  <a:pt x="38" y="562"/>
                </a:lnTo>
                <a:lnTo>
                  <a:pt x="39" y="562"/>
                </a:lnTo>
                <a:lnTo>
                  <a:pt x="41" y="541"/>
                </a:lnTo>
                <a:lnTo>
                  <a:pt x="49" y="487"/>
                </a:lnTo>
                <a:lnTo>
                  <a:pt x="53" y="462"/>
                </a:lnTo>
                <a:lnTo>
                  <a:pt x="51" y="436"/>
                </a:lnTo>
                <a:lnTo>
                  <a:pt x="52" y="397"/>
                </a:lnTo>
                <a:lnTo>
                  <a:pt x="48" y="399"/>
                </a:lnTo>
                <a:lnTo>
                  <a:pt x="33" y="338"/>
                </a:lnTo>
                <a:lnTo>
                  <a:pt x="35" y="334"/>
                </a:lnTo>
                <a:lnTo>
                  <a:pt x="25" y="317"/>
                </a:lnTo>
                <a:lnTo>
                  <a:pt x="24" y="283"/>
                </a:lnTo>
                <a:lnTo>
                  <a:pt x="19" y="264"/>
                </a:lnTo>
                <a:lnTo>
                  <a:pt x="20" y="264"/>
                </a:lnTo>
                <a:lnTo>
                  <a:pt x="8" y="241"/>
                </a:lnTo>
                <a:lnTo>
                  <a:pt x="8" y="239"/>
                </a:lnTo>
                <a:lnTo>
                  <a:pt x="7" y="237"/>
                </a:lnTo>
                <a:lnTo>
                  <a:pt x="7" y="235"/>
                </a:lnTo>
                <a:lnTo>
                  <a:pt x="4" y="233"/>
                </a:lnTo>
                <a:lnTo>
                  <a:pt x="3" y="193"/>
                </a:lnTo>
                <a:lnTo>
                  <a:pt x="3" y="182"/>
                </a:lnTo>
                <a:lnTo>
                  <a:pt x="3" y="155"/>
                </a:lnTo>
                <a:lnTo>
                  <a:pt x="3" y="153"/>
                </a:lnTo>
                <a:lnTo>
                  <a:pt x="2" y="130"/>
                </a:lnTo>
                <a:lnTo>
                  <a:pt x="2" y="103"/>
                </a:lnTo>
                <a:lnTo>
                  <a:pt x="1" y="90"/>
                </a:lnTo>
                <a:lnTo>
                  <a:pt x="1" y="80"/>
                </a:lnTo>
                <a:lnTo>
                  <a:pt x="1" y="78"/>
                </a:lnTo>
                <a:lnTo>
                  <a:pt x="1" y="52"/>
                </a:lnTo>
                <a:lnTo>
                  <a:pt x="0" y="27"/>
                </a:lnTo>
                <a:lnTo>
                  <a:pt x="0" y="23"/>
                </a:lnTo>
                <a:lnTo>
                  <a:pt x="4" y="23"/>
                </a:lnTo>
                <a:lnTo>
                  <a:pt x="10" y="21"/>
                </a:lnTo>
                <a:lnTo>
                  <a:pt x="21" y="21"/>
                </a:lnTo>
                <a:lnTo>
                  <a:pt x="32" y="19"/>
                </a:lnTo>
                <a:lnTo>
                  <a:pt x="33" y="19"/>
                </a:lnTo>
                <a:lnTo>
                  <a:pt x="46" y="19"/>
                </a:lnTo>
                <a:lnTo>
                  <a:pt x="48" y="19"/>
                </a:lnTo>
                <a:lnTo>
                  <a:pt x="49" y="19"/>
                </a:lnTo>
                <a:lnTo>
                  <a:pt x="63" y="17"/>
                </a:lnTo>
                <a:lnTo>
                  <a:pt x="70" y="17"/>
                </a:lnTo>
                <a:lnTo>
                  <a:pt x="71" y="17"/>
                </a:lnTo>
                <a:lnTo>
                  <a:pt x="73" y="17"/>
                </a:lnTo>
                <a:lnTo>
                  <a:pt x="76" y="17"/>
                </a:lnTo>
                <a:lnTo>
                  <a:pt x="93" y="15"/>
                </a:lnTo>
                <a:lnTo>
                  <a:pt x="109" y="14"/>
                </a:lnTo>
                <a:lnTo>
                  <a:pt x="110" y="14"/>
                </a:lnTo>
                <a:lnTo>
                  <a:pt x="117" y="14"/>
                </a:lnTo>
                <a:lnTo>
                  <a:pt x="137" y="12"/>
                </a:lnTo>
                <a:lnTo>
                  <a:pt x="166" y="10"/>
                </a:lnTo>
                <a:lnTo>
                  <a:pt x="175" y="8"/>
                </a:lnTo>
                <a:lnTo>
                  <a:pt x="219" y="4"/>
                </a:lnTo>
                <a:lnTo>
                  <a:pt x="230" y="2"/>
                </a:lnTo>
                <a:lnTo>
                  <a:pt x="232" y="2"/>
                </a:lnTo>
                <a:lnTo>
                  <a:pt x="234" y="2"/>
                </a:lnTo>
                <a:lnTo>
                  <a:pt x="235" y="2"/>
                </a:lnTo>
                <a:lnTo>
                  <a:pt x="247" y="0"/>
                </a:ln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63" y="86"/>
                </a:lnTo>
                <a:lnTo>
                  <a:pt x="273" y="77"/>
                </a:lnTo>
                <a:lnTo>
                  <a:pt x="270" y="86"/>
                </a:lnTo>
                <a:lnTo>
                  <a:pt x="268" y="90"/>
                </a:lnTo>
                <a:lnTo>
                  <a:pt x="275" y="105"/>
                </a:lnTo>
                <a:lnTo>
                  <a:pt x="264" y="103"/>
                </a:lnTo>
                <a:lnTo>
                  <a:pt x="275" y="113"/>
                </a:lnTo>
                <a:lnTo>
                  <a:pt x="277" y="166"/>
                </a:lnTo>
                <a:lnTo>
                  <a:pt x="266" y="163"/>
                </a:lnTo>
                <a:lnTo>
                  <a:pt x="266" y="180"/>
                </a:lnTo>
                <a:lnTo>
                  <a:pt x="272" y="180"/>
                </a:lnTo>
                <a:lnTo>
                  <a:pt x="273" y="180"/>
                </a:lnTo>
                <a:lnTo>
                  <a:pt x="276" y="180"/>
                </a:lnTo>
                <a:lnTo>
                  <a:pt x="275" y="180"/>
                </a:lnTo>
                <a:lnTo>
                  <a:pt x="275" y="182"/>
                </a:lnTo>
                <a:lnTo>
                  <a:pt x="266" y="191"/>
                </a:lnTo>
                <a:lnTo>
                  <a:pt x="270" y="206"/>
                </a:lnTo>
                <a:lnTo>
                  <a:pt x="258" y="233"/>
                </a:lnTo>
                <a:lnTo>
                  <a:pt x="257" y="235"/>
                </a:lnTo>
                <a:lnTo>
                  <a:pt x="256" y="260"/>
                </a:lnTo>
                <a:lnTo>
                  <a:pt x="251" y="260"/>
                </a:lnTo>
                <a:lnTo>
                  <a:pt x="248" y="260"/>
                </a:lnTo>
                <a:lnTo>
                  <a:pt x="246" y="264"/>
                </a:lnTo>
                <a:lnTo>
                  <a:pt x="236" y="285"/>
                </a:lnTo>
                <a:lnTo>
                  <a:pt x="238" y="342"/>
                </a:lnTo>
                <a:lnTo>
                  <a:pt x="231" y="378"/>
                </a:lnTo>
                <a:lnTo>
                  <a:pt x="228" y="392"/>
                </a:lnTo>
                <a:lnTo>
                  <a:pt x="230" y="417"/>
                </a:lnTo>
                <a:lnTo>
                  <a:pt x="228" y="418"/>
                </a:lnTo>
                <a:lnTo>
                  <a:pt x="252" y="417"/>
                </a:lnTo>
                <a:lnTo>
                  <a:pt x="263" y="415"/>
                </a:lnTo>
                <a:lnTo>
                  <a:pt x="270" y="413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64040" y="3835440"/>
            <a:ext cx="682560" cy="600120"/>
          </a:xfrm>
          <a:custGeom>
            <a:avLst/>
            <a:gdLst/>
            <a:ahLst/>
            <a:rect l="l" t="t" r="r" b="b"/>
            <a:pathLst>
              <a:path w="430" h="756">
                <a:moveTo>
                  <a:pt x="14" y="191"/>
                </a:moveTo>
                <a:lnTo>
                  <a:pt x="15" y="202"/>
                </a:lnTo>
                <a:lnTo>
                  <a:pt x="15" y="208"/>
                </a:lnTo>
                <a:lnTo>
                  <a:pt x="16" y="216"/>
                </a:lnTo>
                <a:lnTo>
                  <a:pt x="18" y="242"/>
                </a:lnTo>
                <a:lnTo>
                  <a:pt x="19" y="244"/>
                </a:lnTo>
                <a:lnTo>
                  <a:pt x="20" y="265"/>
                </a:lnTo>
                <a:lnTo>
                  <a:pt x="21" y="267"/>
                </a:lnTo>
                <a:lnTo>
                  <a:pt x="20" y="267"/>
                </a:lnTo>
                <a:lnTo>
                  <a:pt x="20" y="271"/>
                </a:lnTo>
                <a:lnTo>
                  <a:pt x="21" y="296"/>
                </a:lnTo>
                <a:lnTo>
                  <a:pt x="21" y="363"/>
                </a:lnTo>
                <a:lnTo>
                  <a:pt x="21" y="372"/>
                </a:lnTo>
                <a:lnTo>
                  <a:pt x="21" y="374"/>
                </a:lnTo>
                <a:lnTo>
                  <a:pt x="21" y="405"/>
                </a:lnTo>
                <a:lnTo>
                  <a:pt x="21" y="412"/>
                </a:lnTo>
                <a:lnTo>
                  <a:pt x="21" y="422"/>
                </a:lnTo>
                <a:lnTo>
                  <a:pt x="21" y="450"/>
                </a:lnTo>
                <a:lnTo>
                  <a:pt x="21" y="460"/>
                </a:lnTo>
                <a:lnTo>
                  <a:pt x="22" y="504"/>
                </a:lnTo>
                <a:lnTo>
                  <a:pt x="22" y="515"/>
                </a:lnTo>
                <a:lnTo>
                  <a:pt x="22" y="529"/>
                </a:lnTo>
                <a:lnTo>
                  <a:pt x="22" y="563"/>
                </a:lnTo>
                <a:lnTo>
                  <a:pt x="22" y="567"/>
                </a:lnTo>
                <a:lnTo>
                  <a:pt x="22" y="573"/>
                </a:lnTo>
                <a:lnTo>
                  <a:pt x="22" y="578"/>
                </a:lnTo>
                <a:lnTo>
                  <a:pt x="22" y="630"/>
                </a:lnTo>
                <a:lnTo>
                  <a:pt x="33" y="649"/>
                </a:lnTo>
                <a:lnTo>
                  <a:pt x="43" y="640"/>
                </a:lnTo>
                <a:lnTo>
                  <a:pt x="63" y="645"/>
                </a:lnTo>
                <a:lnTo>
                  <a:pt x="63" y="651"/>
                </a:lnTo>
                <a:lnTo>
                  <a:pt x="64" y="682"/>
                </a:lnTo>
                <a:lnTo>
                  <a:pt x="64" y="703"/>
                </a:lnTo>
                <a:lnTo>
                  <a:pt x="64" y="708"/>
                </a:lnTo>
                <a:lnTo>
                  <a:pt x="65" y="733"/>
                </a:lnTo>
                <a:lnTo>
                  <a:pt x="65" y="756"/>
                </a:lnTo>
                <a:lnTo>
                  <a:pt x="69" y="756"/>
                </a:lnTo>
                <a:lnTo>
                  <a:pt x="75" y="754"/>
                </a:lnTo>
                <a:lnTo>
                  <a:pt x="86" y="754"/>
                </a:lnTo>
                <a:lnTo>
                  <a:pt x="97" y="752"/>
                </a:lnTo>
                <a:lnTo>
                  <a:pt x="98" y="752"/>
                </a:lnTo>
                <a:lnTo>
                  <a:pt x="111" y="752"/>
                </a:lnTo>
                <a:lnTo>
                  <a:pt x="113" y="752"/>
                </a:lnTo>
                <a:lnTo>
                  <a:pt x="114" y="752"/>
                </a:lnTo>
                <a:lnTo>
                  <a:pt x="128" y="750"/>
                </a:lnTo>
                <a:lnTo>
                  <a:pt x="135" y="750"/>
                </a:lnTo>
                <a:lnTo>
                  <a:pt x="136" y="750"/>
                </a:lnTo>
                <a:lnTo>
                  <a:pt x="138" y="750"/>
                </a:lnTo>
                <a:lnTo>
                  <a:pt x="141" y="750"/>
                </a:lnTo>
                <a:lnTo>
                  <a:pt x="158" y="748"/>
                </a:lnTo>
                <a:lnTo>
                  <a:pt x="174" y="747"/>
                </a:lnTo>
                <a:lnTo>
                  <a:pt x="175" y="747"/>
                </a:lnTo>
                <a:lnTo>
                  <a:pt x="182" y="747"/>
                </a:lnTo>
                <a:lnTo>
                  <a:pt x="202" y="745"/>
                </a:lnTo>
                <a:lnTo>
                  <a:pt x="231" y="743"/>
                </a:lnTo>
                <a:lnTo>
                  <a:pt x="240" y="741"/>
                </a:lnTo>
                <a:lnTo>
                  <a:pt x="284" y="737"/>
                </a:lnTo>
                <a:lnTo>
                  <a:pt x="295" y="735"/>
                </a:lnTo>
                <a:lnTo>
                  <a:pt x="297" y="735"/>
                </a:lnTo>
                <a:lnTo>
                  <a:pt x="299" y="735"/>
                </a:lnTo>
                <a:lnTo>
                  <a:pt x="300" y="735"/>
                </a:lnTo>
                <a:lnTo>
                  <a:pt x="312" y="733"/>
                </a:lnTo>
                <a:lnTo>
                  <a:pt x="316" y="733"/>
                </a:lnTo>
                <a:lnTo>
                  <a:pt x="318" y="733"/>
                </a:lnTo>
                <a:lnTo>
                  <a:pt x="321" y="733"/>
                </a:lnTo>
                <a:lnTo>
                  <a:pt x="321" y="731"/>
                </a:lnTo>
                <a:lnTo>
                  <a:pt x="322" y="653"/>
                </a:lnTo>
                <a:lnTo>
                  <a:pt x="318" y="655"/>
                </a:lnTo>
                <a:lnTo>
                  <a:pt x="321" y="636"/>
                </a:lnTo>
                <a:lnTo>
                  <a:pt x="312" y="643"/>
                </a:lnTo>
                <a:lnTo>
                  <a:pt x="316" y="628"/>
                </a:lnTo>
                <a:lnTo>
                  <a:pt x="313" y="624"/>
                </a:lnTo>
                <a:lnTo>
                  <a:pt x="312" y="624"/>
                </a:lnTo>
                <a:lnTo>
                  <a:pt x="311" y="619"/>
                </a:lnTo>
                <a:lnTo>
                  <a:pt x="319" y="586"/>
                </a:lnTo>
                <a:lnTo>
                  <a:pt x="319" y="571"/>
                </a:lnTo>
                <a:lnTo>
                  <a:pt x="330" y="573"/>
                </a:lnTo>
                <a:lnTo>
                  <a:pt x="321" y="531"/>
                </a:lnTo>
                <a:lnTo>
                  <a:pt x="328" y="523"/>
                </a:lnTo>
                <a:lnTo>
                  <a:pt x="332" y="500"/>
                </a:lnTo>
                <a:lnTo>
                  <a:pt x="340" y="471"/>
                </a:lnTo>
                <a:lnTo>
                  <a:pt x="348" y="462"/>
                </a:lnTo>
                <a:lnTo>
                  <a:pt x="346" y="449"/>
                </a:lnTo>
                <a:lnTo>
                  <a:pt x="354" y="445"/>
                </a:lnTo>
                <a:lnTo>
                  <a:pt x="353" y="454"/>
                </a:lnTo>
                <a:lnTo>
                  <a:pt x="354" y="456"/>
                </a:lnTo>
                <a:lnTo>
                  <a:pt x="362" y="412"/>
                </a:lnTo>
                <a:lnTo>
                  <a:pt x="359" y="387"/>
                </a:lnTo>
                <a:lnTo>
                  <a:pt x="362" y="382"/>
                </a:lnTo>
                <a:lnTo>
                  <a:pt x="364" y="391"/>
                </a:lnTo>
                <a:lnTo>
                  <a:pt x="370" y="378"/>
                </a:lnTo>
                <a:lnTo>
                  <a:pt x="360" y="368"/>
                </a:lnTo>
                <a:lnTo>
                  <a:pt x="362" y="365"/>
                </a:lnTo>
                <a:lnTo>
                  <a:pt x="366" y="370"/>
                </a:lnTo>
                <a:lnTo>
                  <a:pt x="370" y="363"/>
                </a:lnTo>
                <a:lnTo>
                  <a:pt x="369" y="359"/>
                </a:lnTo>
                <a:lnTo>
                  <a:pt x="373" y="347"/>
                </a:lnTo>
                <a:lnTo>
                  <a:pt x="374" y="345"/>
                </a:lnTo>
                <a:lnTo>
                  <a:pt x="375" y="342"/>
                </a:lnTo>
                <a:lnTo>
                  <a:pt x="382" y="340"/>
                </a:lnTo>
                <a:lnTo>
                  <a:pt x="386" y="330"/>
                </a:lnTo>
                <a:lnTo>
                  <a:pt x="386" y="321"/>
                </a:lnTo>
                <a:lnTo>
                  <a:pt x="380" y="311"/>
                </a:lnTo>
                <a:lnTo>
                  <a:pt x="394" y="280"/>
                </a:lnTo>
                <a:lnTo>
                  <a:pt x="399" y="282"/>
                </a:lnTo>
                <a:lnTo>
                  <a:pt x="396" y="233"/>
                </a:lnTo>
                <a:lnTo>
                  <a:pt x="393" y="223"/>
                </a:lnTo>
                <a:lnTo>
                  <a:pt x="392" y="231"/>
                </a:lnTo>
                <a:lnTo>
                  <a:pt x="389" y="229"/>
                </a:lnTo>
                <a:lnTo>
                  <a:pt x="391" y="217"/>
                </a:lnTo>
                <a:lnTo>
                  <a:pt x="399" y="204"/>
                </a:lnTo>
                <a:lnTo>
                  <a:pt x="402" y="191"/>
                </a:lnTo>
                <a:lnTo>
                  <a:pt x="410" y="195"/>
                </a:lnTo>
                <a:lnTo>
                  <a:pt x="411" y="149"/>
                </a:lnTo>
                <a:lnTo>
                  <a:pt x="421" y="116"/>
                </a:lnTo>
                <a:lnTo>
                  <a:pt x="430" y="114"/>
                </a:lnTo>
                <a:lnTo>
                  <a:pt x="421" y="95"/>
                </a:lnTo>
                <a:lnTo>
                  <a:pt x="420" y="97"/>
                </a:lnTo>
                <a:lnTo>
                  <a:pt x="406" y="99"/>
                </a:lnTo>
                <a:lnTo>
                  <a:pt x="402" y="99"/>
                </a:lnTo>
                <a:lnTo>
                  <a:pt x="384" y="103"/>
                </a:lnTo>
                <a:lnTo>
                  <a:pt x="377" y="103"/>
                </a:lnTo>
                <a:lnTo>
                  <a:pt x="374" y="105"/>
                </a:lnTo>
                <a:lnTo>
                  <a:pt x="366" y="105"/>
                </a:lnTo>
                <a:lnTo>
                  <a:pt x="373" y="80"/>
                </a:lnTo>
                <a:lnTo>
                  <a:pt x="375" y="78"/>
                </a:lnTo>
                <a:lnTo>
                  <a:pt x="380" y="61"/>
                </a:lnTo>
                <a:lnTo>
                  <a:pt x="386" y="51"/>
                </a:lnTo>
                <a:lnTo>
                  <a:pt x="381" y="0"/>
                </a:lnTo>
                <a:lnTo>
                  <a:pt x="376" y="0"/>
                </a:lnTo>
                <a:lnTo>
                  <a:pt x="373" y="0"/>
                </a:lnTo>
                <a:lnTo>
                  <a:pt x="369" y="0"/>
                </a:lnTo>
                <a:lnTo>
                  <a:pt x="346" y="4"/>
                </a:lnTo>
                <a:lnTo>
                  <a:pt x="334" y="5"/>
                </a:lnTo>
                <a:lnTo>
                  <a:pt x="333" y="5"/>
                </a:lnTo>
                <a:lnTo>
                  <a:pt x="328" y="5"/>
                </a:lnTo>
                <a:lnTo>
                  <a:pt x="320" y="7"/>
                </a:lnTo>
                <a:lnTo>
                  <a:pt x="310" y="9"/>
                </a:lnTo>
                <a:lnTo>
                  <a:pt x="299" y="11"/>
                </a:lnTo>
                <a:lnTo>
                  <a:pt x="293" y="11"/>
                </a:lnTo>
                <a:lnTo>
                  <a:pt x="290" y="11"/>
                </a:lnTo>
                <a:lnTo>
                  <a:pt x="275" y="13"/>
                </a:lnTo>
                <a:lnTo>
                  <a:pt x="274" y="13"/>
                </a:lnTo>
                <a:lnTo>
                  <a:pt x="271" y="13"/>
                </a:lnTo>
                <a:lnTo>
                  <a:pt x="267" y="13"/>
                </a:lnTo>
                <a:lnTo>
                  <a:pt x="263" y="15"/>
                </a:lnTo>
                <a:lnTo>
                  <a:pt x="253" y="15"/>
                </a:lnTo>
                <a:lnTo>
                  <a:pt x="246" y="17"/>
                </a:lnTo>
                <a:lnTo>
                  <a:pt x="224" y="19"/>
                </a:lnTo>
                <a:lnTo>
                  <a:pt x="214" y="21"/>
                </a:lnTo>
                <a:lnTo>
                  <a:pt x="213" y="21"/>
                </a:lnTo>
                <a:lnTo>
                  <a:pt x="211" y="21"/>
                </a:lnTo>
                <a:lnTo>
                  <a:pt x="192" y="23"/>
                </a:lnTo>
                <a:lnTo>
                  <a:pt x="186" y="23"/>
                </a:lnTo>
                <a:lnTo>
                  <a:pt x="179" y="25"/>
                </a:lnTo>
                <a:lnTo>
                  <a:pt x="163" y="26"/>
                </a:lnTo>
                <a:lnTo>
                  <a:pt x="160" y="26"/>
                </a:lnTo>
                <a:lnTo>
                  <a:pt x="158" y="26"/>
                </a:lnTo>
                <a:lnTo>
                  <a:pt x="151" y="26"/>
                </a:lnTo>
                <a:lnTo>
                  <a:pt x="135" y="28"/>
                </a:lnTo>
                <a:lnTo>
                  <a:pt x="126" y="28"/>
                </a:lnTo>
                <a:lnTo>
                  <a:pt x="114" y="30"/>
                </a:lnTo>
                <a:lnTo>
                  <a:pt x="112" y="30"/>
                </a:lnTo>
                <a:lnTo>
                  <a:pt x="107" y="30"/>
                </a:lnTo>
                <a:lnTo>
                  <a:pt x="101" y="30"/>
                </a:lnTo>
                <a:lnTo>
                  <a:pt x="89" y="32"/>
                </a:lnTo>
                <a:lnTo>
                  <a:pt x="79" y="32"/>
                </a:lnTo>
                <a:lnTo>
                  <a:pt x="71" y="34"/>
                </a:lnTo>
                <a:lnTo>
                  <a:pt x="65" y="34"/>
                </a:lnTo>
                <a:lnTo>
                  <a:pt x="60" y="34"/>
                </a:lnTo>
                <a:lnTo>
                  <a:pt x="54" y="34"/>
                </a:lnTo>
                <a:lnTo>
                  <a:pt x="46" y="36"/>
                </a:lnTo>
                <a:lnTo>
                  <a:pt x="21" y="38"/>
                </a:lnTo>
                <a:lnTo>
                  <a:pt x="10" y="38"/>
                </a:lnTo>
                <a:lnTo>
                  <a:pt x="0" y="38"/>
                </a:lnTo>
                <a:lnTo>
                  <a:pt x="3" y="65"/>
                </a:lnTo>
                <a:lnTo>
                  <a:pt x="4" y="78"/>
                </a:lnTo>
                <a:lnTo>
                  <a:pt x="6" y="109"/>
                </a:lnTo>
                <a:lnTo>
                  <a:pt x="7" y="116"/>
                </a:lnTo>
                <a:lnTo>
                  <a:pt x="7" y="120"/>
                </a:lnTo>
                <a:lnTo>
                  <a:pt x="12" y="168"/>
                </a:lnTo>
                <a:lnTo>
                  <a:pt x="13" y="183"/>
                </a:lnTo>
                <a:lnTo>
                  <a:pt x="14" y="191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27520" y="3774960"/>
            <a:ext cx="1171440" cy="565200"/>
          </a:xfrm>
          <a:custGeom>
            <a:avLst/>
            <a:gdLst/>
            <a:ahLst/>
            <a:rect l="l" t="t" r="r" b="b"/>
            <a:pathLst>
              <a:path w="738" h="713">
                <a:moveTo>
                  <a:pt x="722" y="186"/>
                </a:moveTo>
                <a:lnTo>
                  <a:pt x="720" y="155"/>
                </a:lnTo>
                <a:lnTo>
                  <a:pt x="719" y="142"/>
                </a:lnTo>
                <a:lnTo>
                  <a:pt x="716" y="115"/>
                </a:lnTo>
                <a:lnTo>
                  <a:pt x="716" y="96"/>
                </a:lnTo>
                <a:lnTo>
                  <a:pt x="716" y="84"/>
                </a:lnTo>
                <a:lnTo>
                  <a:pt x="716" y="81"/>
                </a:lnTo>
                <a:lnTo>
                  <a:pt x="716" y="79"/>
                </a:lnTo>
                <a:lnTo>
                  <a:pt x="716" y="65"/>
                </a:lnTo>
                <a:lnTo>
                  <a:pt x="715" y="59"/>
                </a:lnTo>
                <a:lnTo>
                  <a:pt x="715" y="40"/>
                </a:lnTo>
                <a:lnTo>
                  <a:pt x="715" y="21"/>
                </a:lnTo>
                <a:lnTo>
                  <a:pt x="715" y="12"/>
                </a:lnTo>
                <a:lnTo>
                  <a:pt x="714" y="12"/>
                </a:lnTo>
                <a:lnTo>
                  <a:pt x="703" y="14"/>
                </a:lnTo>
                <a:lnTo>
                  <a:pt x="682" y="14"/>
                </a:lnTo>
                <a:lnTo>
                  <a:pt x="676" y="14"/>
                </a:lnTo>
                <a:lnTo>
                  <a:pt x="661" y="16"/>
                </a:lnTo>
                <a:lnTo>
                  <a:pt x="656" y="16"/>
                </a:lnTo>
                <a:lnTo>
                  <a:pt x="648" y="16"/>
                </a:lnTo>
                <a:lnTo>
                  <a:pt x="640" y="16"/>
                </a:lnTo>
                <a:lnTo>
                  <a:pt x="638" y="16"/>
                </a:lnTo>
                <a:lnTo>
                  <a:pt x="630" y="17"/>
                </a:lnTo>
                <a:lnTo>
                  <a:pt x="626" y="17"/>
                </a:lnTo>
                <a:lnTo>
                  <a:pt x="616" y="17"/>
                </a:lnTo>
                <a:lnTo>
                  <a:pt x="608" y="17"/>
                </a:lnTo>
                <a:lnTo>
                  <a:pt x="601" y="17"/>
                </a:lnTo>
                <a:lnTo>
                  <a:pt x="598" y="17"/>
                </a:lnTo>
                <a:lnTo>
                  <a:pt x="587" y="17"/>
                </a:lnTo>
                <a:lnTo>
                  <a:pt x="560" y="19"/>
                </a:lnTo>
                <a:lnTo>
                  <a:pt x="553" y="19"/>
                </a:lnTo>
                <a:lnTo>
                  <a:pt x="544" y="19"/>
                </a:lnTo>
                <a:lnTo>
                  <a:pt x="534" y="19"/>
                </a:lnTo>
                <a:lnTo>
                  <a:pt x="523" y="19"/>
                </a:lnTo>
                <a:lnTo>
                  <a:pt x="512" y="19"/>
                </a:lnTo>
                <a:lnTo>
                  <a:pt x="500" y="21"/>
                </a:lnTo>
                <a:lnTo>
                  <a:pt x="486" y="21"/>
                </a:lnTo>
                <a:lnTo>
                  <a:pt x="481" y="21"/>
                </a:lnTo>
                <a:lnTo>
                  <a:pt x="473" y="21"/>
                </a:lnTo>
                <a:lnTo>
                  <a:pt x="470" y="21"/>
                </a:lnTo>
                <a:lnTo>
                  <a:pt x="454" y="21"/>
                </a:lnTo>
                <a:lnTo>
                  <a:pt x="445" y="21"/>
                </a:lnTo>
                <a:lnTo>
                  <a:pt x="428" y="21"/>
                </a:lnTo>
                <a:lnTo>
                  <a:pt x="424" y="21"/>
                </a:lnTo>
                <a:lnTo>
                  <a:pt x="419" y="21"/>
                </a:lnTo>
                <a:lnTo>
                  <a:pt x="417" y="21"/>
                </a:lnTo>
                <a:lnTo>
                  <a:pt x="403" y="21"/>
                </a:lnTo>
                <a:lnTo>
                  <a:pt x="399" y="21"/>
                </a:lnTo>
                <a:lnTo>
                  <a:pt x="396" y="21"/>
                </a:lnTo>
                <a:lnTo>
                  <a:pt x="386" y="21"/>
                </a:lnTo>
                <a:lnTo>
                  <a:pt x="381" y="21"/>
                </a:lnTo>
                <a:lnTo>
                  <a:pt x="364" y="21"/>
                </a:lnTo>
                <a:lnTo>
                  <a:pt x="358" y="21"/>
                </a:lnTo>
                <a:lnTo>
                  <a:pt x="343" y="19"/>
                </a:lnTo>
                <a:lnTo>
                  <a:pt x="314" y="19"/>
                </a:lnTo>
                <a:lnTo>
                  <a:pt x="311" y="19"/>
                </a:lnTo>
                <a:lnTo>
                  <a:pt x="304" y="19"/>
                </a:lnTo>
                <a:lnTo>
                  <a:pt x="300" y="19"/>
                </a:lnTo>
                <a:lnTo>
                  <a:pt x="297" y="19"/>
                </a:lnTo>
                <a:lnTo>
                  <a:pt x="264" y="17"/>
                </a:lnTo>
                <a:lnTo>
                  <a:pt x="258" y="17"/>
                </a:lnTo>
                <a:lnTo>
                  <a:pt x="255" y="17"/>
                </a:lnTo>
                <a:lnTo>
                  <a:pt x="251" y="17"/>
                </a:lnTo>
                <a:lnTo>
                  <a:pt x="248" y="17"/>
                </a:lnTo>
                <a:lnTo>
                  <a:pt x="210" y="16"/>
                </a:lnTo>
                <a:lnTo>
                  <a:pt x="205" y="16"/>
                </a:lnTo>
                <a:lnTo>
                  <a:pt x="177" y="14"/>
                </a:lnTo>
                <a:lnTo>
                  <a:pt x="173" y="14"/>
                </a:lnTo>
                <a:lnTo>
                  <a:pt x="167" y="14"/>
                </a:lnTo>
                <a:lnTo>
                  <a:pt x="162" y="14"/>
                </a:lnTo>
                <a:lnTo>
                  <a:pt x="141" y="12"/>
                </a:lnTo>
                <a:lnTo>
                  <a:pt x="126" y="12"/>
                </a:lnTo>
                <a:lnTo>
                  <a:pt x="109" y="12"/>
                </a:lnTo>
                <a:lnTo>
                  <a:pt x="104" y="10"/>
                </a:lnTo>
                <a:lnTo>
                  <a:pt x="86" y="10"/>
                </a:lnTo>
                <a:lnTo>
                  <a:pt x="85" y="10"/>
                </a:lnTo>
                <a:lnTo>
                  <a:pt x="35" y="4"/>
                </a:lnTo>
                <a:lnTo>
                  <a:pt x="24" y="2"/>
                </a:lnTo>
                <a:lnTo>
                  <a:pt x="4" y="0"/>
                </a:lnTo>
                <a:lnTo>
                  <a:pt x="3" y="27"/>
                </a:lnTo>
                <a:lnTo>
                  <a:pt x="2" y="59"/>
                </a:lnTo>
                <a:lnTo>
                  <a:pt x="0" y="105"/>
                </a:lnTo>
                <a:lnTo>
                  <a:pt x="34" y="107"/>
                </a:lnTo>
                <a:lnTo>
                  <a:pt x="54" y="109"/>
                </a:lnTo>
                <a:lnTo>
                  <a:pt x="72" y="111"/>
                </a:lnTo>
                <a:lnTo>
                  <a:pt x="76" y="111"/>
                </a:lnTo>
                <a:lnTo>
                  <a:pt x="77" y="111"/>
                </a:lnTo>
                <a:lnTo>
                  <a:pt x="83" y="111"/>
                </a:lnTo>
                <a:lnTo>
                  <a:pt x="95" y="113"/>
                </a:lnTo>
                <a:lnTo>
                  <a:pt x="98" y="113"/>
                </a:lnTo>
                <a:lnTo>
                  <a:pt x="118" y="115"/>
                </a:lnTo>
                <a:lnTo>
                  <a:pt x="139" y="115"/>
                </a:lnTo>
                <a:lnTo>
                  <a:pt x="150" y="117"/>
                </a:lnTo>
                <a:lnTo>
                  <a:pt x="164" y="117"/>
                </a:lnTo>
                <a:lnTo>
                  <a:pt x="171" y="117"/>
                </a:lnTo>
                <a:lnTo>
                  <a:pt x="175" y="117"/>
                </a:lnTo>
                <a:lnTo>
                  <a:pt x="182" y="119"/>
                </a:lnTo>
                <a:lnTo>
                  <a:pt x="204" y="119"/>
                </a:lnTo>
                <a:lnTo>
                  <a:pt x="211" y="119"/>
                </a:lnTo>
                <a:lnTo>
                  <a:pt x="225" y="121"/>
                </a:lnTo>
                <a:lnTo>
                  <a:pt x="226" y="121"/>
                </a:lnTo>
                <a:lnTo>
                  <a:pt x="257" y="121"/>
                </a:lnTo>
                <a:lnTo>
                  <a:pt x="257" y="147"/>
                </a:lnTo>
                <a:lnTo>
                  <a:pt x="256" y="214"/>
                </a:lnTo>
                <a:lnTo>
                  <a:pt x="256" y="226"/>
                </a:lnTo>
                <a:lnTo>
                  <a:pt x="256" y="243"/>
                </a:lnTo>
                <a:lnTo>
                  <a:pt x="256" y="251"/>
                </a:lnTo>
                <a:lnTo>
                  <a:pt x="256" y="260"/>
                </a:lnTo>
                <a:lnTo>
                  <a:pt x="255" y="277"/>
                </a:lnTo>
                <a:lnTo>
                  <a:pt x="255" y="304"/>
                </a:lnTo>
                <a:lnTo>
                  <a:pt x="255" y="329"/>
                </a:lnTo>
                <a:lnTo>
                  <a:pt x="255" y="335"/>
                </a:lnTo>
                <a:lnTo>
                  <a:pt x="255" y="344"/>
                </a:lnTo>
                <a:lnTo>
                  <a:pt x="255" y="373"/>
                </a:lnTo>
                <a:lnTo>
                  <a:pt x="254" y="380"/>
                </a:lnTo>
                <a:lnTo>
                  <a:pt x="254" y="394"/>
                </a:lnTo>
                <a:lnTo>
                  <a:pt x="254" y="407"/>
                </a:lnTo>
                <a:lnTo>
                  <a:pt x="254" y="426"/>
                </a:lnTo>
                <a:lnTo>
                  <a:pt x="254" y="459"/>
                </a:lnTo>
                <a:lnTo>
                  <a:pt x="253" y="472"/>
                </a:lnTo>
                <a:lnTo>
                  <a:pt x="253" y="484"/>
                </a:lnTo>
                <a:lnTo>
                  <a:pt x="253" y="524"/>
                </a:lnTo>
                <a:lnTo>
                  <a:pt x="256" y="522"/>
                </a:lnTo>
                <a:lnTo>
                  <a:pt x="266" y="535"/>
                </a:lnTo>
                <a:lnTo>
                  <a:pt x="275" y="554"/>
                </a:lnTo>
                <a:lnTo>
                  <a:pt x="296" y="556"/>
                </a:lnTo>
                <a:lnTo>
                  <a:pt x="298" y="560"/>
                </a:lnTo>
                <a:lnTo>
                  <a:pt x="318" y="568"/>
                </a:lnTo>
                <a:lnTo>
                  <a:pt x="321" y="571"/>
                </a:lnTo>
                <a:lnTo>
                  <a:pt x="322" y="596"/>
                </a:lnTo>
                <a:lnTo>
                  <a:pt x="329" y="602"/>
                </a:lnTo>
                <a:lnTo>
                  <a:pt x="335" y="600"/>
                </a:lnTo>
                <a:lnTo>
                  <a:pt x="344" y="602"/>
                </a:lnTo>
                <a:lnTo>
                  <a:pt x="361" y="617"/>
                </a:lnTo>
                <a:lnTo>
                  <a:pt x="373" y="610"/>
                </a:lnTo>
                <a:lnTo>
                  <a:pt x="374" y="612"/>
                </a:lnTo>
                <a:lnTo>
                  <a:pt x="378" y="617"/>
                </a:lnTo>
                <a:lnTo>
                  <a:pt x="383" y="627"/>
                </a:lnTo>
                <a:lnTo>
                  <a:pt x="391" y="627"/>
                </a:lnTo>
                <a:lnTo>
                  <a:pt x="407" y="617"/>
                </a:lnTo>
                <a:lnTo>
                  <a:pt x="413" y="619"/>
                </a:lnTo>
                <a:lnTo>
                  <a:pt x="416" y="615"/>
                </a:lnTo>
                <a:lnTo>
                  <a:pt x="420" y="613"/>
                </a:lnTo>
                <a:lnTo>
                  <a:pt x="422" y="642"/>
                </a:lnTo>
                <a:lnTo>
                  <a:pt x="430" y="642"/>
                </a:lnTo>
                <a:lnTo>
                  <a:pt x="430" y="665"/>
                </a:lnTo>
                <a:lnTo>
                  <a:pt x="439" y="675"/>
                </a:lnTo>
                <a:lnTo>
                  <a:pt x="461" y="648"/>
                </a:lnTo>
                <a:lnTo>
                  <a:pt x="467" y="663"/>
                </a:lnTo>
                <a:lnTo>
                  <a:pt x="469" y="661"/>
                </a:lnTo>
                <a:lnTo>
                  <a:pt x="472" y="659"/>
                </a:lnTo>
                <a:lnTo>
                  <a:pt x="473" y="659"/>
                </a:lnTo>
                <a:lnTo>
                  <a:pt x="483" y="680"/>
                </a:lnTo>
                <a:lnTo>
                  <a:pt x="500" y="669"/>
                </a:lnTo>
                <a:lnTo>
                  <a:pt x="499" y="692"/>
                </a:lnTo>
                <a:lnTo>
                  <a:pt x="505" y="701"/>
                </a:lnTo>
                <a:lnTo>
                  <a:pt x="521" y="652"/>
                </a:lnTo>
                <a:lnTo>
                  <a:pt x="522" y="652"/>
                </a:lnTo>
                <a:lnTo>
                  <a:pt x="538" y="678"/>
                </a:lnTo>
                <a:lnTo>
                  <a:pt x="551" y="663"/>
                </a:lnTo>
                <a:lnTo>
                  <a:pt x="552" y="663"/>
                </a:lnTo>
                <a:lnTo>
                  <a:pt x="550" y="669"/>
                </a:lnTo>
                <a:lnTo>
                  <a:pt x="560" y="688"/>
                </a:lnTo>
                <a:lnTo>
                  <a:pt x="567" y="688"/>
                </a:lnTo>
                <a:lnTo>
                  <a:pt x="571" y="697"/>
                </a:lnTo>
                <a:lnTo>
                  <a:pt x="583" y="690"/>
                </a:lnTo>
                <a:lnTo>
                  <a:pt x="605" y="665"/>
                </a:lnTo>
                <a:lnTo>
                  <a:pt x="618" y="673"/>
                </a:lnTo>
                <a:lnTo>
                  <a:pt x="626" y="665"/>
                </a:lnTo>
                <a:lnTo>
                  <a:pt x="627" y="659"/>
                </a:lnTo>
                <a:lnTo>
                  <a:pt x="639" y="655"/>
                </a:lnTo>
                <a:lnTo>
                  <a:pt x="639" y="650"/>
                </a:lnTo>
                <a:lnTo>
                  <a:pt x="643" y="652"/>
                </a:lnTo>
                <a:lnTo>
                  <a:pt x="645" y="659"/>
                </a:lnTo>
                <a:lnTo>
                  <a:pt x="644" y="661"/>
                </a:lnTo>
                <a:lnTo>
                  <a:pt x="665" y="661"/>
                </a:lnTo>
                <a:lnTo>
                  <a:pt x="668" y="663"/>
                </a:lnTo>
                <a:lnTo>
                  <a:pt x="670" y="650"/>
                </a:lnTo>
                <a:lnTo>
                  <a:pt x="679" y="650"/>
                </a:lnTo>
                <a:lnTo>
                  <a:pt x="681" y="650"/>
                </a:lnTo>
                <a:lnTo>
                  <a:pt x="681" y="655"/>
                </a:lnTo>
                <a:lnTo>
                  <a:pt x="692" y="663"/>
                </a:lnTo>
                <a:lnTo>
                  <a:pt x="704" y="686"/>
                </a:lnTo>
                <a:lnTo>
                  <a:pt x="708" y="690"/>
                </a:lnTo>
                <a:lnTo>
                  <a:pt x="708" y="682"/>
                </a:lnTo>
                <a:lnTo>
                  <a:pt x="714" y="686"/>
                </a:lnTo>
                <a:lnTo>
                  <a:pt x="714" y="694"/>
                </a:lnTo>
                <a:lnTo>
                  <a:pt x="716" y="692"/>
                </a:lnTo>
                <a:lnTo>
                  <a:pt x="715" y="696"/>
                </a:lnTo>
                <a:lnTo>
                  <a:pt x="726" y="699"/>
                </a:lnTo>
                <a:lnTo>
                  <a:pt x="735" y="713"/>
                </a:lnTo>
                <a:lnTo>
                  <a:pt x="738" y="707"/>
                </a:lnTo>
                <a:lnTo>
                  <a:pt x="738" y="655"/>
                </a:lnTo>
                <a:lnTo>
                  <a:pt x="738" y="650"/>
                </a:lnTo>
                <a:lnTo>
                  <a:pt x="738" y="644"/>
                </a:lnTo>
                <a:lnTo>
                  <a:pt x="738" y="640"/>
                </a:lnTo>
                <a:lnTo>
                  <a:pt x="738" y="606"/>
                </a:lnTo>
                <a:lnTo>
                  <a:pt x="738" y="592"/>
                </a:lnTo>
                <a:lnTo>
                  <a:pt x="738" y="581"/>
                </a:lnTo>
                <a:lnTo>
                  <a:pt x="737" y="537"/>
                </a:lnTo>
                <a:lnTo>
                  <a:pt x="737" y="527"/>
                </a:lnTo>
                <a:lnTo>
                  <a:pt x="737" y="499"/>
                </a:lnTo>
                <a:lnTo>
                  <a:pt x="737" y="489"/>
                </a:lnTo>
                <a:lnTo>
                  <a:pt x="737" y="482"/>
                </a:lnTo>
                <a:lnTo>
                  <a:pt x="737" y="451"/>
                </a:lnTo>
                <a:lnTo>
                  <a:pt x="737" y="449"/>
                </a:lnTo>
                <a:lnTo>
                  <a:pt x="737" y="440"/>
                </a:lnTo>
                <a:lnTo>
                  <a:pt x="737" y="373"/>
                </a:lnTo>
                <a:lnTo>
                  <a:pt x="736" y="348"/>
                </a:lnTo>
                <a:lnTo>
                  <a:pt x="736" y="344"/>
                </a:lnTo>
                <a:lnTo>
                  <a:pt x="737" y="344"/>
                </a:lnTo>
                <a:lnTo>
                  <a:pt x="736" y="342"/>
                </a:lnTo>
                <a:lnTo>
                  <a:pt x="735" y="321"/>
                </a:lnTo>
                <a:lnTo>
                  <a:pt x="734" y="319"/>
                </a:lnTo>
                <a:lnTo>
                  <a:pt x="732" y="293"/>
                </a:lnTo>
                <a:lnTo>
                  <a:pt x="731" y="285"/>
                </a:lnTo>
                <a:lnTo>
                  <a:pt x="731" y="279"/>
                </a:lnTo>
                <a:lnTo>
                  <a:pt x="730" y="268"/>
                </a:lnTo>
                <a:lnTo>
                  <a:pt x="729" y="260"/>
                </a:lnTo>
                <a:lnTo>
                  <a:pt x="728" y="245"/>
                </a:lnTo>
                <a:lnTo>
                  <a:pt x="723" y="197"/>
                </a:lnTo>
                <a:lnTo>
                  <a:pt x="723" y="193"/>
                </a:lnTo>
                <a:lnTo>
                  <a:pt x="722" y="186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3809880"/>
            <a:ext cx="1882800" cy="1755720"/>
          </a:xfrm>
          <a:custGeom>
            <a:avLst/>
            <a:gdLst/>
            <a:ahLst/>
            <a:rect l="l" t="t" r="r" b="b"/>
            <a:pathLst>
              <a:path w="1186" h="2212">
                <a:moveTo>
                  <a:pt x="612" y="1830"/>
                </a:moveTo>
                <a:lnTo>
                  <a:pt x="603" y="1805"/>
                </a:lnTo>
                <a:lnTo>
                  <a:pt x="591" y="1773"/>
                </a:lnTo>
                <a:lnTo>
                  <a:pt x="571" y="1733"/>
                </a:lnTo>
                <a:lnTo>
                  <a:pt x="567" y="1721"/>
                </a:lnTo>
                <a:lnTo>
                  <a:pt x="558" y="1674"/>
                </a:lnTo>
                <a:lnTo>
                  <a:pt x="561" y="1670"/>
                </a:lnTo>
                <a:lnTo>
                  <a:pt x="535" y="1588"/>
                </a:lnTo>
                <a:lnTo>
                  <a:pt x="530" y="1549"/>
                </a:lnTo>
                <a:lnTo>
                  <a:pt x="521" y="1530"/>
                </a:lnTo>
                <a:lnTo>
                  <a:pt x="519" y="1515"/>
                </a:lnTo>
                <a:lnTo>
                  <a:pt x="499" y="1486"/>
                </a:lnTo>
                <a:lnTo>
                  <a:pt x="495" y="1469"/>
                </a:lnTo>
                <a:lnTo>
                  <a:pt x="487" y="1465"/>
                </a:lnTo>
                <a:lnTo>
                  <a:pt x="485" y="1458"/>
                </a:lnTo>
                <a:lnTo>
                  <a:pt x="478" y="1456"/>
                </a:lnTo>
                <a:lnTo>
                  <a:pt x="476" y="1435"/>
                </a:lnTo>
                <a:lnTo>
                  <a:pt x="473" y="1435"/>
                </a:lnTo>
                <a:lnTo>
                  <a:pt x="461" y="1406"/>
                </a:lnTo>
                <a:lnTo>
                  <a:pt x="452" y="1404"/>
                </a:lnTo>
                <a:lnTo>
                  <a:pt x="452" y="1401"/>
                </a:lnTo>
                <a:lnTo>
                  <a:pt x="432" y="1399"/>
                </a:lnTo>
                <a:lnTo>
                  <a:pt x="411" y="1391"/>
                </a:lnTo>
                <a:lnTo>
                  <a:pt x="411" y="1395"/>
                </a:lnTo>
                <a:lnTo>
                  <a:pt x="406" y="1393"/>
                </a:lnTo>
                <a:lnTo>
                  <a:pt x="405" y="1397"/>
                </a:lnTo>
                <a:lnTo>
                  <a:pt x="380" y="1376"/>
                </a:lnTo>
                <a:lnTo>
                  <a:pt x="360" y="1401"/>
                </a:lnTo>
                <a:lnTo>
                  <a:pt x="354" y="1399"/>
                </a:lnTo>
                <a:lnTo>
                  <a:pt x="337" y="1429"/>
                </a:lnTo>
                <a:lnTo>
                  <a:pt x="323" y="1500"/>
                </a:lnTo>
                <a:lnTo>
                  <a:pt x="304" y="1536"/>
                </a:lnTo>
                <a:lnTo>
                  <a:pt x="298" y="1555"/>
                </a:lnTo>
                <a:lnTo>
                  <a:pt x="277" y="1542"/>
                </a:lnTo>
                <a:lnTo>
                  <a:pt x="264" y="1519"/>
                </a:lnTo>
                <a:lnTo>
                  <a:pt x="244" y="1498"/>
                </a:lnTo>
                <a:lnTo>
                  <a:pt x="240" y="1488"/>
                </a:lnTo>
                <a:lnTo>
                  <a:pt x="221" y="1479"/>
                </a:lnTo>
                <a:lnTo>
                  <a:pt x="210" y="1462"/>
                </a:lnTo>
                <a:lnTo>
                  <a:pt x="199" y="1435"/>
                </a:lnTo>
                <a:lnTo>
                  <a:pt x="177" y="1406"/>
                </a:lnTo>
                <a:lnTo>
                  <a:pt x="163" y="1328"/>
                </a:lnTo>
                <a:lnTo>
                  <a:pt x="160" y="1276"/>
                </a:lnTo>
                <a:lnTo>
                  <a:pt x="147" y="1217"/>
                </a:lnTo>
                <a:lnTo>
                  <a:pt x="140" y="1194"/>
                </a:lnTo>
                <a:lnTo>
                  <a:pt x="138" y="1185"/>
                </a:lnTo>
                <a:lnTo>
                  <a:pt x="105" y="1145"/>
                </a:lnTo>
                <a:lnTo>
                  <a:pt x="85" y="1091"/>
                </a:lnTo>
                <a:lnTo>
                  <a:pt x="73" y="1074"/>
                </a:lnTo>
                <a:lnTo>
                  <a:pt x="53" y="1026"/>
                </a:lnTo>
                <a:lnTo>
                  <a:pt x="42" y="1017"/>
                </a:lnTo>
                <a:lnTo>
                  <a:pt x="34" y="999"/>
                </a:lnTo>
                <a:lnTo>
                  <a:pt x="19" y="946"/>
                </a:lnTo>
                <a:lnTo>
                  <a:pt x="11" y="942"/>
                </a:lnTo>
                <a:lnTo>
                  <a:pt x="9" y="936"/>
                </a:lnTo>
                <a:lnTo>
                  <a:pt x="0" y="912"/>
                </a:lnTo>
                <a:lnTo>
                  <a:pt x="3" y="908"/>
                </a:lnTo>
                <a:lnTo>
                  <a:pt x="1" y="894"/>
                </a:lnTo>
                <a:lnTo>
                  <a:pt x="3" y="891"/>
                </a:lnTo>
                <a:lnTo>
                  <a:pt x="25" y="894"/>
                </a:lnTo>
                <a:lnTo>
                  <a:pt x="36" y="896"/>
                </a:lnTo>
                <a:lnTo>
                  <a:pt x="47" y="896"/>
                </a:lnTo>
                <a:lnTo>
                  <a:pt x="59" y="898"/>
                </a:lnTo>
                <a:lnTo>
                  <a:pt x="114" y="908"/>
                </a:lnTo>
                <a:lnTo>
                  <a:pt x="139" y="912"/>
                </a:lnTo>
                <a:lnTo>
                  <a:pt x="155" y="913"/>
                </a:lnTo>
                <a:lnTo>
                  <a:pt x="163" y="913"/>
                </a:lnTo>
                <a:lnTo>
                  <a:pt x="206" y="919"/>
                </a:lnTo>
                <a:lnTo>
                  <a:pt x="215" y="921"/>
                </a:lnTo>
                <a:lnTo>
                  <a:pt x="236" y="923"/>
                </a:lnTo>
                <a:lnTo>
                  <a:pt x="240" y="923"/>
                </a:lnTo>
                <a:lnTo>
                  <a:pt x="261" y="925"/>
                </a:lnTo>
                <a:lnTo>
                  <a:pt x="262" y="925"/>
                </a:lnTo>
                <a:lnTo>
                  <a:pt x="263" y="925"/>
                </a:lnTo>
                <a:lnTo>
                  <a:pt x="272" y="927"/>
                </a:lnTo>
                <a:lnTo>
                  <a:pt x="295" y="929"/>
                </a:lnTo>
                <a:lnTo>
                  <a:pt x="299" y="929"/>
                </a:lnTo>
                <a:lnTo>
                  <a:pt x="317" y="931"/>
                </a:lnTo>
                <a:lnTo>
                  <a:pt x="322" y="933"/>
                </a:lnTo>
                <a:lnTo>
                  <a:pt x="323" y="913"/>
                </a:lnTo>
                <a:lnTo>
                  <a:pt x="324" y="881"/>
                </a:lnTo>
                <a:lnTo>
                  <a:pt x="325" y="833"/>
                </a:lnTo>
                <a:lnTo>
                  <a:pt x="325" y="824"/>
                </a:lnTo>
                <a:lnTo>
                  <a:pt x="326" y="803"/>
                </a:lnTo>
                <a:lnTo>
                  <a:pt x="327" y="763"/>
                </a:lnTo>
                <a:lnTo>
                  <a:pt x="328" y="734"/>
                </a:lnTo>
                <a:lnTo>
                  <a:pt x="329" y="700"/>
                </a:lnTo>
                <a:lnTo>
                  <a:pt x="331" y="648"/>
                </a:lnTo>
                <a:lnTo>
                  <a:pt x="331" y="644"/>
                </a:lnTo>
                <a:lnTo>
                  <a:pt x="331" y="621"/>
                </a:lnTo>
                <a:lnTo>
                  <a:pt x="332" y="615"/>
                </a:lnTo>
                <a:lnTo>
                  <a:pt x="332" y="608"/>
                </a:lnTo>
                <a:lnTo>
                  <a:pt x="333" y="587"/>
                </a:lnTo>
                <a:lnTo>
                  <a:pt x="333" y="579"/>
                </a:lnTo>
                <a:lnTo>
                  <a:pt x="334" y="554"/>
                </a:lnTo>
                <a:lnTo>
                  <a:pt x="335" y="518"/>
                </a:lnTo>
                <a:lnTo>
                  <a:pt x="336" y="466"/>
                </a:lnTo>
                <a:lnTo>
                  <a:pt x="337" y="457"/>
                </a:lnTo>
                <a:lnTo>
                  <a:pt x="337" y="453"/>
                </a:lnTo>
                <a:lnTo>
                  <a:pt x="337" y="430"/>
                </a:lnTo>
                <a:lnTo>
                  <a:pt x="338" y="415"/>
                </a:lnTo>
                <a:lnTo>
                  <a:pt x="339" y="363"/>
                </a:lnTo>
                <a:lnTo>
                  <a:pt x="340" y="340"/>
                </a:lnTo>
                <a:lnTo>
                  <a:pt x="340" y="337"/>
                </a:lnTo>
                <a:lnTo>
                  <a:pt x="340" y="321"/>
                </a:lnTo>
                <a:lnTo>
                  <a:pt x="341" y="312"/>
                </a:lnTo>
                <a:lnTo>
                  <a:pt x="341" y="285"/>
                </a:lnTo>
                <a:lnTo>
                  <a:pt x="342" y="274"/>
                </a:lnTo>
                <a:lnTo>
                  <a:pt x="342" y="256"/>
                </a:lnTo>
                <a:lnTo>
                  <a:pt x="342" y="243"/>
                </a:lnTo>
                <a:lnTo>
                  <a:pt x="344" y="184"/>
                </a:lnTo>
                <a:lnTo>
                  <a:pt x="344" y="182"/>
                </a:lnTo>
                <a:lnTo>
                  <a:pt x="345" y="159"/>
                </a:lnTo>
                <a:lnTo>
                  <a:pt x="345" y="157"/>
                </a:lnTo>
                <a:lnTo>
                  <a:pt x="345" y="151"/>
                </a:lnTo>
                <a:lnTo>
                  <a:pt x="346" y="94"/>
                </a:lnTo>
                <a:lnTo>
                  <a:pt x="349" y="0"/>
                </a:lnTo>
                <a:lnTo>
                  <a:pt x="352" y="2"/>
                </a:lnTo>
                <a:lnTo>
                  <a:pt x="386" y="4"/>
                </a:lnTo>
                <a:lnTo>
                  <a:pt x="406" y="6"/>
                </a:lnTo>
                <a:lnTo>
                  <a:pt x="424" y="8"/>
                </a:lnTo>
                <a:lnTo>
                  <a:pt x="428" y="8"/>
                </a:lnTo>
                <a:lnTo>
                  <a:pt x="429" y="8"/>
                </a:lnTo>
                <a:lnTo>
                  <a:pt x="435" y="8"/>
                </a:lnTo>
                <a:lnTo>
                  <a:pt x="447" y="10"/>
                </a:lnTo>
                <a:lnTo>
                  <a:pt x="450" y="10"/>
                </a:lnTo>
                <a:lnTo>
                  <a:pt x="470" y="12"/>
                </a:lnTo>
                <a:lnTo>
                  <a:pt x="491" y="12"/>
                </a:lnTo>
                <a:lnTo>
                  <a:pt x="502" y="14"/>
                </a:lnTo>
                <a:lnTo>
                  <a:pt x="516" y="14"/>
                </a:lnTo>
                <a:lnTo>
                  <a:pt x="523" y="14"/>
                </a:lnTo>
                <a:lnTo>
                  <a:pt x="527" y="14"/>
                </a:lnTo>
                <a:lnTo>
                  <a:pt x="534" y="16"/>
                </a:lnTo>
                <a:lnTo>
                  <a:pt x="556" y="16"/>
                </a:lnTo>
                <a:lnTo>
                  <a:pt x="563" y="16"/>
                </a:lnTo>
                <a:lnTo>
                  <a:pt x="577" y="18"/>
                </a:lnTo>
                <a:lnTo>
                  <a:pt x="578" y="18"/>
                </a:lnTo>
                <a:lnTo>
                  <a:pt x="609" y="18"/>
                </a:lnTo>
                <a:lnTo>
                  <a:pt x="609" y="44"/>
                </a:lnTo>
                <a:lnTo>
                  <a:pt x="608" y="111"/>
                </a:lnTo>
                <a:lnTo>
                  <a:pt x="608" y="123"/>
                </a:lnTo>
                <a:lnTo>
                  <a:pt x="608" y="140"/>
                </a:lnTo>
                <a:lnTo>
                  <a:pt x="608" y="148"/>
                </a:lnTo>
                <a:lnTo>
                  <a:pt x="608" y="157"/>
                </a:lnTo>
                <a:lnTo>
                  <a:pt x="607" y="174"/>
                </a:lnTo>
                <a:lnTo>
                  <a:pt x="607" y="201"/>
                </a:lnTo>
                <a:lnTo>
                  <a:pt x="607" y="226"/>
                </a:lnTo>
                <a:lnTo>
                  <a:pt x="607" y="232"/>
                </a:lnTo>
                <a:lnTo>
                  <a:pt x="607" y="241"/>
                </a:lnTo>
                <a:lnTo>
                  <a:pt x="607" y="270"/>
                </a:lnTo>
                <a:lnTo>
                  <a:pt x="606" y="277"/>
                </a:lnTo>
                <a:lnTo>
                  <a:pt x="606" y="291"/>
                </a:lnTo>
                <a:lnTo>
                  <a:pt x="606" y="304"/>
                </a:lnTo>
                <a:lnTo>
                  <a:pt x="606" y="323"/>
                </a:lnTo>
                <a:lnTo>
                  <a:pt x="606" y="356"/>
                </a:lnTo>
                <a:lnTo>
                  <a:pt x="605" y="369"/>
                </a:lnTo>
                <a:lnTo>
                  <a:pt x="605" y="381"/>
                </a:lnTo>
                <a:lnTo>
                  <a:pt x="605" y="421"/>
                </a:lnTo>
                <a:lnTo>
                  <a:pt x="608" y="419"/>
                </a:lnTo>
                <a:lnTo>
                  <a:pt x="618" y="432"/>
                </a:lnTo>
                <a:lnTo>
                  <a:pt x="627" y="451"/>
                </a:lnTo>
                <a:lnTo>
                  <a:pt x="648" y="453"/>
                </a:lnTo>
                <a:lnTo>
                  <a:pt x="650" y="457"/>
                </a:lnTo>
                <a:lnTo>
                  <a:pt x="670" y="465"/>
                </a:lnTo>
                <a:lnTo>
                  <a:pt x="673" y="468"/>
                </a:lnTo>
                <a:lnTo>
                  <a:pt x="674" y="493"/>
                </a:lnTo>
                <a:lnTo>
                  <a:pt x="681" y="499"/>
                </a:lnTo>
                <a:lnTo>
                  <a:pt x="687" y="497"/>
                </a:lnTo>
                <a:lnTo>
                  <a:pt x="696" y="499"/>
                </a:lnTo>
                <a:lnTo>
                  <a:pt x="713" y="514"/>
                </a:lnTo>
                <a:lnTo>
                  <a:pt x="725" y="507"/>
                </a:lnTo>
                <a:lnTo>
                  <a:pt x="726" y="509"/>
                </a:lnTo>
                <a:lnTo>
                  <a:pt x="730" y="514"/>
                </a:lnTo>
                <a:lnTo>
                  <a:pt x="735" y="524"/>
                </a:lnTo>
                <a:lnTo>
                  <a:pt x="743" y="524"/>
                </a:lnTo>
                <a:lnTo>
                  <a:pt x="759" y="514"/>
                </a:lnTo>
                <a:lnTo>
                  <a:pt x="765" y="516"/>
                </a:lnTo>
                <a:lnTo>
                  <a:pt x="768" y="512"/>
                </a:lnTo>
                <a:lnTo>
                  <a:pt x="772" y="510"/>
                </a:lnTo>
                <a:lnTo>
                  <a:pt x="774" y="539"/>
                </a:lnTo>
                <a:lnTo>
                  <a:pt x="782" y="539"/>
                </a:lnTo>
                <a:lnTo>
                  <a:pt x="782" y="562"/>
                </a:lnTo>
                <a:lnTo>
                  <a:pt x="791" y="572"/>
                </a:lnTo>
                <a:lnTo>
                  <a:pt x="813" y="545"/>
                </a:lnTo>
                <a:lnTo>
                  <a:pt x="819" y="560"/>
                </a:lnTo>
                <a:lnTo>
                  <a:pt x="821" y="558"/>
                </a:lnTo>
                <a:lnTo>
                  <a:pt x="824" y="556"/>
                </a:lnTo>
                <a:lnTo>
                  <a:pt x="825" y="556"/>
                </a:lnTo>
                <a:lnTo>
                  <a:pt x="835" y="577"/>
                </a:lnTo>
                <a:lnTo>
                  <a:pt x="852" y="566"/>
                </a:lnTo>
                <a:lnTo>
                  <a:pt x="851" y="589"/>
                </a:lnTo>
                <a:lnTo>
                  <a:pt x="857" y="598"/>
                </a:lnTo>
                <a:lnTo>
                  <a:pt x="873" y="549"/>
                </a:lnTo>
                <a:lnTo>
                  <a:pt x="874" y="549"/>
                </a:lnTo>
                <a:lnTo>
                  <a:pt x="890" y="575"/>
                </a:lnTo>
                <a:lnTo>
                  <a:pt x="903" y="560"/>
                </a:lnTo>
                <a:lnTo>
                  <a:pt x="904" y="560"/>
                </a:lnTo>
                <a:lnTo>
                  <a:pt x="902" y="566"/>
                </a:lnTo>
                <a:lnTo>
                  <a:pt x="912" y="585"/>
                </a:lnTo>
                <a:lnTo>
                  <a:pt x="919" y="585"/>
                </a:lnTo>
                <a:lnTo>
                  <a:pt x="923" y="594"/>
                </a:lnTo>
                <a:lnTo>
                  <a:pt x="935" y="587"/>
                </a:lnTo>
                <a:lnTo>
                  <a:pt x="957" y="562"/>
                </a:lnTo>
                <a:lnTo>
                  <a:pt x="970" y="570"/>
                </a:lnTo>
                <a:lnTo>
                  <a:pt x="978" y="562"/>
                </a:lnTo>
                <a:lnTo>
                  <a:pt x="979" y="556"/>
                </a:lnTo>
                <a:lnTo>
                  <a:pt x="991" y="552"/>
                </a:lnTo>
                <a:lnTo>
                  <a:pt x="991" y="547"/>
                </a:lnTo>
                <a:lnTo>
                  <a:pt x="995" y="549"/>
                </a:lnTo>
                <a:lnTo>
                  <a:pt x="997" y="556"/>
                </a:lnTo>
                <a:lnTo>
                  <a:pt x="996" y="558"/>
                </a:lnTo>
                <a:lnTo>
                  <a:pt x="1017" y="558"/>
                </a:lnTo>
                <a:lnTo>
                  <a:pt x="1020" y="560"/>
                </a:lnTo>
                <a:lnTo>
                  <a:pt x="1022" y="547"/>
                </a:lnTo>
                <a:lnTo>
                  <a:pt x="1031" y="547"/>
                </a:lnTo>
                <a:lnTo>
                  <a:pt x="1033" y="547"/>
                </a:lnTo>
                <a:lnTo>
                  <a:pt x="1033" y="552"/>
                </a:lnTo>
                <a:lnTo>
                  <a:pt x="1044" y="560"/>
                </a:lnTo>
                <a:lnTo>
                  <a:pt x="1056" y="583"/>
                </a:lnTo>
                <a:lnTo>
                  <a:pt x="1060" y="587"/>
                </a:lnTo>
                <a:lnTo>
                  <a:pt x="1060" y="579"/>
                </a:lnTo>
                <a:lnTo>
                  <a:pt x="1066" y="583"/>
                </a:lnTo>
                <a:lnTo>
                  <a:pt x="1066" y="591"/>
                </a:lnTo>
                <a:lnTo>
                  <a:pt x="1068" y="589"/>
                </a:lnTo>
                <a:lnTo>
                  <a:pt x="1067" y="593"/>
                </a:lnTo>
                <a:lnTo>
                  <a:pt x="1078" y="596"/>
                </a:lnTo>
                <a:lnTo>
                  <a:pt x="1087" y="610"/>
                </a:lnTo>
                <a:lnTo>
                  <a:pt x="1090" y="604"/>
                </a:lnTo>
                <a:lnTo>
                  <a:pt x="1101" y="623"/>
                </a:lnTo>
                <a:lnTo>
                  <a:pt x="1111" y="614"/>
                </a:lnTo>
                <a:lnTo>
                  <a:pt x="1131" y="619"/>
                </a:lnTo>
                <a:lnTo>
                  <a:pt x="1131" y="625"/>
                </a:lnTo>
                <a:lnTo>
                  <a:pt x="1132" y="656"/>
                </a:lnTo>
                <a:lnTo>
                  <a:pt x="1132" y="677"/>
                </a:lnTo>
                <a:lnTo>
                  <a:pt x="1132" y="682"/>
                </a:lnTo>
                <a:lnTo>
                  <a:pt x="1133" y="707"/>
                </a:lnTo>
                <a:lnTo>
                  <a:pt x="1133" y="730"/>
                </a:lnTo>
                <a:lnTo>
                  <a:pt x="1133" y="734"/>
                </a:lnTo>
                <a:lnTo>
                  <a:pt x="1134" y="759"/>
                </a:lnTo>
                <a:lnTo>
                  <a:pt x="1134" y="785"/>
                </a:lnTo>
                <a:lnTo>
                  <a:pt x="1134" y="787"/>
                </a:lnTo>
                <a:lnTo>
                  <a:pt x="1134" y="797"/>
                </a:lnTo>
                <a:lnTo>
                  <a:pt x="1135" y="810"/>
                </a:lnTo>
                <a:lnTo>
                  <a:pt x="1135" y="837"/>
                </a:lnTo>
                <a:lnTo>
                  <a:pt x="1136" y="860"/>
                </a:lnTo>
                <a:lnTo>
                  <a:pt x="1136" y="862"/>
                </a:lnTo>
                <a:lnTo>
                  <a:pt x="1136" y="889"/>
                </a:lnTo>
                <a:lnTo>
                  <a:pt x="1136" y="900"/>
                </a:lnTo>
                <a:lnTo>
                  <a:pt x="1137" y="940"/>
                </a:lnTo>
                <a:lnTo>
                  <a:pt x="1140" y="942"/>
                </a:lnTo>
                <a:lnTo>
                  <a:pt x="1140" y="944"/>
                </a:lnTo>
                <a:lnTo>
                  <a:pt x="1141" y="946"/>
                </a:lnTo>
                <a:lnTo>
                  <a:pt x="1141" y="948"/>
                </a:lnTo>
                <a:lnTo>
                  <a:pt x="1153" y="971"/>
                </a:lnTo>
                <a:lnTo>
                  <a:pt x="1152" y="971"/>
                </a:lnTo>
                <a:lnTo>
                  <a:pt x="1157" y="990"/>
                </a:lnTo>
                <a:lnTo>
                  <a:pt x="1158" y="1024"/>
                </a:lnTo>
                <a:lnTo>
                  <a:pt x="1168" y="1041"/>
                </a:lnTo>
                <a:lnTo>
                  <a:pt x="1166" y="1045"/>
                </a:lnTo>
                <a:lnTo>
                  <a:pt x="1181" y="1106"/>
                </a:lnTo>
                <a:lnTo>
                  <a:pt x="1185" y="1104"/>
                </a:lnTo>
                <a:lnTo>
                  <a:pt x="1184" y="1143"/>
                </a:lnTo>
                <a:lnTo>
                  <a:pt x="1186" y="1169"/>
                </a:lnTo>
                <a:lnTo>
                  <a:pt x="1182" y="1194"/>
                </a:lnTo>
                <a:lnTo>
                  <a:pt x="1174" y="1248"/>
                </a:lnTo>
                <a:lnTo>
                  <a:pt x="1172" y="1269"/>
                </a:lnTo>
                <a:lnTo>
                  <a:pt x="1171" y="1269"/>
                </a:lnTo>
                <a:lnTo>
                  <a:pt x="1171" y="1286"/>
                </a:lnTo>
                <a:lnTo>
                  <a:pt x="1175" y="1299"/>
                </a:lnTo>
                <a:lnTo>
                  <a:pt x="1177" y="1324"/>
                </a:lnTo>
                <a:lnTo>
                  <a:pt x="1175" y="1339"/>
                </a:lnTo>
                <a:lnTo>
                  <a:pt x="1174" y="1345"/>
                </a:lnTo>
                <a:lnTo>
                  <a:pt x="1171" y="1351"/>
                </a:lnTo>
                <a:lnTo>
                  <a:pt x="1164" y="1380"/>
                </a:lnTo>
                <a:lnTo>
                  <a:pt x="1161" y="1383"/>
                </a:lnTo>
                <a:lnTo>
                  <a:pt x="1162" y="1406"/>
                </a:lnTo>
                <a:lnTo>
                  <a:pt x="1167" y="1425"/>
                </a:lnTo>
                <a:lnTo>
                  <a:pt x="1162" y="1420"/>
                </a:lnTo>
                <a:lnTo>
                  <a:pt x="1147" y="1420"/>
                </a:lnTo>
                <a:lnTo>
                  <a:pt x="1118" y="1444"/>
                </a:lnTo>
                <a:lnTo>
                  <a:pt x="1116" y="1446"/>
                </a:lnTo>
                <a:lnTo>
                  <a:pt x="1084" y="1488"/>
                </a:lnTo>
                <a:lnTo>
                  <a:pt x="1079" y="1486"/>
                </a:lnTo>
                <a:lnTo>
                  <a:pt x="1096" y="1460"/>
                </a:lnTo>
                <a:lnTo>
                  <a:pt x="1105" y="1454"/>
                </a:lnTo>
                <a:lnTo>
                  <a:pt x="1105" y="1450"/>
                </a:lnTo>
                <a:lnTo>
                  <a:pt x="1093" y="1448"/>
                </a:lnTo>
                <a:lnTo>
                  <a:pt x="1081" y="1454"/>
                </a:lnTo>
                <a:lnTo>
                  <a:pt x="1081" y="1402"/>
                </a:lnTo>
                <a:lnTo>
                  <a:pt x="1074" y="1408"/>
                </a:lnTo>
                <a:lnTo>
                  <a:pt x="1070" y="1425"/>
                </a:lnTo>
                <a:lnTo>
                  <a:pt x="1064" y="1425"/>
                </a:lnTo>
                <a:lnTo>
                  <a:pt x="1062" y="1423"/>
                </a:lnTo>
                <a:lnTo>
                  <a:pt x="1061" y="1423"/>
                </a:lnTo>
                <a:lnTo>
                  <a:pt x="1060" y="1425"/>
                </a:lnTo>
                <a:lnTo>
                  <a:pt x="1057" y="1435"/>
                </a:lnTo>
                <a:lnTo>
                  <a:pt x="1058" y="1444"/>
                </a:lnTo>
                <a:lnTo>
                  <a:pt x="1057" y="1450"/>
                </a:lnTo>
                <a:lnTo>
                  <a:pt x="1058" y="1456"/>
                </a:lnTo>
                <a:lnTo>
                  <a:pt x="1067" y="1462"/>
                </a:lnTo>
                <a:lnTo>
                  <a:pt x="1070" y="1485"/>
                </a:lnTo>
                <a:lnTo>
                  <a:pt x="1084" y="1494"/>
                </a:lnTo>
                <a:lnTo>
                  <a:pt x="1049" y="1549"/>
                </a:lnTo>
                <a:lnTo>
                  <a:pt x="1025" y="1592"/>
                </a:lnTo>
                <a:lnTo>
                  <a:pt x="1014" y="1603"/>
                </a:lnTo>
                <a:lnTo>
                  <a:pt x="1013" y="1603"/>
                </a:lnTo>
                <a:lnTo>
                  <a:pt x="977" y="1645"/>
                </a:lnTo>
                <a:lnTo>
                  <a:pt x="945" y="1677"/>
                </a:lnTo>
                <a:lnTo>
                  <a:pt x="933" y="1697"/>
                </a:lnTo>
                <a:lnTo>
                  <a:pt x="921" y="1716"/>
                </a:lnTo>
                <a:lnTo>
                  <a:pt x="909" y="1729"/>
                </a:lnTo>
                <a:lnTo>
                  <a:pt x="888" y="1763"/>
                </a:lnTo>
                <a:lnTo>
                  <a:pt x="871" y="1805"/>
                </a:lnTo>
                <a:lnTo>
                  <a:pt x="871" y="1811"/>
                </a:lnTo>
                <a:lnTo>
                  <a:pt x="862" y="1832"/>
                </a:lnTo>
                <a:lnTo>
                  <a:pt x="854" y="1865"/>
                </a:lnTo>
                <a:lnTo>
                  <a:pt x="842" y="1926"/>
                </a:lnTo>
                <a:lnTo>
                  <a:pt x="841" y="1932"/>
                </a:lnTo>
                <a:lnTo>
                  <a:pt x="839" y="1983"/>
                </a:lnTo>
                <a:lnTo>
                  <a:pt x="848" y="2065"/>
                </a:lnTo>
                <a:lnTo>
                  <a:pt x="854" y="2103"/>
                </a:lnTo>
                <a:lnTo>
                  <a:pt x="862" y="2187"/>
                </a:lnTo>
                <a:lnTo>
                  <a:pt x="842" y="2212"/>
                </a:lnTo>
                <a:lnTo>
                  <a:pt x="828" y="2208"/>
                </a:lnTo>
                <a:lnTo>
                  <a:pt x="817" y="2187"/>
                </a:lnTo>
                <a:lnTo>
                  <a:pt x="793" y="2174"/>
                </a:lnTo>
                <a:lnTo>
                  <a:pt x="756" y="2172"/>
                </a:lnTo>
                <a:lnTo>
                  <a:pt x="753" y="2163"/>
                </a:lnTo>
                <a:lnTo>
                  <a:pt x="749" y="2163"/>
                </a:lnTo>
                <a:lnTo>
                  <a:pt x="723" y="2134"/>
                </a:lnTo>
                <a:lnTo>
                  <a:pt x="714" y="2136"/>
                </a:lnTo>
                <a:lnTo>
                  <a:pt x="707" y="2126"/>
                </a:lnTo>
                <a:lnTo>
                  <a:pt x="707" y="2119"/>
                </a:lnTo>
                <a:lnTo>
                  <a:pt x="683" y="2105"/>
                </a:lnTo>
                <a:lnTo>
                  <a:pt x="667" y="2069"/>
                </a:lnTo>
                <a:lnTo>
                  <a:pt x="658" y="2016"/>
                </a:lnTo>
                <a:lnTo>
                  <a:pt x="645" y="1981"/>
                </a:lnTo>
                <a:lnTo>
                  <a:pt x="641" y="1928"/>
                </a:lnTo>
                <a:lnTo>
                  <a:pt x="637" y="1878"/>
                </a:lnTo>
                <a:lnTo>
                  <a:pt x="626" y="1849"/>
                </a:lnTo>
                <a:lnTo>
                  <a:pt x="614" y="1836"/>
                </a:lnTo>
                <a:lnTo>
                  <a:pt x="612" y="1830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24440" y="2905200"/>
            <a:ext cx="416160" cy="691920"/>
          </a:xfrm>
          <a:custGeom>
            <a:avLst/>
            <a:gdLst/>
            <a:ahLst/>
            <a:rect l="l" t="t" r="r" b="b"/>
            <a:pathLst>
              <a:path w="262" h="871">
                <a:moveTo>
                  <a:pt x="236" y="244"/>
                </a:moveTo>
                <a:lnTo>
                  <a:pt x="237" y="258"/>
                </a:lnTo>
                <a:lnTo>
                  <a:pt x="238" y="277"/>
                </a:lnTo>
                <a:lnTo>
                  <a:pt x="239" y="288"/>
                </a:lnTo>
                <a:lnTo>
                  <a:pt x="240" y="298"/>
                </a:lnTo>
                <a:lnTo>
                  <a:pt x="241" y="309"/>
                </a:lnTo>
                <a:lnTo>
                  <a:pt x="242" y="336"/>
                </a:lnTo>
                <a:lnTo>
                  <a:pt x="244" y="359"/>
                </a:lnTo>
                <a:lnTo>
                  <a:pt x="244" y="361"/>
                </a:lnTo>
                <a:lnTo>
                  <a:pt x="245" y="378"/>
                </a:lnTo>
                <a:lnTo>
                  <a:pt x="245" y="386"/>
                </a:lnTo>
                <a:lnTo>
                  <a:pt x="246" y="397"/>
                </a:lnTo>
                <a:lnTo>
                  <a:pt x="247" y="416"/>
                </a:lnTo>
                <a:lnTo>
                  <a:pt x="249" y="441"/>
                </a:lnTo>
                <a:lnTo>
                  <a:pt x="249" y="445"/>
                </a:lnTo>
                <a:lnTo>
                  <a:pt x="249" y="449"/>
                </a:lnTo>
                <a:lnTo>
                  <a:pt x="250" y="458"/>
                </a:lnTo>
                <a:lnTo>
                  <a:pt x="250" y="464"/>
                </a:lnTo>
                <a:lnTo>
                  <a:pt x="251" y="472"/>
                </a:lnTo>
                <a:lnTo>
                  <a:pt x="253" y="504"/>
                </a:lnTo>
                <a:lnTo>
                  <a:pt x="255" y="531"/>
                </a:lnTo>
                <a:lnTo>
                  <a:pt x="255" y="540"/>
                </a:lnTo>
                <a:lnTo>
                  <a:pt x="256" y="544"/>
                </a:lnTo>
                <a:lnTo>
                  <a:pt x="251" y="552"/>
                </a:lnTo>
                <a:lnTo>
                  <a:pt x="252" y="561"/>
                </a:lnTo>
                <a:lnTo>
                  <a:pt x="255" y="567"/>
                </a:lnTo>
                <a:lnTo>
                  <a:pt x="254" y="582"/>
                </a:lnTo>
                <a:lnTo>
                  <a:pt x="254" y="588"/>
                </a:lnTo>
                <a:lnTo>
                  <a:pt x="262" y="590"/>
                </a:lnTo>
                <a:lnTo>
                  <a:pt x="262" y="592"/>
                </a:lnTo>
                <a:lnTo>
                  <a:pt x="261" y="596"/>
                </a:lnTo>
                <a:lnTo>
                  <a:pt x="255" y="609"/>
                </a:lnTo>
                <a:lnTo>
                  <a:pt x="245" y="617"/>
                </a:lnTo>
                <a:lnTo>
                  <a:pt x="244" y="619"/>
                </a:lnTo>
                <a:lnTo>
                  <a:pt x="241" y="622"/>
                </a:lnTo>
                <a:lnTo>
                  <a:pt x="236" y="632"/>
                </a:lnTo>
                <a:lnTo>
                  <a:pt x="230" y="638"/>
                </a:lnTo>
                <a:lnTo>
                  <a:pt x="225" y="630"/>
                </a:lnTo>
                <a:lnTo>
                  <a:pt x="225" y="628"/>
                </a:lnTo>
                <a:lnTo>
                  <a:pt x="219" y="630"/>
                </a:lnTo>
                <a:lnTo>
                  <a:pt x="215" y="632"/>
                </a:lnTo>
                <a:lnTo>
                  <a:pt x="211" y="655"/>
                </a:lnTo>
                <a:lnTo>
                  <a:pt x="213" y="663"/>
                </a:lnTo>
                <a:lnTo>
                  <a:pt x="213" y="665"/>
                </a:lnTo>
                <a:lnTo>
                  <a:pt x="213" y="676"/>
                </a:lnTo>
                <a:lnTo>
                  <a:pt x="209" y="687"/>
                </a:lnTo>
                <a:lnTo>
                  <a:pt x="199" y="703"/>
                </a:lnTo>
                <a:lnTo>
                  <a:pt x="198" y="710"/>
                </a:lnTo>
                <a:lnTo>
                  <a:pt x="191" y="735"/>
                </a:lnTo>
                <a:lnTo>
                  <a:pt x="189" y="733"/>
                </a:lnTo>
                <a:lnTo>
                  <a:pt x="187" y="731"/>
                </a:lnTo>
                <a:lnTo>
                  <a:pt x="184" y="739"/>
                </a:lnTo>
                <a:lnTo>
                  <a:pt x="184" y="741"/>
                </a:lnTo>
                <a:lnTo>
                  <a:pt x="179" y="756"/>
                </a:lnTo>
                <a:lnTo>
                  <a:pt x="179" y="766"/>
                </a:lnTo>
                <a:lnTo>
                  <a:pt x="179" y="768"/>
                </a:lnTo>
                <a:lnTo>
                  <a:pt x="178" y="792"/>
                </a:lnTo>
                <a:lnTo>
                  <a:pt x="177" y="792"/>
                </a:lnTo>
                <a:lnTo>
                  <a:pt x="174" y="794"/>
                </a:lnTo>
                <a:lnTo>
                  <a:pt x="152" y="791"/>
                </a:lnTo>
                <a:lnTo>
                  <a:pt x="149" y="773"/>
                </a:lnTo>
                <a:lnTo>
                  <a:pt x="144" y="764"/>
                </a:lnTo>
                <a:lnTo>
                  <a:pt x="140" y="762"/>
                </a:lnTo>
                <a:lnTo>
                  <a:pt x="141" y="775"/>
                </a:lnTo>
                <a:lnTo>
                  <a:pt x="134" y="779"/>
                </a:lnTo>
                <a:lnTo>
                  <a:pt x="133" y="781"/>
                </a:lnTo>
                <a:lnTo>
                  <a:pt x="134" y="783"/>
                </a:lnTo>
                <a:lnTo>
                  <a:pt x="132" y="794"/>
                </a:lnTo>
                <a:lnTo>
                  <a:pt x="130" y="794"/>
                </a:lnTo>
                <a:lnTo>
                  <a:pt x="125" y="831"/>
                </a:lnTo>
                <a:lnTo>
                  <a:pt x="121" y="838"/>
                </a:lnTo>
                <a:lnTo>
                  <a:pt x="121" y="833"/>
                </a:lnTo>
                <a:lnTo>
                  <a:pt x="112" y="827"/>
                </a:lnTo>
                <a:lnTo>
                  <a:pt x="106" y="810"/>
                </a:lnTo>
                <a:lnTo>
                  <a:pt x="101" y="815"/>
                </a:lnTo>
                <a:lnTo>
                  <a:pt x="93" y="827"/>
                </a:lnTo>
                <a:lnTo>
                  <a:pt x="91" y="829"/>
                </a:lnTo>
                <a:lnTo>
                  <a:pt x="82" y="859"/>
                </a:lnTo>
                <a:lnTo>
                  <a:pt x="69" y="842"/>
                </a:lnTo>
                <a:lnTo>
                  <a:pt x="66" y="838"/>
                </a:lnTo>
                <a:lnTo>
                  <a:pt x="58" y="833"/>
                </a:lnTo>
                <a:lnTo>
                  <a:pt x="57" y="831"/>
                </a:lnTo>
                <a:lnTo>
                  <a:pt x="53" y="833"/>
                </a:lnTo>
                <a:lnTo>
                  <a:pt x="39" y="838"/>
                </a:lnTo>
                <a:lnTo>
                  <a:pt x="40" y="859"/>
                </a:lnTo>
                <a:lnTo>
                  <a:pt x="33" y="846"/>
                </a:lnTo>
                <a:lnTo>
                  <a:pt x="28" y="848"/>
                </a:lnTo>
                <a:lnTo>
                  <a:pt x="18" y="844"/>
                </a:lnTo>
                <a:lnTo>
                  <a:pt x="14" y="848"/>
                </a:lnTo>
                <a:lnTo>
                  <a:pt x="13" y="854"/>
                </a:lnTo>
                <a:lnTo>
                  <a:pt x="9" y="871"/>
                </a:lnTo>
                <a:lnTo>
                  <a:pt x="6" y="871"/>
                </a:lnTo>
                <a:lnTo>
                  <a:pt x="2" y="856"/>
                </a:lnTo>
                <a:lnTo>
                  <a:pt x="0" y="854"/>
                </a:lnTo>
                <a:lnTo>
                  <a:pt x="6" y="819"/>
                </a:lnTo>
                <a:lnTo>
                  <a:pt x="7" y="804"/>
                </a:lnTo>
                <a:lnTo>
                  <a:pt x="5" y="781"/>
                </a:lnTo>
                <a:lnTo>
                  <a:pt x="5" y="777"/>
                </a:lnTo>
                <a:lnTo>
                  <a:pt x="5" y="775"/>
                </a:lnTo>
                <a:lnTo>
                  <a:pt x="7" y="777"/>
                </a:lnTo>
                <a:lnTo>
                  <a:pt x="21" y="750"/>
                </a:lnTo>
                <a:lnTo>
                  <a:pt x="23" y="739"/>
                </a:lnTo>
                <a:lnTo>
                  <a:pt x="22" y="728"/>
                </a:lnTo>
                <a:lnTo>
                  <a:pt x="28" y="722"/>
                </a:lnTo>
                <a:lnTo>
                  <a:pt x="29" y="707"/>
                </a:lnTo>
                <a:lnTo>
                  <a:pt x="31" y="703"/>
                </a:lnTo>
                <a:lnTo>
                  <a:pt x="40" y="670"/>
                </a:lnTo>
                <a:lnTo>
                  <a:pt x="36" y="645"/>
                </a:lnTo>
                <a:lnTo>
                  <a:pt x="34" y="642"/>
                </a:lnTo>
                <a:lnTo>
                  <a:pt x="34" y="638"/>
                </a:lnTo>
                <a:lnTo>
                  <a:pt x="36" y="636"/>
                </a:lnTo>
                <a:lnTo>
                  <a:pt x="31" y="617"/>
                </a:lnTo>
                <a:lnTo>
                  <a:pt x="25" y="596"/>
                </a:lnTo>
                <a:lnTo>
                  <a:pt x="25" y="584"/>
                </a:lnTo>
                <a:lnTo>
                  <a:pt x="28" y="563"/>
                </a:lnTo>
                <a:lnTo>
                  <a:pt x="26" y="565"/>
                </a:lnTo>
                <a:lnTo>
                  <a:pt x="25" y="563"/>
                </a:lnTo>
                <a:lnTo>
                  <a:pt x="30" y="544"/>
                </a:lnTo>
                <a:lnTo>
                  <a:pt x="29" y="517"/>
                </a:lnTo>
                <a:lnTo>
                  <a:pt x="29" y="514"/>
                </a:lnTo>
                <a:lnTo>
                  <a:pt x="27" y="491"/>
                </a:lnTo>
                <a:lnTo>
                  <a:pt x="26" y="474"/>
                </a:lnTo>
                <a:lnTo>
                  <a:pt x="25" y="449"/>
                </a:lnTo>
                <a:lnTo>
                  <a:pt x="24" y="433"/>
                </a:lnTo>
                <a:lnTo>
                  <a:pt x="22" y="397"/>
                </a:lnTo>
                <a:lnTo>
                  <a:pt x="22" y="384"/>
                </a:lnTo>
                <a:lnTo>
                  <a:pt x="22" y="380"/>
                </a:lnTo>
                <a:lnTo>
                  <a:pt x="20" y="346"/>
                </a:lnTo>
                <a:lnTo>
                  <a:pt x="19" y="326"/>
                </a:lnTo>
                <a:lnTo>
                  <a:pt x="18" y="311"/>
                </a:lnTo>
                <a:lnTo>
                  <a:pt x="18" y="309"/>
                </a:lnTo>
                <a:lnTo>
                  <a:pt x="17" y="292"/>
                </a:lnTo>
                <a:lnTo>
                  <a:pt x="17" y="281"/>
                </a:lnTo>
                <a:lnTo>
                  <a:pt x="15" y="258"/>
                </a:lnTo>
                <a:lnTo>
                  <a:pt x="13" y="216"/>
                </a:lnTo>
                <a:lnTo>
                  <a:pt x="12" y="204"/>
                </a:lnTo>
                <a:lnTo>
                  <a:pt x="12" y="202"/>
                </a:lnTo>
                <a:lnTo>
                  <a:pt x="11" y="187"/>
                </a:lnTo>
                <a:lnTo>
                  <a:pt x="11" y="179"/>
                </a:lnTo>
                <a:lnTo>
                  <a:pt x="11" y="170"/>
                </a:lnTo>
                <a:lnTo>
                  <a:pt x="10" y="153"/>
                </a:lnTo>
                <a:lnTo>
                  <a:pt x="9" y="147"/>
                </a:lnTo>
                <a:lnTo>
                  <a:pt x="9" y="143"/>
                </a:lnTo>
                <a:lnTo>
                  <a:pt x="9" y="135"/>
                </a:lnTo>
                <a:lnTo>
                  <a:pt x="8" y="128"/>
                </a:lnTo>
                <a:lnTo>
                  <a:pt x="7" y="109"/>
                </a:lnTo>
                <a:lnTo>
                  <a:pt x="7" y="95"/>
                </a:lnTo>
                <a:lnTo>
                  <a:pt x="6" y="90"/>
                </a:lnTo>
                <a:lnTo>
                  <a:pt x="5" y="57"/>
                </a:lnTo>
                <a:lnTo>
                  <a:pt x="5" y="59"/>
                </a:lnTo>
                <a:lnTo>
                  <a:pt x="17" y="72"/>
                </a:lnTo>
                <a:lnTo>
                  <a:pt x="29" y="72"/>
                </a:lnTo>
                <a:lnTo>
                  <a:pt x="32" y="69"/>
                </a:lnTo>
                <a:lnTo>
                  <a:pt x="34" y="69"/>
                </a:lnTo>
                <a:lnTo>
                  <a:pt x="51" y="49"/>
                </a:lnTo>
                <a:lnTo>
                  <a:pt x="55" y="44"/>
                </a:lnTo>
                <a:lnTo>
                  <a:pt x="59" y="36"/>
                </a:lnTo>
                <a:lnTo>
                  <a:pt x="65" y="36"/>
                </a:lnTo>
                <a:lnTo>
                  <a:pt x="75" y="34"/>
                </a:lnTo>
                <a:lnTo>
                  <a:pt x="83" y="32"/>
                </a:lnTo>
                <a:lnTo>
                  <a:pt x="96" y="30"/>
                </a:lnTo>
                <a:lnTo>
                  <a:pt x="106" y="27"/>
                </a:lnTo>
                <a:lnTo>
                  <a:pt x="108" y="27"/>
                </a:lnTo>
                <a:lnTo>
                  <a:pt x="121" y="25"/>
                </a:lnTo>
                <a:lnTo>
                  <a:pt x="125" y="23"/>
                </a:lnTo>
                <a:lnTo>
                  <a:pt x="144" y="19"/>
                </a:lnTo>
                <a:lnTo>
                  <a:pt x="145" y="19"/>
                </a:lnTo>
                <a:lnTo>
                  <a:pt x="152" y="17"/>
                </a:lnTo>
                <a:lnTo>
                  <a:pt x="165" y="13"/>
                </a:lnTo>
                <a:lnTo>
                  <a:pt x="175" y="11"/>
                </a:lnTo>
                <a:lnTo>
                  <a:pt x="181" y="9"/>
                </a:lnTo>
                <a:lnTo>
                  <a:pt x="184" y="9"/>
                </a:lnTo>
                <a:lnTo>
                  <a:pt x="186" y="9"/>
                </a:lnTo>
                <a:lnTo>
                  <a:pt x="189" y="7"/>
                </a:lnTo>
                <a:lnTo>
                  <a:pt x="194" y="7"/>
                </a:lnTo>
                <a:lnTo>
                  <a:pt x="204" y="4"/>
                </a:lnTo>
                <a:lnTo>
                  <a:pt x="218" y="0"/>
                </a:lnTo>
                <a:lnTo>
                  <a:pt x="219" y="0"/>
                </a:lnTo>
                <a:lnTo>
                  <a:pt x="220" y="13"/>
                </a:lnTo>
                <a:lnTo>
                  <a:pt x="223" y="48"/>
                </a:lnTo>
                <a:lnTo>
                  <a:pt x="224" y="69"/>
                </a:lnTo>
                <a:lnTo>
                  <a:pt x="225" y="78"/>
                </a:lnTo>
                <a:lnTo>
                  <a:pt x="225" y="82"/>
                </a:lnTo>
                <a:lnTo>
                  <a:pt x="226" y="101"/>
                </a:lnTo>
                <a:lnTo>
                  <a:pt x="227" y="105"/>
                </a:lnTo>
                <a:lnTo>
                  <a:pt x="228" y="130"/>
                </a:lnTo>
                <a:lnTo>
                  <a:pt x="230" y="156"/>
                </a:lnTo>
                <a:lnTo>
                  <a:pt x="230" y="158"/>
                </a:lnTo>
                <a:lnTo>
                  <a:pt x="231" y="172"/>
                </a:lnTo>
                <a:lnTo>
                  <a:pt x="232" y="181"/>
                </a:lnTo>
                <a:lnTo>
                  <a:pt x="234" y="206"/>
                </a:lnTo>
                <a:lnTo>
                  <a:pt x="234" y="212"/>
                </a:lnTo>
                <a:lnTo>
                  <a:pt x="236" y="233"/>
                </a:lnTo>
                <a:lnTo>
                  <a:pt x="236" y="244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70720" y="3330720"/>
            <a:ext cx="973080" cy="495000"/>
          </a:xfrm>
          <a:custGeom>
            <a:avLst/>
            <a:gdLst/>
            <a:ahLst/>
            <a:rect l="l" t="t" r="r" b="b"/>
            <a:pathLst>
              <a:path w="613" h="624">
                <a:moveTo>
                  <a:pt x="439" y="513"/>
                </a:moveTo>
                <a:lnTo>
                  <a:pt x="438" y="513"/>
                </a:lnTo>
                <a:lnTo>
                  <a:pt x="436" y="513"/>
                </a:lnTo>
                <a:lnTo>
                  <a:pt x="421" y="517"/>
                </a:lnTo>
                <a:lnTo>
                  <a:pt x="412" y="519"/>
                </a:lnTo>
                <a:lnTo>
                  <a:pt x="392" y="523"/>
                </a:lnTo>
                <a:lnTo>
                  <a:pt x="384" y="523"/>
                </a:lnTo>
                <a:lnTo>
                  <a:pt x="378" y="525"/>
                </a:lnTo>
                <a:lnTo>
                  <a:pt x="374" y="525"/>
                </a:lnTo>
                <a:lnTo>
                  <a:pt x="372" y="525"/>
                </a:lnTo>
                <a:lnTo>
                  <a:pt x="362" y="525"/>
                </a:lnTo>
                <a:lnTo>
                  <a:pt x="349" y="529"/>
                </a:lnTo>
                <a:lnTo>
                  <a:pt x="347" y="529"/>
                </a:lnTo>
                <a:lnTo>
                  <a:pt x="344" y="531"/>
                </a:lnTo>
                <a:lnTo>
                  <a:pt x="336" y="533"/>
                </a:lnTo>
                <a:lnTo>
                  <a:pt x="330" y="534"/>
                </a:lnTo>
                <a:lnTo>
                  <a:pt x="320" y="536"/>
                </a:lnTo>
                <a:lnTo>
                  <a:pt x="306" y="538"/>
                </a:lnTo>
                <a:lnTo>
                  <a:pt x="302" y="540"/>
                </a:lnTo>
                <a:lnTo>
                  <a:pt x="296" y="540"/>
                </a:lnTo>
                <a:lnTo>
                  <a:pt x="290" y="542"/>
                </a:lnTo>
                <a:lnTo>
                  <a:pt x="288" y="542"/>
                </a:lnTo>
                <a:lnTo>
                  <a:pt x="277" y="542"/>
                </a:lnTo>
                <a:lnTo>
                  <a:pt x="271" y="544"/>
                </a:lnTo>
                <a:lnTo>
                  <a:pt x="263" y="544"/>
                </a:lnTo>
                <a:lnTo>
                  <a:pt x="259" y="544"/>
                </a:lnTo>
                <a:lnTo>
                  <a:pt x="253" y="546"/>
                </a:lnTo>
                <a:lnTo>
                  <a:pt x="246" y="546"/>
                </a:lnTo>
                <a:lnTo>
                  <a:pt x="241" y="550"/>
                </a:lnTo>
                <a:lnTo>
                  <a:pt x="240" y="552"/>
                </a:lnTo>
                <a:lnTo>
                  <a:pt x="238" y="548"/>
                </a:lnTo>
                <a:lnTo>
                  <a:pt x="229" y="550"/>
                </a:lnTo>
                <a:lnTo>
                  <a:pt x="223" y="552"/>
                </a:lnTo>
                <a:lnTo>
                  <a:pt x="217" y="554"/>
                </a:lnTo>
                <a:lnTo>
                  <a:pt x="214" y="554"/>
                </a:lnTo>
                <a:lnTo>
                  <a:pt x="198" y="559"/>
                </a:lnTo>
                <a:lnTo>
                  <a:pt x="194" y="559"/>
                </a:lnTo>
                <a:lnTo>
                  <a:pt x="193" y="559"/>
                </a:lnTo>
                <a:lnTo>
                  <a:pt x="181" y="561"/>
                </a:lnTo>
                <a:lnTo>
                  <a:pt x="174" y="563"/>
                </a:lnTo>
                <a:lnTo>
                  <a:pt x="163" y="565"/>
                </a:lnTo>
                <a:lnTo>
                  <a:pt x="155" y="567"/>
                </a:lnTo>
                <a:lnTo>
                  <a:pt x="148" y="569"/>
                </a:lnTo>
                <a:lnTo>
                  <a:pt x="144" y="571"/>
                </a:lnTo>
                <a:lnTo>
                  <a:pt x="131" y="575"/>
                </a:lnTo>
                <a:lnTo>
                  <a:pt x="131" y="567"/>
                </a:lnTo>
                <a:lnTo>
                  <a:pt x="112" y="569"/>
                </a:lnTo>
                <a:lnTo>
                  <a:pt x="112" y="573"/>
                </a:lnTo>
                <a:lnTo>
                  <a:pt x="114" y="578"/>
                </a:lnTo>
                <a:lnTo>
                  <a:pt x="115" y="605"/>
                </a:lnTo>
                <a:lnTo>
                  <a:pt x="96" y="607"/>
                </a:lnTo>
                <a:lnTo>
                  <a:pt x="88" y="609"/>
                </a:lnTo>
                <a:lnTo>
                  <a:pt x="78" y="611"/>
                </a:lnTo>
                <a:lnTo>
                  <a:pt x="77" y="611"/>
                </a:lnTo>
                <a:lnTo>
                  <a:pt x="76" y="611"/>
                </a:lnTo>
                <a:lnTo>
                  <a:pt x="74" y="611"/>
                </a:lnTo>
                <a:lnTo>
                  <a:pt x="55" y="615"/>
                </a:lnTo>
                <a:lnTo>
                  <a:pt x="51" y="615"/>
                </a:lnTo>
                <a:lnTo>
                  <a:pt x="50" y="617"/>
                </a:lnTo>
                <a:lnTo>
                  <a:pt x="49" y="617"/>
                </a:lnTo>
                <a:lnTo>
                  <a:pt x="37" y="618"/>
                </a:lnTo>
                <a:lnTo>
                  <a:pt x="9" y="622"/>
                </a:lnTo>
                <a:lnTo>
                  <a:pt x="6" y="622"/>
                </a:lnTo>
                <a:lnTo>
                  <a:pt x="0" y="624"/>
                </a:lnTo>
                <a:lnTo>
                  <a:pt x="2" y="599"/>
                </a:lnTo>
                <a:lnTo>
                  <a:pt x="3" y="597"/>
                </a:lnTo>
                <a:lnTo>
                  <a:pt x="6" y="596"/>
                </a:lnTo>
                <a:lnTo>
                  <a:pt x="13" y="609"/>
                </a:lnTo>
                <a:lnTo>
                  <a:pt x="19" y="590"/>
                </a:lnTo>
                <a:lnTo>
                  <a:pt x="16" y="571"/>
                </a:lnTo>
                <a:lnTo>
                  <a:pt x="22" y="569"/>
                </a:lnTo>
                <a:lnTo>
                  <a:pt x="22" y="561"/>
                </a:lnTo>
                <a:lnTo>
                  <a:pt x="21" y="544"/>
                </a:lnTo>
                <a:lnTo>
                  <a:pt x="21" y="540"/>
                </a:lnTo>
                <a:lnTo>
                  <a:pt x="22" y="529"/>
                </a:lnTo>
                <a:lnTo>
                  <a:pt x="22" y="527"/>
                </a:lnTo>
                <a:lnTo>
                  <a:pt x="20" y="521"/>
                </a:lnTo>
                <a:lnTo>
                  <a:pt x="17" y="517"/>
                </a:lnTo>
                <a:lnTo>
                  <a:pt x="14" y="510"/>
                </a:lnTo>
                <a:lnTo>
                  <a:pt x="15" y="504"/>
                </a:lnTo>
                <a:lnTo>
                  <a:pt x="18" y="496"/>
                </a:lnTo>
                <a:lnTo>
                  <a:pt x="28" y="470"/>
                </a:lnTo>
                <a:lnTo>
                  <a:pt x="34" y="468"/>
                </a:lnTo>
                <a:lnTo>
                  <a:pt x="50" y="481"/>
                </a:lnTo>
                <a:lnTo>
                  <a:pt x="61" y="485"/>
                </a:lnTo>
                <a:lnTo>
                  <a:pt x="66" y="494"/>
                </a:lnTo>
                <a:lnTo>
                  <a:pt x="72" y="494"/>
                </a:lnTo>
                <a:lnTo>
                  <a:pt x="76" y="481"/>
                </a:lnTo>
                <a:lnTo>
                  <a:pt x="70" y="456"/>
                </a:lnTo>
                <a:lnTo>
                  <a:pt x="75" y="420"/>
                </a:lnTo>
                <a:lnTo>
                  <a:pt x="79" y="422"/>
                </a:lnTo>
                <a:lnTo>
                  <a:pt x="79" y="424"/>
                </a:lnTo>
                <a:lnTo>
                  <a:pt x="80" y="422"/>
                </a:lnTo>
                <a:lnTo>
                  <a:pt x="89" y="410"/>
                </a:lnTo>
                <a:lnTo>
                  <a:pt x="99" y="405"/>
                </a:lnTo>
                <a:lnTo>
                  <a:pt x="104" y="397"/>
                </a:lnTo>
                <a:lnTo>
                  <a:pt x="98" y="385"/>
                </a:lnTo>
                <a:lnTo>
                  <a:pt x="97" y="384"/>
                </a:lnTo>
                <a:lnTo>
                  <a:pt x="95" y="374"/>
                </a:lnTo>
                <a:lnTo>
                  <a:pt x="96" y="357"/>
                </a:lnTo>
                <a:lnTo>
                  <a:pt x="103" y="336"/>
                </a:lnTo>
                <a:lnTo>
                  <a:pt x="106" y="336"/>
                </a:lnTo>
                <a:lnTo>
                  <a:pt x="110" y="319"/>
                </a:lnTo>
                <a:lnTo>
                  <a:pt x="111" y="313"/>
                </a:lnTo>
                <a:lnTo>
                  <a:pt x="115" y="309"/>
                </a:lnTo>
                <a:lnTo>
                  <a:pt x="125" y="313"/>
                </a:lnTo>
                <a:lnTo>
                  <a:pt x="130" y="311"/>
                </a:lnTo>
                <a:lnTo>
                  <a:pt x="137" y="324"/>
                </a:lnTo>
                <a:lnTo>
                  <a:pt x="136" y="303"/>
                </a:lnTo>
                <a:lnTo>
                  <a:pt x="150" y="298"/>
                </a:lnTo>
                <a:lnTo>
                  <a:pt x="154" y="296"/>
                </a:lnTo>
                <a:lnTo>
                  <a:pt x="155" y="298"/>
                </a:lnTo>
                <a:lnTo>
                  <a:pt x="163" y="303"/>
                </a:lnTo>
                <a:lnTo>
                  <a:pt x="166" y="307"/>
                </a:lnTo>
                <a:lnTo>
                  <a:pt x="179" y="324"/>
                </a:lnTo>
                <a:lnTo>
                  <a:pt x="188" y="294"/>
                </a:lnTo>
                <a:lnTo>
                  <a:pt x="190" y="292"/>
                </a:lnTo>
                <a:lnTo>
                  <a:pt x="198" y="280"/>
                </a:lnTo>
                <a:lnTo>
                  <a:pt x="203" y="275"/>
                </a:lnTo>
                <a:lnTo>
                  <a:pt x="209" y="292"/>
                </a:lnTo>
                <a:lnTo>
                  <a:pt x="218" y="298"/>
                </a:lnTo>
                <a:lnTo>
                  <a:pt x="218" y="303"/>
                </a:lnTo>
                <a:lnTo>
                  <a:pt x="222" y="296"/>
                </a:lnTo>
                <a:lnTo>
                  <a:pt x="227" y="259"/>
                </a:lnTo>
                <a:lnTo>
                  <a:pt x="229" y="259"/>
                </a:lnTo>
                <a:lnTo>
                  <a:pt x="231" y="248"/>
                </a:lnTo>
                <a:lnTo>
                  <a:pt x="230" y="246"/>
                </a:lnTo>
                <a:lnTo>
                  <a:pt x="231" y="244"/>
                </a:lnTo>
                <a:lnTo>
                  <a:pt x="238" y="240"/>
                </a:lnTo>
                <a:lnTo>
                  <a:pt x="237" y="227"/>
                </a:lnTo>
                <a:lnTo>
                  <a:pt x="241" y="229"/>
                </a:lnTo>
                <a:lnTo>
                  <a:pt x="246" y="238"/>
                </a:lnTo>
                <a:lnTo>
                  <a:pt x="249" y="256"/>
                </a:lnTo>
                <a:lnTo>
                  <a:pt x="271" y="259"/>
                </a:lnTo>
                <a:lnTo>
                  <a:pt x="274" y="257"/>
                </a:lnTo>
                <a:lnTo>
                  <a:pt x="275" y="257"/>
                </a:lnTo>
                <a:lnTo>
                  <a:pt x="276" y="233"/>
                </a:lnTo>
                <a:lnTo>
                  <a:pt x="276" y="231"/>
                </a:lnTo>
                <a:lnTo>
                  <a:pt x="276" y="221"/>
                </a:lnTo>
                <a:lnTo>
                  <a:pt x="281" y="206"/>
                </a:lnTo>
                <a:lnTo>
                  <a:pt x="281" y="204"/>
                </a:lnTo>
                <a:lnTo>
                  <a:pt x="284" y="196"/>
                </a:lnTo>
                <a:lnTo>
                  <a:pt x="286" y="198"/>
                </a:lnTo>
                <a:lnTo>
                  <a:pt x="288" y="200"/>
                </a:lnTo>
                <a:lnTo>
                  <a:pt x="295" y="175"/>
                </a:lnTo>
                <a:lnTo>
                  <a:pt x="296" y="168"/>
                </a:lnTo>
                <a:lnTo>
                  <a:pt x="306" y="152"/>
                </a:lnTo>
                <a:lnTo>
                  <a:pt x="310" y="141"/>
                </a:lnTo>
                <a:lnTo>
                  <a:pt x="310" y="130"/>
                </a:lnTo>
                <a:lnTo>
                  <a:pt x="310" y="128"/>
                </a:lnTo>
                <a:lnTo>
                  <a:pt x="308" y="120"/>
                </a:lnTo>
                <a:lnTo>
                  <a:pt x="312" y="97"/>
                </a:lnTo>
                <a:lnTo>
                  <a:pt x="316" y="95"/>
                </a:lnTo>
                <a:lnTo>
                  <a:pt x="322" y="93"/>
                </a:lnTo>
                <a:lnTo>
                  <a:pt x="322" y="95"/>
                </a:lnTo>
                <a:lnTo>
                  <a:pt x="327" y="103"/>
                </a:lnTo>
                <a:lnTo>
                  <a:pt x="333" y="97"/>
                </a:lnTo>
                <a:lnTo>
                  <a:pt x="338" y="87"/>
                </a:lnTo>
                <a:lnTo>
                  <a:pt x="341" y="84"/>
                </a:lnTo>
                <a:lnTo>
                  <a:pt x="342" y="82"/>
                </a:lnTo>
                <a:lnTo>
                  <a:pt x="352" y="74"/>
                </a:lnTo>
                <a:lnTo>
                  <a:pt x="358" y="61"/>
                </a:lnTo>
                <a:lnTo>
                  <a:pt x="359" y="57"/>
                </a:lnTo>
                <a:lnTo>
                  <a:pt x="359" y="55"/>
                </a:lnTo>
                <a:lnTo>
                  <a:pt x="351" y="53"/>
                </a:lnTo>
                <a:lnTo>
                  <a:pt x="351" y="47"/>
                </a:lnTo>
                <a:lnTo>
                  <a:pt x="352" y="32"/>
                </a:lnTo>
                <a:lnTo>
                  <a:pt x="349" y="26"/>
                </a:lnTo>
                <a:lnTo>
                  <a:pt x="348" y="17"/>
                </a:lnTo>
                <a:lnTo>
                  <a:pt x="353" y="9"/>
                </a:lnTo>
                <a:lnTo>
                  <a:pt x="356" y="5"/>
                </a:lnTo>
                <a:lnTo>
                  <a:pt x="358" y="0"/>
                </a:lnTo>
                <a:lnTo>
                  <a:pt x="369" y="11"/>
                </a:lnTo>
                <a:lnTo>
                  <a:pt x="379" y="5"/>
                </a:lnTo>
                <a:lnTo>
                  <a:pt x="380" y="2"/>
                </a:lnTo>
                <a:lnTo>
                  <a:pt x="391" y="13"/>
                </a:lnTo>
                <a:lnTo>
                  <a:pt x="395" y="17"/>
                </a:lnTo>
                <a:lnTo>
                  <a:pt x="400" y="32"/>
                </a:lnTo>
                <a:lnTo>
                  <a:pt x="402" y="36"/>
                </a:lnTo>
                <a:lnTo>
                  <a:pt x="405" y="45"/>
                </a:lnTo>
                <a:lnTo>
                  <a:pt x="406" y="55"/>
                </a:lnTo>
                <a:lnTo>
                  <a:pt x="415" y="61"/>
                </a:lnTo>
                <a:lnTo>
                  <a:pt x="421" y="63"/>
                </a:lnTo>
                <a:lnTo>
                  <a:pt x="425" y="59"/>
                </a:lnTo>
                <a:lnTo>
                  <a:pt x="433" y="59"/>
                </a:lnTo>
                <a:lnTo>
                  <a:pt x="438" y="63"/>
                </a:lnTo>
                <a:lnTo>
                  <a:pt x="448" y="80"/>
                </a:lnTo>
                <a:lnTo>
                  <a:pt x="451" y="82"/>
                </a:lnTo>
                <a:lnTo>
                  <a:pt x="452" y="82"/>
                </a:lnTo>
                <a:lnTo>
                  <a:pt x="453" y="82"/>
                </a:lnTo>
                <a:lnTo>
                  <a:pt x="456" y="80"/>
                </a:lnTo>
                <a:lnTo>
                  <a:pt x="457" y="72"/>
                </a:lnTo>
                <a:lnTo>
                  <a:pt x="465" y="65"/>
                </a:lnTo>
                <a:lnTo>
                  <a:pt x="478" y="70"/>
                </a:lnTo>
                <a:lnTo>
                  <a:pt x="486" y="80"/>
                </a:lnTo>
                <a:lnTo>
                  <a:pt x="488" y="76"/>
                </a:lnTo>
                <a:lnTo>
                  <a:pt x="490" y="72"/>
                </a:lnTo>
                <a:lnTo>
                  <a:pt x="498" y="72"/>
                </a:lnTo>
                <a:lnTo>
                  <a:pt x="505" y="49"/>
                </a:lnTo>
                <a:lnTo>
                  <a:pt x="517" y="40"/>
                </a:lnTo>
                <a:lnTo>
                  <a:pt x="521" y="65"/>
                </a:lnTo>
                <a:lnTo>
                  <a:pt x="525" y="76"/>
                </a:lnTo>
                <a:lnTo>
                  <a:pt x="531" y="76"/>
                </a:lnTo>
                <a:lnTo>
                  <a:pt x="539" y="86"/>
                </a:lnTo>
                <a:lnTo>
                  <a:pt x="542" y="89"/>
                </a:lnTo>
                <a:lnTo>
                  <a:pt x="546" y="101"/>
                </a:lnTo>
                <a:lnTo>
                  <a:pt x="547" y="110"/>
                </a:lnTo>
                <a:lnTo>
                  <a:pt x="550" y="135"/>
                </a:lnTo>
                <a:lnTo>
                  <a:pt x="548" y="137"/>
                </a:lnTo>
                <a:lnTo>
                  <a:pt x="548" y="160"/>
                </a:lnTo>
                <a:lnTo>
                  <a:pt x="561" y="185"/>
                </a:lnTo>
                <a:lnTo>
                  <a:pt x="562" y="196"/>
                </a:lnTo>
                <a:lnTo>
                  <a:pt x="562" y="198"/>
                </a:lnTo>
                <a:lnTo>
                  <a:pt x="570" y="208"/>
                </a:lnTo>
                <a:lnTo>
                  <a:pt x="571" y="212"/>
                </a:lnTo>
                <a:lnTo>
                  <a:pt x="575" y="221"/>
                </a:lnTo>
                <a:lnTo>
                  <a:pt x="580" y="231"/>
                </a:lnTo>
                <a:lnTo>
                  <a:pt x="580" y="233"/>
                </a:lnTo>
                <a:lnTo>
                  <a:pt x="600" y="261"/>
                </a:lnTo>
                <a:lnTo>
                  <a:pt x="600" y="267"/>
                </a:lnTo>
                <a:lnTo>
                  <a:pt x="613" y="265"/>
                </a:lnTo>
                <a:lnTo>
                  <a:pt x="605" y="284"/>
                </a:lnTo>
                <a:lnTo>
                  <a:pt x="597" y="305"/>
                </a:lnTo>
                <a:lnTo>
                  <a:pt x="589" y="324"/>
                </a:lnTo>
                <a:lnTo>
                  <a:pt x="584" y="332"/>
                </a:lnTo>
                <a:lnTo>
                  <a:pt x="579" y="338"/>
                </a:lnTo>
                <a:lnTo>
                  <a:pt x="570" y="349"/>
                </a:lnTo>
                <a:lnTo>
                  <a:pt x="569" y="351"/>
                </a:lnTo>
                <a:lnTo>
                  <a:pt x="558" y="368"/>
                </a:lnTo>
                <a:lnTo>
                  <a:pt x="556" y="391"/>
                </a:lnTo>
                <a:lnTo>
                  <a:pt x="547" y="403"/>
                </a:lnTo>
                <a:lnTo>
                  <a:pt x="547" y="420"/>
                </a:lnTo>
                <a:lnTo>
                  <a:pt x="528" y="448"/>
                </a:lnTo>
                <a:lnTo>
                  <a:pt x="528" y="456"/>
                </a:lnTo>
                <a:lnTo>
                  <a:pt x="502" y="481"/>
                </a:lnTo>
                <a:lnTo>
                  <a:pt x="499" y="481"/>
                </a:lnTo>
                <a:lnTo>
                  <a:pt x="489" y="492"/>
                </a:lnTo>
                <a:lnTo>
                  <a:pt x="485" y="498"/>
                </a:lnTo>
                <a:lnTo>
                  <a:pt x="484" y="504"/>
                </a:lnTo>
                <a:lnTo>
                  <a:pt x="476" y="506"/>
                </a:lnTo>
                <a:lnTo>
                  <a:pt x="464" y="508"/>
                </a:lnTo>
                <a:lnTo>
                  <a:pt x="458" y="508"/>
                </a:lnTo>
                <a:lnTo>
                  <a:pt x="457" y="508"/>
                </a:lnTo>
                <a:lnTo>
                  <a:pt x="451" y="510"/>
                </a:lnTo>
                <a:lnTo>
                  <a:pt x="440" y="513"/>
                </a:lnTo>
                <a:lnTo>
                  <a:pt x="439" y="513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51640" y="3814920"/>
            <a:ext cx="9360" cy="12600"/>
          </a:xfrm>
          <a:custGeom>
            <a:avLst/>
            <a:gdLst/>
            <a:ahLst/>
            <a:rect l="l" t="t" r="r" b="b"/>
            <a:pathLst>
              <a:path w="6" h="15">
                <a:moveTo>
                  <a:pt x="3" y="0"/>
                </a:moveTo>
                <a:lnTo>
                  <a:pt x="6" y="15"/>
                </a:lnTo>
                <a:lnTo>
                  <a:pt x="0" y="15"/>
                </a:lnTo>
                <a:lnTo>
                  <a:pt x="3" y="0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15160" y="2255760"/>
            <a:ext cx="525240" cy="679680"/>
          </a:xfrm>
          <a:custGeom>
            <a:avLst/>
            <a:gdLst/>
            <a:ahLst/>
            <a:rect l="l" t="t" r="r" b="b"/>
            <a:pathLst>
              <a:path w="331" h="856">
                <a:moveTo>
                  <a:pt x="238" y="230"/>
                </a:moveTo>
                <a:lnTo>
                  <a:pt x="227" y="281"/>
                </a:lnTo>
                <a:lnTo>
                  <a:pt x="225" y="287"/>
                </a:lnTo>
                <a:lnTo>
                  <a:pt x="224" y="306"/>
                </a:lnTo>
                <a:lnTo>
                  <a:pt x="225" y="314"/>
                </a:lnTo>
                <a:lnTo>
                  <a:pt x="220" y="329"/>
                </a:lnTo>
                <a:lnTo>
                  <a:pt x="211" y="346"/>
                </a:lnTo>
                <a:lnTo>
                  <a:pt x="203" y="354"/>
                </a:lnTo>
                <a:lnTo>
                  <a:pt x="201" y="363"/>
                </a:lnTo>
                <a:lnTo>
                  <a:pt x="201" y="400"/>
                </a:lnTo>
                <a:lnTo>
                  <a:pt x="207" y="415"/>
                </a:lnTo>
                <a:lnTo>
                  <a:pt x="223" y="424"/>
                </a:lnTo>
                <a:lnTo>
                  <a:pt x="227" y="417"/>
                </a:lnTo>
                <a:lnTo>
                  <a:pt x="236" y="396"/>
                </a:lnTo>
                <a:lnTo>
                  <a:pt x="238" y="392"/>
                </a:lnTo>
                <a:lnTo>
                  <a:pt x="243" y="365"/>
                </a:lnTo>
                <a:lnTo>
                  <a:pt x="246" y="358"/>
                </a:lnTo>
                <a:lnTo>
                  <a:pt x="241" y="352"/>
                </a:lnTo>
                <a:lnTo>
                  <a:pt x="249" y="346"/>
                </a:lnTo>
                <a:lnTo>
                  <a:pt x="251" y="337"/>
                </a:lnTo>
                <a:lnTo>
                  <a:pt x="260" y="329"/>
                </a:lnTo>
                <a:lnTo>
                  <a:pt x="271" y="312"/>
                </a:lnTo>
                <a:lnTo>
                  <a:pt x="275" y="310"/>
                </a:lnTo>
                <a:lnTo>
                  <a:pt x="288" y="321"/>
                </a:lnTo>
                <a:lnTo>
                  <a:pt x="297" y="344"/>
                </a:lnTo>
                <a:lnTo>
                  <a:pt x="305" y="380"/>
                </a:lnTo>
                <a:lnTo>
                  <a:pt x="316" y="444"/>
                </a:lnTo>
                <a:lnTo>
                  <a:pt x="318" y="468"/>
                </a:lnTo>
                <a:lnTo>
                  <a:pt x="321" y="484"/>
                </a:lnTo>
                <a:lnTo>
                  <a:pt x="331" y="522"/>
                </a:lnTo>
                <a:lnTo>
                  <a:pt x="329" y="593"/>
                </a:lnTo>
                <a:lnTo>
                  <a:pt x="318" y="621"/>
                </a:lnTo>
                <a:lnTo>
                  <a:pt x="316" y="598"/>
                </a:lnTo>
                <a:lnTo>
                  <a:pt x="320" y="589"/>
                </a:lnTo>
                <a:lnTo>
                  <a:pt x="312" y="589"/>
                </a:lnTo>
                <a:lnTo>
                  <a:pt x="306" y="602"/>
                </a:lnTo>
                <a:lnTo>
                  <a:pt x="303" y="629"/>
                </a:lnTo>
                <a:lnTo>
                  <a:pt x="304" y="638"/>
                </a:lnTo>
                <a:lnTo>
                  <a:pt x="302" y="659"/>
                </a:lnTo>
                <a:lnTo>
                  <a:pt x="296" y="665"/>
                </a:lnTo>
                <a:lnTo>
                  <a:pt x="288" y="688"/>
                </a:lnTo>
                <a:lnTo>
                  <a:pt x="287" y="732"/>
                </a:lnTo>
                <a:lnTo>
                  <a:pt x="274" y="768"/>
                </a:lnTo>
                <a:lnTo>
                  <a:pt x="272" y="795"/>
                </a:lnTo>
                <a:lnTo>
                  <a:pt x="270" y="799"/>
                </a:lnTo>
                <a:lnTo>
                  <a:pt x="262" y="801"/>
                </a:lnTo>
                <a:lnTo>
                  <a:pt x="259" y="803"/>
                </a:lnTo>
                <a:lnTo>
                  <a:pt x="246" y="806"/>
                </a:lnTo>
                <a:lnTo>
                  <a:pt x="237" y="810"/>
                </a:lnTo>
                <a:lnTo>
                  <a:pt x="211" y="818"/>
                </a:lnTo>
                <a:lnTo>
                  <a:pt x="198" y="822"/>
                </a:lnTo>
                <a:lnTo>
                  <a:pt x="195" y="824"/>
                </a:lnTo>
                <a:lnTo>
                  <a:pt x="189" y="826"/>
                </a:lnTo>
                <a:lnTo>
                  <a:pt x="168" y="831"/>
                </a:lnTo>
                <a:lnTo>
                  <a:pt x="163" y="833"/>
                </a:lnTo>
                <a:lnTo>
                  <a:pt x="162" y="820"/>
                </a:lnTo>
                <a:lnTo>
                  <a:pt x="161" y="820"/>
                </a:lnTo>
                <a:lnTo>
                  <a:pt x="147" y="824"/>
                </a:lnTo>
                <a:lnTo>
                  <a:pt x="137" y="827"/>
                </a:lnTo>
                <a:lnTo>
                  <a:pt x="132" y="827"/>
                </a:lnTo>
                <a:lnTo>
                  <a:pt x="129" y="829"/>
                </a:lnTo>
                <a:lnTo>
                  <a:pt x="127" y="829"/>
                </a:lnTo>
                <a:lnTo>
                  <a:pt x="124" y="829"/>
                </a:lnTo>
                <a:lnTo>
                  <a:pt x="118" y="831"/>
                </a:lnTo>
                <a:lnTo>
                  <a:pt x="108" y="833"/>
                </a:lnTo>
                <a:lnTo>
                  <a:pt x="95" y="837"/>
                </a:lnTo>
                <a:lnTo>
                  <a:pt x="88" y="839"/>
                </a:lnTo>
                <a:lnTo>
                  <a:pt x="87" y="839"/>
                </a:lnTo>
                <a:lnTo>
                  <a:pt x="68" y="843"/>
                </a:lnTo>
                <a:lnTo>
                  <a:pt x="64" y="845"/>
                </a:lnTo>
                <a:lnTo>
                  <a:pt x="51" y="847"/>
                </a:lnTo>
                <a:lnTo>
                  <a:pt x="49" y="847"/>
                </a:lnTo>
                <a:lnTo>
                  <a:pt x="39" y="850"/>
                </a:lnTo>
                <a:lnTo>
                  <a:pt x="26" y="852"/>
                </a:lnTo>
                <a:lnTo>
                  <a:pt x="18" y="854"/>
                </a:lnTo>
                <a:lnTo>
                  <a:pt x="8" y="856"/>
                </a:lnTo>
                <a:lnTo>
                  <a:pt x="2" y="856"/>
                </a:lnTo>
                <a:lnTo>
                  <a:pt x="13" y="835"/>
                </a:lnTo>
                <a:lnTo>
                  <a:pt x="24" y="785"/>
                </a:lnTo>
                <a:lnTo>
                  <a:pt x="34" y="751"/>
                </a:lnTo>
                <a:lnTo>
                  <a:pt x="39" y="713"/>
                </a:lnTo>
                <a:lnTo>
                  <a:pt x="40" y="644"/>
                </a:lnTo>
                <a:lnTo>
                  <a:pt x="39" y="640"/>
                </a:lnTo>
                <a:lnTo>
                  <a:pt x="35" y="593"/>
                </a:lnTo>
                <a:lnTo>
                  <a:pt x="29" y="570"/>
                </a:lnTo>
                <a:lnTo>
                  <a:pt x="10" y="503"/>
                </a:lnTo>
                <a:lnTo>
                  <a:pt x="10" y="501"/>
                </a:lnTo>
                <a:lnTo>
                  <a:pt x="5" y="453"/>
                </a:lnTo>
                <a:lnTo>
                  <a:pt x="6" y="449"/>
                </a:lnTo>
                <a:lnTo>
                  <a:pt x="8" y="430"/>
                </a:lnTo>
                <a:lnTo>
                  <a:pt x="2" y="394"/>
                </a:lnTo>
                <a:lnTo>
                  <a:pt x="0" y="388"/>
                </a:lnTo>
                <a:lnTo>
                  <a:pt x="7" y="356"/>
                </a:lnTo>
                <a:lnTo>
                  <a:pt x="14" y="314"/>
                </a:lnTo>
                <a:lnTo>
                  <a:pt x="15" y="300"/>
                </a:lnTo>
                <a:lnTo>
                  <a:pt x="14" y="283"/>
                </a:lnTo>
                <a:lnTo>
                  <a:pt x="15" y="277"/>
                </a:lnTo>
                <a:lnTo>
                  <a:pt x="11" y="253"/>
                </a:lnTo>
                <a:lnTo>
                  <a:pt x="23" y="233"/>
                </a:lnTo>
                <a:lnTo>
                  <a:pt x="23" y="228"/>
                </a:lnTo>
                <a:lnTo>
                  <a:pt x="22" y="203"/>
                </a:lnTo>
                <a:lnTo>
                  <a:pt x="28" y="203"/>
                </a:lnTo>
                <a:lnTo>
                  <a:pt x="44" y="178"/>
                </a:lnTo>
                <a:lnTo>
                  <a:pt x="59" y="146"/>
                </a:lnTo>
                <a:lnTo>
                  <a:pt x="55" y="176"/>
                </a:lnTo>
                <a:lnTo>
                  <a:pt x="57" y="222"/>
                </a:lnTo>
                <a:lnTo>
                  <a:pt x="64" y="178"/>
                </a:lnTo>
                <a:lnTo>
                  <a:pt x="67" y="201"/>
                </a:lnTo>
                <a:lnTo>
                  <a:pt x="64" y="226"/>
                </a:lnTo>
                <a:lnTo>
                  <a:pt x="66" y="226"/>
                </a:lnTo>
                <a:lnTo>
                  <a:pt x="71" y="201"/>
                </a:lnTo>
                <a:lnTo>
                  <a:pt x="74" y="170"/>
                </a:lnTo>
                <a:lnTo>
                  <a:pt x="71" y="128"/>
                </a:lnTo>
                <a:lnTo>
                  <a:pt x="71" y="121"/>
                </a:lnTo>
                <a:lnTo>
                  <a:pt x="79" y="100"/>
                </a:lnTo>
                <a:lnTo>
                  <a:pt x="91" y="92"/>
                </a:lnTo>
                <a:lnTo>
                  <a:pt x="98" y="88"/>
                </a:lnTo>
                <a:lnTo>
                  <a:pt x="97" y="79"/>
                </a:lnTo>
                <a:lnTo>
                  <a:pt x="88" y="65"/>
                </a:lnTo>
                <a:lnTo>
                  <a:pt x="88" y="39"/>
                </a:lnTo>
                <a:lnTo>
                  <a:pt x="93" y="31"/>
                </a:lnTo>
                <a:lnTo>
                  <a:pt x="92" y="10"/>
                </a:lnTo>
                <a:lnTo>
                  <a:pt x="108" y="8"/>
                </a:lnTo>
                <a:lnTo>
                  <a:pt x="112" y="0"/>
                </a:lnTo>
                <a:lnTo>
                  <a:pt x="116" y="6"/>
                </a:lnTo>
                <a:lnTo>
                  <a:pt x="131" y="18"/>
                </a:lnTo>
                <a:lnTo>
                  <a:pt x="153" y="21"/>
                </a:lnTo>
                <a:lnTo>
                  <a:pt x="162" y="44"/>
                </a:lnTo>
                <a:lnTo>
                  <a:pt x="180" y="48"/>
                </a:lnTo>
                <a:lnTo>
                  <a:pt x="199" y="62"/>
                </a:lnTo>
                <a:lnTo>
                  <a:pt x="210" y="63"/>
                </a:lnTo>
                <a:lnTo>
                  <a:pt x="221" y="90"/>
                </a:lnTo>
                <a:lnTo>
                  <a:pt x="233" y="121"/>
                </a:lnTo>
                <a:lnTo>
                  <a:pt x="224" y="119"/>
                </a:lnTo>
                <a:lnTo>
                  <a:pt x="220" y="134"/>
                </a:lnTo>
                <a:lnTo>
                  <a:pt x="227" y="151"/>
                </a:lnTo>
                <a:lnTo>
                  <a:pt x="232" y="155"/>
                </a:lnTo>
                <a:lnTo>
                  <a:pt x="232" y="159"/>
                </a:lnTo>
                <a:lnTo>
                  <a:pt x="236" y="182"/>
                </a:lnTo>
                <a:lnTo>
                  <a:pt x="238" y="230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05400" y="2025720"/>
            <a:ext cx="827280" cy="377640"/>
          </a:xfrm>
          <a:custGeom>
            <a:avLst/>
            <a:gdLst/>
            <a:ahLst/>
            <a:rect l="l" t="t" r="r" b="b"/>
            <a:pathLst>
              <a:path w="521" h="476">
                <a:moveTo>
                  <a:pt x="303" y="325"/>
                </a:moveTo>
                <a:lnTo>
                  <a:pt x="290" y="328"/>
                </a:lnTo>
                <a:lnTo>
                  <a:pt x="280" y="306"/>
                </a:lnTo>
                <a:lnTo>
                  <a:pt x="276" y="332"/>
                </a:lnTo>
                <a:lnTo>
                  <a:pt x="265" y="334"/>
                </a:lnTo>
                <a:lnTo>
                  <a:pt x="262" y="319"/>
                </a:lnTo>
                <a:lnTo>
                  <a:pt x="246" y="378"/>
                </a:lnTo>
                <a:lnTo>
                  <a:pt x="231" y="447"/>
                </a:lnTo>
                <a:lnTo>
                  <a:pt x="224" y="472"/>
                </a:lnTo>
                <a:lnTo>
                  <a:pt x="227" y="476"/>
                </a:lnTo>
                <a:lnTo>
                  <a:pt x="219" y="472"/>
                </a:lnTo>
                <a:lnTo>
                  <a:pt x="200" y="351"/>
                </a:lnTo>
                <a:lnTo>
                  <a:pt x="198" y="348"/>
                </a:lnTo>
                <a:lnTo>
                  <a:pt x="189" y="344"/>
                </a:lnTo>
                <a:lnTo>
                  <a:pt x="189" y="340"/>
                </a:lnTo>
                <a:lnTo>
                  <a:pt x="184" y="344"/>
                </a:lnTo>
                <a:lnTo>
                  <a:pt x="178" y="338"/>
                </a:lnTo>
                <a:lnTo>
                  <a:pt x="182" y="325"/>
                </a:lnTo>
                <a:lnTo>
                  <a:pt x="178" y="315"/>
                </a:lnTo>
                <a:lnTo>
                  <a:pt x="167" y="309"/>
                </a:lnTo>
                <a:lnTo>
                  <a:pt x="148" y="306"/>
                </a:lnTo>
                <a:lnTo>
                  <a:pt x="138" y="309"/>
                </a:lnTo>
                <a:lnTo>
                  <a:pt x="134" y="306"/>
                </a:lnTo>
                <a:lnTo>
                  <a:pt x="129" y="304"/>
                </a:lnTo>
                <a:lnTo>
                  <a:pt x="121" y="302"/>
                </a:lnTo>
                <a:lnTo>
                  <a:pt x="114" y="296"/>
                </a:lnTo>
                <a:lnTo>
                  <a:pt x="110" y="292"/>
                </a:lnTo>
                <a:lnTo>
                  <a:pt x="102" y="285"/>
                </a:lnTo>
                <a:lnTo>
                  <a:pt x="44" y="264"/>
                </a:lnTo>
                <a:lnTo>
                  <a:pt x="38" y="262"/>
                </a:lnTo>
                <a:lnTo>
                  <a:pt x="23" y="250"/>
                </a:lnTo>
                <a:lnTo>
                  <a:pt x="15" y="225"/>
                </a:lnTo>
                <a:lnTo>
                  <a:pt x="0" y="214"/>
                </a:lnTo>
                <a:lnTo>
                  <a:pt x="12" y="201"/>
                </a:lnTo>
                <a:lnTo>
                  <a:pt x="30" y="183"/>
                </a:lnTo>
                <a:lnTo>
                  <a:pt x="37" y="166"/>
                </a:lnTo>
                <a:lnTo>
                  <a:pt x="47" y="153"/>
                </a:lnTo>
                <a:lnTo>
                  <a:pt x="56" y="153"/>
                </a:lnTo>
                <a:lnTo>
                  <a:pt x="83" y="132"/>
                </a:lnTo>
                <a:lnTo>
                  <a:pt x="105" y="101"/>
                </a:lnTo>
                <a:lnTo>
                  <a:pt x="109" y="86"/>
                </a:lnTo>
                <a:lnTo>
                  <a:pt x="125" y="57"/>
                </a:lnTo>
                <a:lnTo>
                  <a:pt x="134" y="46"/>
                </a:lnTo>
                <a:lnTo>
                  <a:pt x="140" y="27"/>
                </a:lnTo>
                <a:lnTo>
                  <a:pt x="161" y="4"/>
                </a:lnTo>
                <a:lnTo>
                  <a:pt x="170" y="0"/>
                </a:lnTo>
                <a:lnTo>
                  <a:pt x="189" y="0"/>
                </a:lnTo>
                <a:lnTo>
                  <a:pt x="191" y="8"/>
                </a:lnTo>
                <a:lnTo>
                  <a:pt x="172" y="32"/>
                </a:lnTo>
                <a:lnTo>
                  <a:pt x="155" y="59"/>
                </a:lnTo>
                <a:lnTo>
                  <a:pt x="154" y="71"/>
                </a:lnTo>
                <a:lnTo>
                  <a:pt x="148" y="86"/>
                </a:lnTo>
                <a:lnTo>
                  <a:pt x="147" y="99"/>
                </a:lnTo>
                <a:lnTo>
                  <a:pt x="142" y="115"/>
                </a:lnTo>
                <a:lnTo>
                  <a:pt x="157" y="115"/>
                </a:lnTo>
                <a:lnTo>
                  <a:pt x="173" y="115"/>
                </a:lnTo>
                <a:lnTo>
                  <a:pt x="195" y="120"/>
                </a:lnTo>
                <a:lnTo>
                  <a:pt x="208" y="141"/>
                </a:lnTo>
                <a:lnTo>
                  <a:pt x="229" y="187"/>
                </a:lnTo>
                <a:lnTo>
                  <a:pt x="246" y="185"/>
                </a:lnTo>
                <a:lnTo>
                  <a:pt x="273" y="183"/>
                </a:lnTo>
                <a:lnTo>
                  <a:pt x="278" y="178"/>
                </a:lnTo>
                <a:lnTo>
                  <a:pt x="276" y="170"/>
                </a:lnTo>
                <a:lnTo>
                  <a:pt x="281" y="178"/>
                </a:lnTo>
                <a:lnTo>
                  <a:pt x="289" y="176"/>
                </a:lnTo>
                <a:lnTo>
                  <a:pt x="317" y="136"/>
                </a:lnTo>
                <a:lnTo>
                  <a:pt x="336" y="126"/>
                </a:lnTo>
                <a:lnTo>
                  <a:pt x="344" y="126"/>
                </a:lnTo>
                <a:lnTo>
                  <a:pt x="364" y="122"/>
                </a:lnTo>
                <a:lnTo>
                  <a:pt x="382" y="101"/>
                </a:lnTo>
                <a:lnTo>
                  <a:pt x="399" y="94"/>
                </a:lnTo>
                <a:lnTo>
                  <a:pt x="400" y="149"/>
                </a:lnTo>
                <a:lnTo>
                  <a:pt x="403" y="153"/>
                </a:lnTo>
                <a:lnTo>
                  <a:pt x="422" y="153"/>
                </a:lnTo>
                <a:lnTo>
                  <a:pt x="431" y="145"/>
                </a:lnTo>
                <a:lnTo>
                  <a:pt x="437" y="158"/>
                </a:lnTo>
                <a:lnTo>
                  <a:pt x="446" y="137"/>
                </a:lnTo>
                <a:lnTo>
                  <a:pt x="457" y="136"/>
                </a:lnTo>
                <a:lnTo>
                  <a:pt x="462" y="126"/>
                </a:lnTo>
                <a:lnTo>
                  <a:pt x="467" y="126"/>
                </a:lnTo>
                <a:lnTo>
                  <a:pt x="469" y="132"/>
                </a:lnTo>
                <a:lnTo>
                  <a:pt x="468" y="158"/>
                </a:lnTo>
                <a:lnTo>
                  <a:pt x="476" y="195"/>
                </a:lnTo>
                <a:lnTo>
                  <a:pt x="482" y="201"/>
                </a:lnTo>
                <a:lnTo>
                  <a:pt x="487" y="218"/>
                </a:lnTo>
                <a:lnTo>
                  <a:pt x="490" y="216"/>
                </a:lnTo>
                <a:lnTo>
                  <a:pt x="495" y="204"/>
                </a:lnTo>
                <a:lnTo>
                  <a:pt x="501" y="210"/>
                </a:lnTo>
                <a:lnTo>
                  <a:pt x="510" y="202"/>
                </a:lnTo>
                <a:lnTo>
                  <a:pt x="521" y="222"/>
                </a:lnTo>
                <a:lnTo>
                  <a:pt x="513" y="237"/>
                </a:lnTo>
                <a:lnTo>
                  <a:pt x="502" y="239"/>
                </a:lnTo>
                <a:lnTo>
                  <a:pt x="494" y="235"/>
                </a:lnTo>
                <a:lnTo>
                  <a:pt x="485" y="241"/>
                </a:lnTo>
                <a:lnTo>
                  <a:pt x="476" y="237"/>
                </a:lnTo>
                <a:lnTo>
                  <a:pt x="457" y="252"/>
                </a:lnTo>
                <a:lnTo>
                  <a:pt x="437" y="235"/>
                </a:lnTo>
                <a:lnTo>
                  <a:pt x="433" y="244"/>
                </a:lnTo>
                <a:lnTo>
                  <a:pt x="431" y="279"/>
                </a:lnTo>
                <a:lnTo>
                  <a:pt x="410" y="248"/>
                </a:lnTo>
                <a:lnTo>
                  <a:pt x="400" y="243"/>
                </a:lnTo>
                <a:lnTo>
                  <a:pt x="372" y="239"/>
                </a:lnTo>
                <a:lnTo>
                  <a:pt x="363" y="262"/>
                </a:lnTo>
                <a:lnTo>
                  <a:pt x="355" y="269"/>
                </a:lnTo>
                <a:lnTo>
                  <a:pt x="345" y="271"/>
                </a:lnTo>
                <a:lnTo>
                  <a:pt x="339" y="279"/>
                </a:lnTo>
                <a:lnTo>
                  <a:pt x="326" y="277"/>
                </a:lnTo>
                <a:lnTo>
                  <a:pt x="317" y="283"/>
                </a:lnTo>
                <a:lnTo>
                  <a:pt x="303" y="325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02360" y="2238480"/>
            <a:ext cx="33480" cy="21960"/>
          </a:xfrm>
          <a:custGeom>
            <a:avLst/>
            <a:gdLst/>
            <a:ahLst/>
            <a:rect l="l" t="t" r="r" b="b"/>
            <a:pathLst>
              <a:path w="21" h="27">
                <a:moveTo>
                  <a:pt x="1" y="6"/>
                </a:moveTo>
                <a:lnTo>
                  <a:pt x="0" y="0"/>
                </a:lnTo>
                <a:lnTo>
                  <a:pt x="21" y="21"/>
                </a:lnTo>
                <a:lnTo>
                  <a:pt x="13" y="27"/>
                </a:lnTo>
                <a:lnTo>
                  <a:pt x="1" y="6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49760" y="1951200"/>
            <a:ext cx="34920" cy="6120"/>
          </a:xfrm>
          <a:custGeom>
            <a:avLst/>
            <a:gdLst/>
            <a:ahLst/>
            <a:rect l="l" t="t" r="r" b="b"/>
            <a:pathLst>
              <a:path w="22" h="8">
                <a:moveTo>
                  <a:pt x="0" y="4"/>
                </a:moveTo>
                <a:lnTo>
                  <a:pt x="22" y="0"/>
                </a:lnTo>
                <a:lnTo>
                  <a:pt x="18" y="4"/>
                </a:lnTo>
                <a:lnTo>
                  <a:pt x="14" y="8"/>
                </a:lnTo>
                <a:lnTo>
                  <a:pt x="0" y="4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3640" y="2793960"/>
            <a:ext cx="570240" cy="615960"/>
          </a:xfrm>
          <a:custGeom>
            <a:avLst/>
            <a:gdLst/>
            <a:ahLst/>
            <a:rect l="l" t="t" r="r" b="b"/>
            <a:pathLst>
              <a:path w="359" h="778">
                <a:moveTo>
                  <a:pt x="134" y="759"/>
                </a:moveTo>
                <a:lnTo>
                  <a:pt x="131" y="757"/>
                </a:lnTo>
                <a:lnTo>
                  <a:pt x="121" y="740"/>
                </a:lnTo>
                <a:lnTo>
                  <a:pt x="116" y="736"/>
                </a:lnTo>
                <a:lnTo>
                  <a:pt x="108" y="736"/>
                </a:lnTo>
                <a:lnTo>
                  <a:pt x="104" y="740"/>
                </a:lnTo>
                <a:lnTo>
                  <a:pt x="98" y="738"/>
                </a:lnTo>
                <a:lnTo>
                  <a:pt x="89" y="732"/>
                </a:lnTo>
                <a:lnTo>
                  <a:pt x="88" y="722"/>
                </a:lnTo>
                <a:lnTo>
                  <a:pt x="85" y="713"/>
                </a:lnTo>
                <a:lnTo>
                  <a:pt x="83" y="709"/>
                </a:lnTo>
                <a:lnTo>
                  <a:pt x="78" y="694"/>
                </a:lnTo>
                <a:lnTo>
                  <a:pt x="74" y="690"/>
                </a:lnTo>
                <a:lnTo>
                  <a:pt x="63" y="679"/>
                </a:lnTo>
                <a:lnTo>
                  <a:pt x="62" y="682"/>
                </a:lnTo>
                <a:lnTo>
                  <a:pt x="52" y="688"/>
                </a:lnTo>
                <a:lnTo>
                  <a:pt x="41" y="677"/>
                </a:lnTo>
                <a:lnTo>
                  <a:pt x="39" y="682"/>
                </a:lnTo>
                <a:lnTo>
                  <a:pt x="36" y="686"/>
                </a:lnTo>
                <a:lnTo>
                  <a:pt x="35" y="682"/>
                </a:lnTo>
                <a:lnTo>
                  <a:pt x="35" y="673"/>
                </a:lnTo>
                <a:lnTo>
                  <a:pt x="33" y="646"/>
                </a:lnTo>
                <a:lnTo>
                  <a:pt x="31" y="614"/>
                </a:lnTo>
                <a:lnTo>
                  <a:pt x="30" y="606"/>
                </a:lnTo>
                <a:lnTo>
                  <a:pt x="30" y="600"/>
                </a:lnTo>
                <a:lnTo>
                  <a:pt x="29" y="591"/>
                </a:lnTo>
                <a:lnTo>
                  <a:pt x="29" y="587"/>
                </a:lnTo>
                <a:lnTo>
                  <a:pt x="29" y="583"/>
                </a:lnTo>
                <a:lnTo>
                  <a:pt x="27" y="558"/>
                </a:lnTo>
                <a:lnTo>
                  <a:pt x="26" y="539"/>
                </a:lnTo>
                <a:lnTo>
                  <a:pt x="25" y="528"/>
                </a:lnTo>
                <a:lnTo>
                  <a:pt x="25" y="520"/>
                </a:lnTo>
                <a:lnTo>
                  <a:pt x="24" y="503"/>
                </a:lnTo>
                <a:lnTo>
                  <a:pt x="24" y="501"/>
                </a:lnTo>
                <a:lnTo>
                  <a:pt x="22" y="478"/>
                </a:lnTo>
                <a:lnTo>
                  <a:pt x="21" y="451"/>
                </a:lnTo>
                <a:lnTo>
                  <a:pt x="20" y="440"/>
                </a:lnTo>
                <a:lnTo>
                  <a:pt x="19" y="430"/>
                </a:lnTo>
                <a:lnTo>
                  <a:pt x="18" y="419"/>
                </a:lnTo>
                <a:lnTo>
                  <a:pt x="17" y="400"/>
                </a:lnTo>
                <a:lnTo>
                  <a:pt x="16" y="386"/>
                </a:lnTo>
                <a:lnTo>
                  <a:pt x="16" y="375"/>
                </a:lnTo>
                <a:lnTo>
                  <a:pt x="14" y="354"/>
                </a:lnTo>
                <a:lnTo>
                  <a:pt x="14" y="348"/>
                </a:lnTo>
                <a:lnTo>
                  <a:pt x="12" y="323"/>
                </a:lnTo>
                <a:lnTo>
                  <a:pt x="11" y="314"/>
                </a:lnTo>
                <a:lnTo>
                  <a:pt x="10" y="300"/>
                </a:lnTo>
                <a:lnTo>
                  <a:pt x="10" y="298"/>
                </a:lnTo>
                <a:lnTo>
                  <a:pt x="8" y="272"/>
                </a:lnTo>
                <a:lnTo>
                  <a:pt x="7" y="247"/>
                </a:lnTo>
                <a:lnTo>
                  <a:pt x="6" y="243"/>
                </a:lnTo>
                <a:lnTo>
                  <a:pt x="5" y="224"/>
                </a:lnTo>
                <a:lnTo>
                  <a:pt x="5" y="220"/>
                </a:lnTo>
                <a:lnTo>
                  <a:pt x="4" y="211"/>
                </a:lnTo>
                <a:lnTo>
                  <a:pt x="3" y="190"/>
                </a:lnTo>
                <a:lnTo>
                  <a:pt x="0" y="155"/>
                </a:lnTo>
                <a:lnTo>
                  <a:pt x="5" y="153"/>
                </a:lnTo>
                <a:lnTo>
                  <a:pt x="26" y="148"/>
                </a:lnTo>
                <a:lnTo>
                  <a:pt x="32" y="146"/>
                </a:lnTo>
                <a:lnTo>
                  <a:pt x="35" y="144"/>
                </a:lnTo>
                <a:lnTo>
                  <a:pt x="48" y="140"/>
                </a:lnTo>
                <a:lnTo>
                  <a:pt x="74" y="132"/>
                </a:lnTo>
                <a:lnTo>
                  <a:pt x="83" y="128"/>
                </a:lnTo>
                <a:lnTo>
                  <a:pt x="96" y="125"/>
                </a:lnTo>
                <a:lnTo>
                  <a:pt x="99" y="123"/>
                </a:lnTo>
                <a:lnTo>
                  <a:pt x="107" y="121"/>
                </a:lnTo>
                <a:lnTo>
                  <a:pt x="114" y="128"/>
                </a:lnTo>
                <a:lnTo>
                  <a:pt x="124" y="130"/>
                </a:lnTo>
                <a:lnTo>
                  <a:pt x="132" y="136"/>
                </a:lnTo>
                <a:lnTo>
                  <a:pt x="146" y="149"/>
                </a:lnTo>
                <a:lnTo>
                  <a:pt x="165" y="142"/>
                </a:lnTo>
                <a:lnTo>
                  <a:pt x="170" y="153"/>
                </a:lnTo>
                <a:lnTo>
                  <a:pt x="177" y="163"/>
                </a:lnTo>
                <a:lnTo>
                  <a:pt x="188" y="170"/>
                </a:lnTo>
                <a:lnTo>
                  <a:pt x="199" y="157"/>
                </a:lnTo>
                <a:lnTo>
                  <a:pt x="207" y="153"/>
                </a:lnTo>
                <a:lnTo>
                  <a:pt x="215" y="142"/>
                </a:lnTo>
                <a:lnTo>
                  <a:pt x="228" y="132"/>
                </a:lnTo>
                <a:lnTo>
                  <a:pt x="235" y="134"/>
                </a:lnTo>
                <a:lnTo>
                  <a:pt x="245" y="130"/>
                </a:lnTo>
                <a:lnTo>
                  <a:pt x="264" y="96"/>
                </a:lnTo>
                <a:lnTo>
                  <a:pt x="270" y="79"/>
                </a:lnTo>
                <a:lnTo>
                  <a:pt x="272" y="75"/>
                </a:lnTo>
                <a:lnTo>
                  <a:pt x="298" y="39"/>
                </a:lnTo>
                <a:lnTo>
                  <a:pt x="334" y="0"/>
                </a:lnTo>
                <a:lnTo>
                  <a:pt x="336" y="21"/>
                </a:lnTo>
                <a:lnTo>
                  <a:pt x="336" y="27"/>
                </a:lnTo>
                <a:lnTo>
                  <a:pt x="339" y="54"/>
                </a:lnTo>
                <a:lnTo>
                  <a:pt x="340" y="71"/>
                </a:lnTo>
                <a:lnTo>
                  <a:pt x="343" y="98"/>
                </a:lnTo>
                <a:lnTo>
                  <a:pt x="343" y="100"/>
                </a:lnTo>
                <a:lnTo>
                  <a:pt x="345" y="123"/>
                </a:lnTo>
                <a:lnTo>
                  <a:pt x="347" y="140"/>
                </a:lnTo>
                <a:lnTo>
                  <a:pt x="349" y="172"/>
                </a:lnTo>
                <a:lnTo>
                  <a:pt x="350" y="174"/>
                </a:lnTo>
                <a:lnTo>
                  <a:pt x="352" y="199"/>
                </a:lnTo>
                <a:lnTo>
                  <a:pt x="352" y="205"/>
                </a:lnTo>
                <a:lnTo>
                  <a:pt x="354" y="220"/>
                </a:lnTo>
                <a:lnTo>
                  <a:pt x="354" y="224"/>
                </a:lnTo>
                <a:lnTo>
                  <a:pt x="355" y="230"/>
                </a:lnTo>
                <a:lnTo>
                  <a:pt x="356" y="241"/>
                </a:lnTo>
                <a:lnTo>
                  <a:pt x="357" y="255"/>
                </a:lnTo>
                <a:lnTo>
                  <a:pt x="359" y="272"/>
                </a:lnTo>
                <a:lnTo>
                  <a:pt x="356" y="276"/>
                </a:lnTo>
                <a:lnTo>
                  <a:pt x="350" y="279"/>
                </a:lnTo>
                <a:lnTo>
                  <a:pt x="348" y="287"/>
                </a:lnTo>
                <a:lnTo>
                  <a:pt x="354" y="302"/>
                </a:lnTo>
                <a:lnTo>
                  <a:pt x="355" y="325"/>
                </a:lnTo>
                <a:lnTo>
                  <a:pt x="354" y="325"/>
                </a:lnTo>
                <a:lnTo>
                  <a:pt x="356" y="329"/>
                </a:lnTo>
                <a:lnTo>
                  <a:pt x="357" y="352"/>
                </a:lnTo>
                <a:lnTo>
                  <a:pt x="354" y="369"/>
                </a:lnTo>
                <a:lnTo>
                  <a:pt x="353" y="375"/>
                </a:lnTo>
                <a:lnTo>
                  <a:pt x="353" y="382"/>
                </a:lnTo>
                <a:lnTo>
                  <a:pt x="353" y="402"/>
                </a:lnTo>
                <a:lnTo>
                  <a:pt x="353" y="415"/>
                </a:lnTo>
                <a:lnTo>
                  <a:pt x="350" y="426"/>
                </a:lnTo>
                <a:lnTo>
                  <a:pt x="349" y="442"/>
                </a:lnTo>
                <a:lnTo>
                  <a:pt x="348" y="463"/>
                </a:lnTo>
                <a:lnTo>
                  <a:pt x="350" y="468"/>
                </a:lnTo>
                <a:lnTo>
                  <a:pt x="349" y="488"/>
                </a:lnTo>
                <a:lnTo>
                  <a:pt x="344" y="493"/>
                </a:lnTo>
                <a:lnTo>
                  <a:pt x="343" y="493"/>
                </a:lnTo>
                <a:lnTo>
                  <a:pt x="340" y="503"/>
                </a:lnTo>
                <a:lnTo>
                  <a:pt x="337" y="510"/>
                </a:lnTo>
                <a:lnTo>
                  <a:pt x="334" y="520"/>
                </a:lnTo>
                <a:lnTo>
                  <a:pt x="332" y="530"/>
                </a:lnTo>
                <a:lnTo>
                  <a:pt x="323" y="547"/>
                </a:lnTo>
                <a:lnTo>
                  <a:pt x="319" y="551"/>
                </a:lnTo>
                <a:lnTo>
                  <a:pt x="314" y="558"/>
                </a:lnTo>
                <a:lnTo>
                  <a:pt x="303" y="556"/>
                </a:lnTo>
                <a:lnTo>
                  <a:pt x="299" y="579"/>
                </a:lnTo>
                <a:lnTo>
                  <a:pt x="289" y="587"/>
                </a:lnTo>
                <a:lnTo>
                  <a:pt x="287" y="594"/>
                </a:lnTo>
                <a:lnTo>
                  <a:pt x="286" y="600"/>
                </a:lnTo>
                <a:lnTo>
                  <a:pt x="285" y="602"/>
                </a:lnTo>
                <a:lnTo>
                  <a:pt x="286" y="606"/>
                </a:lnTo>
                <a:lnTo>
                  <a:pt x="287" y="614"/>
                </a:lnTo>
                <a:lnTo>
                  <a:pt x="288" y="619"/>
                </a:lnTo>
                <a:lnTo>
                  <a:pt x="286" y="652"/>
                </a:lnTo>
                <a:lnTo>
                  <a:pt x="281" y="665"/>
                </a:lnTo>
                <a:lnTo>
                  <a:pt x="278" y="667"/>
                </a:lnTo>
                <a:lnTo>
                  <a:pt x="268" y="638"/>
                </a:lnTo>
                <a:lnTo>
                  <a:pt x="265" y="646"/>
                </a:lnTo>
                <a:lnTo>
                  <a:pt x="261" y="656"/>
                </a:lnTo>
                <a:lnTo>
                  <a:pt x="257" y="700"/>
                </a:lnTo>
                <a:lnTo>
                  <a:pt x="261" y="726"/>
                </a:lnTo>
                <a:lnTo>
                  <a:pt x="258" y="734"/>
                </a:lnTo>
                <a:lnTo>
                  <a:pt x="255" y="732"/>
                </a:lnTo>
                <a:lnTo>
                  <a:pt x="252" y="738"/>
                </a:lnTo>
                <a:lnTo>
                  <a:pt x="252" y="755"/>
                </a:lnTo>
                <a:lnTo>
                  <a:pt x="247" y="768"/>
                </a:lnTo>
                <a:lnTo>
                  <a:pt x="237" y="776"/>
                </a:lnTo>
                <a:lnTo>
                  <a:pt x="229" y="778"/>
                </a:lnTo>
                <a:lnTo>
                  <a:pt x="225" y="766"/>
                </a:lnTo>
                <a:lnTo>
                  <a:pt x="222" y="763"/>
                </a:lnTo>
                <a:lnTo>
                  <a:pt x="214" y="753"/>
                </a:lnTo>
                <a:lnTo>
                  <a:pt x="208" y="753"/>
                </a:lnTo>
                <a:lnTo>
                  <a:pt x="204" y="742"/>
                </a:lnTo>
                <a:lnTo>
                  <a:pt x="200" y="717"/>
                </a:lnTo>
                <a:lnTo>
                  <a:pt x="188" y="726"/>
                </a:lnTo>
                <a:lnTo>
                  <a:pt x="181" y="749"/>
                </a:lnTo>
                <a:lnTo>
                  <a:pt x="173" y="749"/>
                </a:lnTo>
                <a:lnTo>
                  <a:pt x="171" y="753"/>
                </a:lnTo>
                <a:lnTo>
                  <a:pt x="169" y="757"/>
                </a:lnTo>
                <a:lnTo>
                  <a:pt x="161" y="747"/>
                </a:lnTo>
                <a:lnTo>
                  <a:pt x="148" y="742"/>
                </a:lnTo>
                <a:lnTo>
                  <a:pt x="140" y="749"/>
                </a:lnTo>
                <a:lnTo>
                  <a:pt x="139" y="757"/>
                </a:lnTo>
                <a:lnTo>
                  <a:pt x="136" y="759"/>
                </a:lnTo>
                <a:lnTo>
                  <a:pt x="135" y="759"/>
                </a:lnTo>
                <a:lnTo>
                  <a:pt x="134" y="759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7400" y="3684600"/>
            <a:ext cx="1144440" cy="398520"/>
          </a:xfrm>
          <a:custGeom>
            <a:avLst/>
            <a:gdLst/>
            <a:ahLst/>
            <a:rect l="l" t="t" r="r" b="b"/>
            <a:pathLst>
              <a:path w="721" h="500">
                <a:moveTo>
                  <a:pt x="115" y="170"/>
                </a:moveTo>
                <a:lnTo>
                  <a:pt x="114" y="170"/>
                </a:lnTo>
                <a:lnTo>
                  <a:pt x="102" y="171"/>
                </a:lnTo>
                <a:lnTo>
                  <a:pt x="74" y="175"/>
                </a:lnTo>
                <a:lnTo>
                  <a:pt x="71" y="175"/>
                </a:lnTo>
                <a:lnTo>
                  <a:pt x="65" y="177"/>
                </a:lnTo>
                <a:lnTo>
                  <a:pt x="59" y="179"/>
                </a:lnTo>
                <a:lnTo>
                  <a:pt x="53" y="179"/>
                </a:lnTo>
                <a:lnTo>
                  <a:pt x="58" y="204"/>
                </a:lnTo>
                <a:lnTo>
                  <a:pt x="54" y="214"/>
                </a:lnTo>
                <a:lnTo>
                  <a:pt x="56" y="231"/>
                </a:lnTo>
                <a:lnTo>
                  <a:pt x="42" y="233"/>
                </a:lnTo>
                <a:lnTo>
                  <a:pt x="49" y="246"/>
                </a:lnTo>
                <a:lnTo>
                  <a:pt x="52" y="257"/>
                </a:lnTo>
                <a:lnTo>
                  <a:pt x="50" y="261"/>
                </a:lnTo>
                <a:lnTo>
                  <a:pt x="41" y="284"/>
                </a:lnTo>
                <a:lnTo>
                  <a:pt x="50" y="303"/>
                </a:lnTo>
                <a:lnTo>
                  <a:pt x="41" y="305"/>
                </a:lnTo>
                <a:lnTo>
                  <a:pt x="31" y="338"/>
                </a:lnTo>
                <a:lnTo>
                  <a:pt x="30" y="384"/>
                </a:lnTo>
                <a:lnTo>
                  <a:pt x="22" y="380"/>
                </a:lnTo>
                <a:lnTo>
                  <a:pt x="19" y="393"/>
                </a:lnTo>
                <a:lnTo>
                  <a:pt x="11" y="406"/>
                </a:lnTo>
                <a:lnTo>
                  <a:pt x="9" y="418"/>
                </a:lnTo>
                <a:lnTo>
                  <a:pt x="12" y="420"/>
                </a:lnTo>
                <a:lnTo>
                  <a:pt x="13" y="412"/>
                </a:lnTo>
                <a:lnTo>
                  <a:pt x="16" y="422"/>
                </a:lnTo>
                <a:lnTo>
                  <a:pt x="19" y="471"/>
                </a:lnTo>
                <a:lnTo>
                  <a:pt x="14" y="469"/>
                </a:lnTo>
                <a:lnTo>
                  <a:pt x="0" y="500"/>
                </a:lnTo>
                <a:lnTo>
                  <a:pt x="27" y="496"/>
                </a:lnTo>
                <a:lnTo>
                  <a:pt x="40" y="494"/>
                </a:lnTo>
                <a:lnTo>
                  <a:pt x="51" y="492"/>
                </a:lnTo>
                <a:lnTo>
                  <a:pt x="59" y="490"/>
                </a:lnTo>
                <a:lnTo>
                  <a:pt x="68" y="490"/>
                </a:lnTo>
                <a:lnTo>
                  <a:pt x="75" y="489"/>
                </a:lnTo>
                <a:lnTo>
                  <a:pt x="84" y="489"/>
                </a:lnTo>
                <a:lnTo>
                  <a:pt x="89" y="487"/>
                </a:lnTo>
                <a:lnTo>
                  <a:pt x="93" y="487"/>
                </a:lnTo>
                <a:lnTo>
                  <a:pt x="97" y="485"/>
                </a:lnTo>
                <a:lnTo>
                  <a:pt x="105" y="485"/>
                </a:lnTo>
                <a:lnTo>
                  <a:pt x="110" y="483"/>
                </a:lnTo>
                <a:lnTo>
                  <a:pt x="113" y="483"/>
                </a:lnTo>
                <a:lnTo>
                  <a:pt x="114" y="483"/>
                </a:lnTo>
                <a:lnTo>
                  <a:pt x="121" y="481"/>
                </a:lnTo>
                <a:lnTo>
                  <a:pt x="130" y="479"/>
                </a:lnTo>
                <a:lnTo>
                  <a:pt x="133" y="479"/>
                </a:lnTo>
                <a:lnTo>
                  <a:pt x="141" y="477"/>
                </a:lnTo>
                <a:lnTo>
                  <a:pt x="149" y="477"/>
                </a:lnTo>
                <a:lnTo>
                  <a:pt x="168" y="473"/>
                </a:lnTo>
                <a:lnTo>
                  <a:pt x="169" y="473"/>
                </a:lnTo>
                <a:lnTo>
                  <a:pt x="179" y="471"/>
                </a:lnTo>
                <a:lnTo>
                  <a:pt x="183" y="469"/>
                </a:lnTo>
                <a:lnTo>
                  <a:pt x="183" y="468"/>
                </a:lnTo>
                <a:lnTo>
                  <a:pt x="202" y="464"/>
                </a:lnTo>
                <a:lnTo>
                  <a:pt x="209" y="464"/>
                </a:lnTo>
                <a:lnTo>
                  <a:pt x="228" y="460"/>
                </a:lnTo>
                <a:lnTo>
                  <a:pt x="235" y="458"/>
                </a:lnTo>
                <a:lnTo>
                  <a:pt x="255" y="454"/>
                </a:lnTo>
                <a:lnTo>
                  <a:pt x="266" y="452"/>
                </a:lnTo>
                <a:lnTo>
                  <a:pt x="269" y="452"/>
                </a:lnTo>
                <a:lnTo>
                  <a:pt x="270" y="452"/>
                </a:lnTo>
                <a:lnTo>
                  <a:pt x="294" y="448"/>
                </a:lnTo>
                <a:lnTo>
                  <a:pt x="300" y="448"/>
                </a:lnTo>
                <a:lnTo>
                  <a:pt x="302" y="448"/>
                </a:lnTo>
                <a:lnTo>
                  <a:pt x="307" y="447"/>
                </a:lnTo>
                <a:lnTo>
                  <a:pt x="331" y="441"/>
                </a:lnTo>
                <a:lnTo>
                  <a:pt x="342" y="439"/>
                </a:lnTo>
                <a:lnTo>
                  <a:pt x="347" y="439"/>
                </a:lnTo>
                <a:lnTo>
                  <a:pt x="347" y="437"/>
                </a:lnTo>
                <a:lnTo>
                  <a:pt x="351" y="437"/>
                </a:lnTo>
                <a:lnTo>
                  <a:pt x="369" y="433"/>
                </a:lnTo>
                <a:lnTo>
                  <a:pt x="385" y="429"/>
                </a:lnTo>
                <a:lnTo>
                  <a:pt x="388" y="429"/>
                </a:lnTo>
                <a:lnTo>
                  <a:pt x="406" y="426"/>
                </a:lnTo>
                <a:lnTo>
                  <a:pt x="408" y="426"/>
                </a:lnTo>
                <a:lnTo>
                  <a:pt x="417" y="424"/>
                </a:lnTo>
                <a:lnTo>
                  <a:pt x="419" y="424"/>
                </a:lnTo>
                <a:lnTo>
                  <a:pt x="428" y="422"/>
                </a:lnTo>
                <a:lnTo>
                  <a:pt x="429" y="422"/>
                </a:lnTo>
                <a:lnTo>
                  <a:pt x="433" y="420"/>
                </a:lnTo>
                <a:lnTo>
                  <a:pt x="437" y="418"/>
                </a:lnTo>
                <a:lnTo>
                  <a:pt x="438" y="418"/>
                </a:lnTo>
                <a:lnTo>
                  <a:pt x="439" y="418"/>
                </a:lnTo>
                <a:lnTo>
                  <a:pt x="463" y="412"/>
                </a:lnTo>
                <a:lnTo>
                  <a:pt x="468" y="410"/>
                </a:lnTo>
                <a:lnTo>
                  <a:pt x="475" y="408"/>
                </a:lnTo>
                <a:lnTo>
                  <a:pt x="477" y="408"/>
                </a:lnTo>
                <a:lnTo>
                  <a:pt x="480" y="408"/>
                </a:lnTo>
                <a:lnTo>
                  <a:pt x="482" y="406"/>
                </a:lnTo>
                <a:lnTo>
                  <a:pt x="486" y="406"/>
                </a:lnTo>
                <a:lnTo>
                  <a:pt x="493" y="405"/>
                </a:lnTo>
                <a:lnTo>
                  <a:pt x="505" y="401"/>
                </a:lnTo>
                <a:lnTo>
                  <a:pt x="515" y="399"/>
                </a:lnTo>
                <a:lnTo>
                  <a:pt x="519" y="397"/>
                </a:lnTo>
                <a:lnTo>
                  <a:pt x="519" y="395"/>
                </a:lnTo>
                <a:lnTo>
                  <a:pt x="519" y="368"/>
                </a:lnTo>
                <a:lnTo>
                  <a:pt x="518" y="351"/>
                </a:lnTo>
                <a:lnTo>
                  <a:pt x="521" y="341"/>
                </a:lnTo>
                <a:lnTo>
                  <a:pt x="535" y="338"/>
                </a:lnTo>
                <a:lnTo>
                  <a:pt x="540" y="328"/>
                </a:lnTo>
                <a:lnTo>
                  <a:pt x="540" y="311"/>
                </a:lnTo>
                <a:lnTo>
                  <a:pt x="540" y="301"/>
                </a:lnTo>
                <a:lnTo>
                  <a:pt x="543" y="292"/>
                </a:lnTo>
                <a:lnTo>
                  <a:pt x="544" y="292"/>
                </a:lnTo>
                <a:lnTo>
                  <a:pt x="549" y="278"/>
                </a:lnTo>
                <a:lnTo>
                  <a:pt x="560" y="267"/>
                </a:lnTo>
                <a:lnTo>
                  <a:pt x="567" y="263"/>
                </a:lnTo>
                <a:lnTo>
                  <a:pt x="570" y="263"/>
                </a:lnTo>
                <a:lnTo>
                  <a:pt x="581" y="261"/>
                </a:lnTo>
                <a:lnTo>
                  <a:pt x="600" y="227"/>
                </a:lnTo>
                <a:lnTo>
                  <a:pt x="599" y="223"/>
                </a:lnTo>
                <a:lnTo>
                  <a:pt x="609" y="210"/>
                </a:lnTo>
                <a:lnTo>
                  <a:pt x="620" y="206"/>
                </a:lnTo>
                <a:lnTo>
                  <a:pt x="623" y="202"/>
                </a:lnTo>
                <a:lnTo>
                  <a:pt x="626" y="181"/>
                </a:lnTo>
                <a:lnTo>
                  <a:pt x="626" y="179"/>
                </a:lnTo>
                <a:lnTo>
                  <a:pt x="626" y="168"/>
                </a:lnTo>
                <a:lnTo>
                  <a:pt x="636" y="154"/>
                </a:lnTo>
                <a:lnTo>
                  <a:pt x="648" y="137"/>
                </a:lnTo>
                <a:lnTo>
                  <a:pt x="650" y="141"/>
                </a:lnTo>
                <a:lnTo>
                  <a:pt x="650" y="150"/>
                </a:lnTo>
                <a:lnTo>
                  <a:pt x="660" y="152"/>
                </a:lnTo>
                <a:lnTo>
                  <a:pt x="660" y="150"/>
                </a:lnTo>
                <a:lnTo>
                  <a:pt x="663" y="145"/>
                </a:lnTo>
                <a:lnTo>
                  <a:pt x="665" y="129"/>
                </a:lnTo>
                <a:lnTo>
                  <a:pt x="668" y="122"/>
                </a:lnTo>
                <a:lnTo>
                  <a:pt x="679" y="114"/>
                </a:lnTo>
                <a:lnTo>
                  <a:pt x="680" y="108"/>
                </a:lnTo>
                <a:lnTo>
                  <a:pt x="688" y="112"/>
                </a:lnTo>
                <a:lnTo>
                  <a:pt x="690" y="116"/>
                </a:lnTo>
                <a:lnTo>
                  <a:pt x="693" y="116"/>
                </a:lnTo>
                <a:lnTo>
                  <a:pt x="695" y="110"/>
                </a:lnTo>
                <a:lnTo>
                  <a:pt x="697" y="110"/>
                </a:lnTo>
                <a:lnTo>
                  <a:pt x="703" y="78"/>
                </a:lnTo>
                <a:lnTo>
                  <a:pt x="704" y="74"/>
                </a:lnTo>
                <a:lnTo>
                  <a:pt x="707" y="66"/>
                </a:lnTo>
                <a:lnTo>
                  <a:pt x="717" y="59"/>
                </a:lnTo>
                <a:lnTo>
                  <a:pt x="718" y="47"/>
                </a:lnTo>
                <a:lnTo>
                  <a:pt x="719" y="24"/>
                </a:lnTo>
                <a:lnTo>
                  <a:pt x="719" y="5"/>
                </a:lnTo>
                <a:lnTo>
                  <a:pt x="721" y="0"/>
                </a:lnTo>
                <a:lnTo>
                  <a:pt x="712" y="3"/>
                </a:lnTo>
                <a:lnTo>
                  <a:pt x="706" y="3"/>
                </a:lnTo>
                <a:lnTo>
                  <a:pt x="698" y="7"/>
                </a:lnTo>
                <a:lnTo>
                  <a:pt x="697" y="11"/>
                </a:lnTo>
                <a:lnTo>
                  <a:pt x="679" y="17"/>
                </a:lnTo>
                <a:lnTo>
                  <a:pt x="677" y="17"/>
                </a:lnTo>
                <a:lnTo>
                  <a:pt x="674" y="19"/>
                </a:lnTo>
                <a:lnTo>
                  <a:pt x="671" y="19"/>
                </a:lnTo>
                <a:lnTo>
                  <a:pt x="667" y="21"/>
                </a:lnTo>
                <a:lnTo>
                  <a:pt x="660" y="23"/>
                </a:lnTo>
                <a:lnTo>
                  <a:pt x="650" y="24"/>
                </a:lnTo>
                <a:lnTo>
                  <a:pt x="641" y="28"/>
                </a:lnTo>
                <a:lnTo>
                  <a:pt x="639" y="28"/>
                </a:lnTo>
                <a:lnTo>
                  <a:pt x="636" y="30"/>
                </a:lnTo>
                <a:lnTo>
                  <a:pt x="621" y="34"/>
                </a:lnTo>
                <a:lnTo>
                  <a:pt x="617" y="34"/>
                </a:lnTo>
                <a:lnTo>
                  <a:pt x="608" y="38"/>
                </a:lnTo>
                <a:lnTo>
                  <a:pt x="585" y="44"/>
                </a:lnTo>
                <a:lnTo>
                  <a:pt x="584" y="44"/>
                </a:lnTo>
                <a:lnTo>
                  <a:pt x="567" y="47"/>
                </a:lnTo>
                <a:lnTo>
                  <a:pt x="554" y="51"/>
                </a:lnTo>
                <a:lnTo>
                  <a:pt x="552" y="51"/>
                </a:lnTo>
                <a:lnTo>
                  <a:pt x="550" y="51"/>
                </a:lnTo>
                <a:lnTo>
                  <a:pt x="549" y="57"/>
                </a:lnTo>
                <a:lnTo>
                  <a:pt x="541" y="59"/>
                </a:lnTo>
                <a:lnTo>
                  <a:pt x="529" y="61"/>
                </a:lnTo>
                <a:lnTo>
                  <a:pt x="523" y="61"/>
                </a:lnTo>
                <a:lnTo>
                  <a:pt x="522" y="61"/>
                </a:lnTo>
                <a:lnTo>
                  <a:pt x="516" y="63"/>
                </a:lnTo>
                <a:lnTo>
                  <a:pt x="505" y="66"/>
                </a:lnTo>
                <a:lnTo>
                  <a:pt x="504" y="66"/>
                </a:lnTo>
                <a:lnTo>
                  <a:pt x="503" y="66"/>
                </a:lnTo>
                <a:lnTo>
                  <a:pt x="501" y="66"/>
                </a:lnTo>
                <a:lnTo>
                  <a:pt x="486" y="70"/>
                </a:lnTo>
                <a:lnTo>
                  <a:pt x="477" y="72"/>
                </a:lnTo>
                <a:lnTo>
                  <a:pt x="457" y="76"/>
                </a:lnTo>
                <a:lnTo>
                  <a:pt x="449" y="76"/>
                </a:lnTo>
                <a:lnTo>
                  <a:pt x="443" y="78"/>
                </a:lnTo>
                <a:lnTo>
                  <a:pt x="439" y="78"/>
                </a:lnTo>
                <a:lnTo>
                  <a:pt x="437" y="78"/>
                </a:lnTo>
                <a:lnTo>
                  <a:pt x="427" y="78"/>
                </a:lnTo>
                <a:lnTo>
                  <a:pt x="414" y="82"/>
                </a:lnTo>
                <a:lnTo>
                  <a:pt x="412" y="82"/>
                </a:lnTo>
                <a:lnTo>
                  <a:pt x="409" y="84"/>
                </a:lnTo>
                <a:lnTo>
                  <a:pt x="401" y="86"/>
                </a:lnTo>
                <a:lnTo>
                  <a:pt x="395" y="87"/>
                </a:lnTo>
                <a:lnTo>
                  <a:pt x="385" y="89"/>
                </a:lnTo>
                <a:lnTo>
                  <a:pt x="371" y="91"/>
                </a:lnTo>
                <a:lnTo>
                  <a:pt x="367" y="93"/>
                </a:lnTo>
                <a:lnTo>
                  <a:pt x="361" y="93"/>
                </a:lnTo>
                <a:lnTo>
                  <a:pt x="355" y="95"/>
                </a:lnTo>
                <a:lnTo>
                  <a:pt x="353" y="95"/>
                </a:lnTo>
                <a:lnTo>
                  <a:pt x="342" y="95"/>
                </a:lnTo>
                <a:lnTo>
                  <a:pt x="336" y="97"/>
                </a:lnTo>
                <a:lnTo>
                  <a:pt x="328" y="97"/>
                </a:lnTo>
                <a:lnTo>
                  <a:pt x="324" y="97"/>
                </a:lnTo>
                <a:lnTo>
                  <a:pt x="318" y="99"/>
                </a:lnTo>
                <a:lnTo>
                  <a:pt x="311" y="99"/>
                </a:lnTo>
                <a:lnTo>
                  <a:pt x="306" y="103"/>
                </a:lnTo>
                <a:lnTo>
                  <a:pt x="305" y="105"/>
                </a:lnTo>
                <a:lnTo>
                  <a:pt x="303" y="101"/>
                </a:lnTo>
                <a:lnTo>
                  <a:pt x="294" y="103"/>
                </a:lnTo>
                <a:lnTo>
                  <a:pt x="288" y="105"/>
                </a:lnTo>
                <a:lnTo>
                  <a:pt x="282" y="107"/>
                </a:lnTo>
                <a:lnTo>
                  <a:pt x="279" y="107"/>
                </a:lnTo>
                <a:lnTo>
                  <a:pt x="263" y="112"/>
                </a:lnTo>
                <a:lnTo>
                  <a:pt x="259" y="112"/>
                </a:lnTo>
                <a:lnTo>
                  <a:pt x="258" y="112"/>
                </a:lnTo>
                <a:lnTo>
                  <a:pt x="246" y="114"/>
                </a:lnTo>
                <a:lnTo>
                  <a:pt x="239" y="116"/>
                </a:lnTo>
                <a:lnTo>
                  <a:pt x="228" y="118"/>
                </a:lnTo>
                <a:lnTo>
                  <a:pt x="220" y="120"/>
                </a:lnTo>
                <a:lnTo>
                  <a:pt x="213" y="122"/>
                </a:lnTo>
                <a:lnTo>
                  <a:pt x="209" y="124"/>
                </a:lnTo>
                <a:lnTo>
                  <a:pt x="196" y="128"/>
                </a:lnTo>
                <a:lnTo>
                  <a:pt x="196" y="120"/>
                </a:lnTo>
                <a:lnTo>
                  <a:pt x="177" y="122"/>
                </a:lnTo>
                <a:lnTo>
                  <a:pt x="177" y="126"/>
                </a:lnTo>
                <a:lnTo>
                  <a:pt x="179" y="131"/>
                </a:lnTo>
                <a:lnTo>
                  <a:pt x="180" y="158"/>
                </a:lnTo>
                <a:lnTo>
                  <a:pt x="161" y="160"/>
                </a:lnTo>
                <a:lnTo>
                  <a:pt x="153" y="162"/>
                </a:lnTo>
                <a:lnTo>
                  <a:pt x="143" y="164"/>
                </a:lnTo>
                <a:lnTo>
                  <a:pt x="142" y="164"/>
                </a:lnTo>
                <a:lnTo>
                  <a:pt x="141" y="164"/>
                </a:lnTo>
                <a:lnTo>
                  <a:pt x="139" y="164"/>
                </a:lnTo>
                <a:lnTo>
                  <a:pt x="120" y="168"/>
                </a:lnTo>
                <a:lnTo>
                  <a:pt x="116" y="168"/>
                </a:lnTo>
                <a:lnTo>
                  <a:pt x="115" y="170"/>
                </a:lnTo>
                <a:close/>
              </a:path>
            </a:pathLst>
          </a:custGeom>
          <a:solidFill>
            <a:srgbClr val="00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21360" y="2135160"/>
            <a:ext cx="714240" cy="720720"/>
          </a:xfrm>
          <a:custGeom>
            <a:avLst/>
            <a:gdLst/>
            <a:ahLst/>
            <a:rect l="l" t="t" r="r" b="b"/>
            <a:pathLst>
              <a:path w="450" h="908">
                <a:moveTo>
                  <a:pt x="341" y="887"/>
                </a:moveTo>
                <a:lnTo>
                  <a:pt x="339" y="889"/>
                </a:lnTo>
                <a:lnTo>
                  <a:pt x="332" y="889"/>
                </a:lnTo>
                <a:lnTo>
                  <a:pt x="327" y="889"/>
                </a:lnTo>
                <a:lnTo>
                  <a:pt x="319" y="891"/>
                </a:lnTo>
                <a:lnTo>
                  <a:pt x="303" y="892"/>
                </a:lnTo>
                <a:lnTo>
                  <a:pt x="294" y="894"/>
                </a:lnTo>
                <a:lnTo>
                  <a:pt x="293" y="894"/>
                </a:lnTo>
                <a:lnTo>
                  <a:pt x="292" y="894"/>
                </a:lnTo>
                <a:lnTo>
                  <a:pt x="291" y="894"/>
                </a:lnTo>
                <a:lnTo>
                  <a:pt x="283" y="894"/>
                </a:lnTo>
                <a:lnTo>
                  <a:pt x="273" y="896"/>
                </a:lnTo>
                <a:lnTo>
                  <a:pt x="257" y="898"/>
                </a:lnTo>
                <a:lnTo>
                  <a:pt x="254" y="898"/>
                </a:lnTo>
                <a:lnTo>
                  <a:pt x="250" y="900"/>
                </a:lnTo>
                <a:lnTo>
                  <a:pt x="240" y="900"/>
                </a:lnTo>
                <a:lnTo>
                  <a:pt x="234" y="902"/>
                </a:lnTo>
                <a:lnTo>
                  <a:pt x="211" y="906"/>
                </a:lnTo>
                <a:lnTo>
                  <a:pt x="207" y="906"/>
                </a:lnTo>
                <a:lnTo>
                  <a:pt x="198" y="906"/>
                </a:lnTo>
                <a:lnTo>
                  <a:pt x="194" y="908"/>
                </a:lnTo>
                <a:lnTo>
                  <a:pt x="188" y="883"/>
                </a:lnTo>
                <a:lnTo>
                  <a:pt x="184" y="879"/>
                </a:lnTo>
                <a:lnTo>
                  <a:pt x="172" y="875"/>
                </a:lnTo>
                <a:lnTo>
                  <a:pt x="159" y="862"/>
                </a:lnTo>
                <a:lnTo>
                  <a:pt x="156" y="837"/>
                </a:lnTo>
                <a:lnTo>
                  <a:pt x="150" y="814"/>
                </a:lnTo>
                <a:lnTo>
                  <a:pt x="149" y="812"/>
                </a:lnTo>
                <a:lnTo>
                  <a:pt x="148" y="795"/>
                </a:lnTo>
                <a:lnTo>
                  <a:pt x="156" y="759"/>
                </a:lnTo>
                <a:lnTo>
                  <a:pt x="143" y="728"/>
                </a:lnTo>
                <a:lnTo>
                  <a:pt x="142" y="724"/>
                </a:lnTo>
                <a:lnTo>
                  <a:pt x="140" y="709"/>
                </a:lnTo>
                <a:lnTo>
                  <a:pt x="139" y="692"/>
                </a:lnTo>
                <a:lnTo>
                  <a:pt x="136" y="686"/>
                </a:lnTo>
                <a:lnTo>
                  <a:pt x="136" y="663"/>
                </a:lnTo>
                <a:lnTo>
                  <a:pt x="136" y="658"/>
                </a:lnTo>
                <a:lnTo>
                  <a:pt x="136" y="652"/>
                </a:lnTo>
                <a:lnTo>
                  <a:pt x="133" y="638"/>
                </a:lnTo>
                <a:lnTo>
                  <a:pt x="132" y="638"/>
                </a:lnTo>
                <a:lnTo>
                  <a:pt x="125" y="619"/>
                </a:lnTo>
                <a:lnTo>
                  <a:pt x="121" y="612"/>
                </a:lnTo>
                <a:lnTo>
                  <a:pt x="120" y="610"/>
                </a:lnTo>
                <a:lnTo>
                  <a:pt x="115" y="606"/>
                </a:lnTo>
                <a:lnTo>
                  <a:pt x="110" y="606"/>
                </a:lnTo>
                <a:lnTo>
                  <a:pt x="105" y="600"/>
                </a:lnTo>
                <a:lnTo>
                  <a:pt x="98" y="587"/>
                </a:lnTo>
                <a:lnTo>
                  <a:pt x="86" y="574"/>
                </a:lnTo>
                <a:lnTo>
                  <a:pt x="84" y="562"/>
                </a:lnTo>
                <a:lnTo>
                  <a:pt x="74" y="537"/>
                </a:lnTo>
                <a:lnTo>
                  <a:pt x="68" y="531"/>
                </a:lnTo>
                <a:lnTo>
                  <a:pt x="64" y="530"/>
                </a:lnTo>
                <a:lnTo>
                  <a:pt x="57" y="526"/>
                </a:lnTo>
                <a:lnTo>
                  <a:pt x="55" y="524"/>
                </a:lnTo>
                <a:lnTo>
                  <a:pt x="51" y="514"/>
                </a:lnTo>
                <a:lnTo>
                  <a:pt x="50" y="509"/>
                </a:lnTo>
                <a:lnTo>
                  <a:pt x="49" y="507"/>
                </a:lnTo>
                <a:lnTo>
                  <a:pt x="35" y="503"/>
                </a:lnTo>
                <a:lnTo>
                  <a:pt x="19" y="478"/>
                </a:lnTo>
                <a:lnTo>
                  <a:pt x="17" y="474"/>
                </a:lnTo>
                <a:lnTo>
                  <a:pt x="11" y="468"/>
                </a:lnTo>
                <a:lnTo>
                  <a:pt x="13" y="444"/>
                </a:lnTo>
                <a:lnTo>
                  <a:pt x="12" y="417"/>
                </a:lnTo>
                <a:lnTo>
                  <a:pt x="13" y="390"/>
                </a:lnTo>
                <a:lnTo>
                  <a:pt x="12" y="373"/>
                </a:lnTo>
                <a:lnTo>
                  <a:pt x="12" y="371"/>
                </a:lnTo>
                <a:lnTo>
                  <a:pt x="11" y="365"/>
                </a:lnTo>
                <a:lnTo>
                  <a:pt x="12" y="356"/>
                </a:lnTo>
                <a:lnTo>
                  <a:pt x="14" y="314"/>
                </a:lnTo>
                <a:lnTo>
                  <a:pt x="10" y="302"/>
                </a:lnTo>
                <a:lnTo>
                  <a:pt x="0" y="285"/>
                </a:lnTo>
                <a:lnTo>
                  <a:pt x="2" y="268"/>
                </a:lnTo>
                <a:lnTo>
                  <a:pt x="3" y="268"/>
                </a:lnTo>
                <a:lnTo>
                  <a:pt x="9" y="245"/>
                </a:lnTo>
                <a:lnTo>
                  <a:pt x="42" y="193"/>
                </a:lnTo>
                <a:lnTo>
                  <a:pt x="41" y="176"/>
                </a:lnTo>
                <a:lnTo>
                  <a:pt x="40" y="125"/>
                </a:lnTo>
                <a:lnTo>
                  <a:pt x="39" y="107"/>
                </a:lnTo>
                <a:lnTo>
                  <a:pt x="39" y="83"/>
                </a:lnTo>
                <a:lnTo>
                  <a:pt x="38" y="73"/>
                </a:lnTo>
                <a:lnTo>
                  <a:pt x="41" y="75"/>
                </a:lnTo>
                <a:lnTo>
                  <a:pt x="53" y="54"/>
                </a:lnTo>
                <a:lnTo>
                  <a:pt x="59" y="62"/>
                </a:lnTo>
                <a:lnTo>
                  <a:pt x="60" y="64"/>
                </a:lnTo>
                <a:lnTo>
                  <a:pt x="75" y="64"/>
                </a:lnTo>
                <a:lnTo>
                  <a:pt x="93" y="48"/>
                </a:lnTo>
                <a:lnTo>
                  <a:pt x="105" y="41"/>
                </a:lnTo>
                <a:lnTo>
                  <a:pt x="118" y="21"/>
                </a:lnTo>
                <a:lnTo>
                  <a:pt x="123" y="25"/>
                </a:lnTo>
                <a:lnTo>
                  <a:pt x="141" y="0"/>
                </a:lnTo>
                <a:lnTo>
                  <a:pt x="150" y="18"/>
                </a:lnTo>
                <a:lnTo>
                  <a:pt x="142" y="44"/>
                </a:lnTo>
                <a:lnTo>
                  <a:pt x="143" y="58"/>
                </a:lnTo>
                <a:lnTo>
                  <a:pt x="140" y="69"/>
                </a:lnTo>
                <a:lnTo>
                  <a:pt x="140" y="77"/>
                </a:lnTo>
                <a:lnTo>
                  <a:pt x="150" y="67"/>
                </a:lnTo>
                <a:lnTo>
                  <a:pt x="153" y="52"/>
                </a:lnTo>
                <a:lnTo>
                  <a:pt x="169" y="75"/>
                </a:lnTo>
                <a:lnTo>
                  <a:pt x="173" y="73"/>
                </a:lnTo>
                <a:lnTo>
                  <a:pt x="178" y="77"/>
                </a:lnTo>
                <a:lnTo>
                  <a:pt x="179" y="77"/>
                </a:lnTo>
                <a:lnTo>
                  <a:pt x="194" y="88"/>
                </a:lnTo>
                <a:lnTo>
                  <a:pt x="202" y="113"/>
                </a:lnTo>
                <a:lnTo>
                  <a:pt x="217" y="125"/>
                </a:lnTo>
                <a:lnTo>
                  <a:pt x="223" y="127"/>
                </a:lnTo>
                <a:lnTo>
                  <a:pt x="281" y="148"/>
                </a:lnTo>
                <a:lnTo>
                  <a:pt x="289" y="155"/>
                </a:lnTo>
                <a:lnTo>
                  <a:pt x="293" y="159"/>
                </a:lnTo>
                <a:lnTo>
                  <a:pt x="300" y="165"/>
                </a:lnTo>
                <a:lnTo>
                  <a:pt x="308" y="167"/>
                </a:lnTo>
                <a:lnTo>
                  <a:pt x="313" y="169"/>
                </a:lnTo>
                <a:lnTo>
                  <a:pt x="317" y="172"/>
                </a:lnTo>
                <a:lnTo>
                  <a:pt x="327" y="169"/>
                </a:lnTo>
                <a:lnTo>
                  <a:pt x="346" y="172"/>
                </a:lnTo>
                <a:lnTo>
                  <a:pt x="357" y="178"/>
                </a:lnTo>
                <a:lnTo>
                  <a:pt x="361" y="188"/>
                </a:lnTo>
                <a:lnTo>
                  <a:pt x="357" y="201"/>
                </a:lnTo>
                <a:lnTo>
                  <a:pt x="363" y="207"/>
                </a:lnTo>
                <a:lnTo>
                  <a:pt x="368" y="203"/>
                </a:lnTo>
                <a:lnTo>
                  <a:pt x="368" y="207"/>
                </a:lnTo>
                <a:lnTo>
                  <a:pt x="377" y="211"/>
                </a:lnTo>
                <a:lnTo>
                  <a:pt x="379" y="214"/>
                </a:lnTo>
                <a:lnTo>
                  <a:pt x="398" y="335"/>
                </a:lnTo>
                <a:lnTo>
                  <a:pt x="406" y="339"/>
                </a:lnTo>
                <a:lnTo>
                  <a:pt x="403" y="354"/>
                </a:lnTo>
                <a:lnTo>
                  <a:pt x="403" y="360"/>
                </a:lnTo>
                <a:lnTo>
                  <a:pt x="394" y="367"/>
                </a:lnTo>
                <a:lnTo>
                  <a:pt x="380" y="419"/>
                </a:lnTo>
                <a:lnTo>
                  <a:pt x="380" y="430"/>
                </a:lnTo>
                <a:lnTo>
                  <a:pt x="379" y="444"/>
                </a:lnTo>
                <a:lnTo>
                  <a:pt x="389" y="444"/>
                </a:lnTo>
                <a:lnTo>
                  <a:pt x="397" y="434"/>
                </a:lnTo>
                <a:lnTo>
                  <a:pt x="398" y="430"/>
                </a:lnTo>
                <a:lnTo>
                  <a:pt x="399" y="426"/>
                </a:lnTo>
                <a:lnTo>
                  <a:pt x="401" y="411"/>
                </a:lnTo>
                <a:lnTo>
                  <a:pt x="415" y="384"/>
                </a:lnTo>
                <a:lnTo>
                  <a:pt x="429" y="340"/>
                </a:lnTo>
                <a:lnTo>
                  <a:pt x="430" y="327"/>
                </a:lnTo>
                <a:lnTo>
                  <a:pt x="439" y="308"/>
                </a:lnTo>
                <a:lnTo>
                  <a:pt x="440" y="300"/>
                </a:lnTo>
                <a:lnTo>
                  <a:pt x="448" y="289"/>
                </a:lnTo>
                <a:lnTo>
                  <a:pt x="450" y="300"/>
                </a:lnTo>
                <a:lnTo>
                  <a:pt x="426" y="421"/>
                </a:lnTo>
                <a:lnTo>
                  <a:pt x="426" y="423"/>
                </a:lnTo>
                <a:lnTo>
                  <a:pt x="420" y="459"/>
                </a:lnTo>
                <a:lnTo>
                  <a:pt x="417" y="495"/>
                </a:lnTo>
                <a:lnTo>
                  <a:pt x="420" y="510"/>
                </a:lnTo>
                <a:lnTo>
                  <a:pt x="409" y="564"/>
                </a:lnTo>
                <a:lnTo>
                  <a:pt x="408" y="587"/>
                </a:lnTo>
                <a:lnTo>
                  <a:pt x="411" y="616"/>
                </a:lnTo>
                <a:lnTo>
                  <a:pt x="409" y="642"/>
                </a:lnTo>
                <a:lnTo>
                  <a:pt x="407" y="658"/>
                </a:lnTo>
                <a:lnTo>
                  <a:pt x="407" y="667"/>
                </a:lnTo>
                <a:lnTo>
                  <a:pt x="402" y="694"/>
                </a:lnTo>
                <a:lnTo>
                  <a:pt x="401" y="721"/>
                </a:lnTo>
                <a:lnTo>
                  <a:pt x="403" y="732"/>
                </a:lnTo>
                <a:lnTo>
                  <a:pt x="403" y="745"/>
                </a:lnTo>
                <a:lnTo>
                  <a:pt x="406" y="770"/>
                </a:lnTo>
                <a:lnTo>
                  <a:pt x="412" y="803"/>
                </a:lnTo>
                <a:lnTo>
                  <a:pt x="416" y="820"/>
                </a:lnTo>
                <a:lnTo>
                  <a:pt x="415" y="837"/>
                </a:lnTo>
                <a:lnTo>
                  <a:pt x="415" y="847"/>
                </a:lnTo>
                <a:lnTo>
                  <a:pt x="417" y="873"/>
                </a:lnTo>
                <a:lnTo>
                  <a:pt x="402" y="875"/>
                </a:lnTo>
                <a:lnTo>
                  <a:pt x="392" y="877"/>
                </a:lnTo>
                <a:lnTo>
                  <a:pt x="386" y="879"/>
                </a:lnTo>
                <a:lnTo>
                  <a:pt x="382" y="879"/>
                </a:lnTo>
                <a:lnTo>
                  <a:pt x="381" y="879"/>
                </a:lnTo>
                <a:lnTo>
                  <a:pt x="378" y="881"/>
                </a:lnTo>
                <a:lnTo>
                  <a:pt x="353" y="885"/>
                </a:lnTo>
                <a:lnTo>
                  <a:pt x="349" y="885"/>
                </a:lnTo>
                <a:lnTo>
                  <a:pt x="346" y="887"/>
                </a:lnTo>
                <a:lnTo>
                  <a:pt x="343" y="887"/>
                </a:lnTo>
                <a:lnTo>
                  <a:pt x="342" y="887"/>
                </a:lnTo>
                <a:lnTo>
                  <a:pt x="341" y="887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45280" y="2828880"/>
            <a:ext cx="542880" cy="914400"/>
          </a:xfrm>
          <a:custGeom>
            <a:avLst/>
            <a:gdLst/>
            <a:ahLst/>
            <a:rect l="l" t="t" r="r" b="b"/>
            <a:pathLst>
              <a:path w="342" h="1152">
                <a:moveTo>
                  <a:pt x="0" y="518"/>
                </a:moveTo>
                <a:lnTo>
                  <a:pt x="0" y="508"/>
                </a:lnTo>
                <a:lnTo>
                  <a:pt x="4" y="484"/>
                </a:lnTo>
                <a:lnTo>
                  <a:pt x="6" y="482"/>
                </a:lnTo>
                <a:lnTo>
                  <a:pt x="7" y="480"/>
                </a:lnTo>
                <a:lnTo>
                  <a:pt x="10" y="476"/>
                </a:lnTo>
                <a:lnTo>
                  <a:pt x="9" y="438"/>
                </a:lnTo>
                <a:lnTo>
                  <a:pt x="24" y="424"/>
                </a:lnTo>
                <a:lnTo>
                  <a:pt x="27" y="419"/>
                </a:lnTo>
                <a:lnTo>
                  <a:pt x="28" y="419"/>
                </a:lnTo>
                <a:lnTo>
                  <a:pt x="29" y="411"/>
                </a:lnTo>
                <a:lnTo>
                  <a:pt x="29" y="402"/>
                </a:lnTo>
                <a:lnTo>
                  <a:pt x="40" y="348"/>
                </a:lnTo>
                <a:lnTo>
                  <a:pt x="39" y="333"/>
                </a:lnTo>
                <a:lnTo>
                  <a:pt x="35" y="314"/>
                </a:lnTo>
                <a:lnTo>
                  <a:pt x="25" y="298"/>
                </a:lnTo>
                <a:lnTo>
                  <a:pt x="28" y="279"/>
                </a:lnTo>
                <a:lnTo>
                  <a:pt x="28" y="272"/>
                </a:lnTo>
                <a:lnTo>
                  <a:pt x="33" y="260"/>
                </a:lnTo>
                <a:lnTo>
                  <a:pt x="50" y="253"/>
                </a:lnTo>
                <a:lnTo>
                  <a:pt x="72" y="235"/>
                </a:lnTo>
                <a:lnTo>
                  <a:pt x="81" y="222"/>
                </a:lnTo>
                <a:lnTo>
                  <a:pt x="85" y="191"/>
                </a:lnTo>
                <a:lnTo>
                  <a:pt x="86" y="186"/>
                </a:lnTo>
                <a:lnTo>
                  <a:pt x="89" y="180"/>
                </a:lnTo>
                <a:lnTo>
                  <a:pt x="90" y="178"/>
                </a:lnTo>
                <a:lnTo>
                  <a:pt x="95" y="159"/>
                </a:lnTo>
                <a:lnTo>
                  <a:pt x="96" y="147"/>
                </a:lnTo>
                <a:lnTo>
                  <a:pt x="96" y="132"/>
                </a:lnTo>
                <a:lnTo>
                  <a:pt x="95" y="126"/>
                </a:lnTo>
                <a:lnTo>
                  <a:pt x="93" y="107"/>
                </a:lnTo>
                <a:lnTo>
                  <a:pt x="84" y="98"/>
                </a:lnTo>
                <a:lnTo>
                  <a:pt x="80" y="94"/>
                </a:lnTo>
                <a:lnTo>
                  <a:pt x="75" y="90"/>
                </a:lnTo>
                <a:lnTo>
                  <a:pt x="73" y="84"/>
                </a:lnTo>
                <a:lnTo>
                  <a:pt x="67" y="58"/>
                </a:lnTo>
                <a:lnTo>
                  <a:pt x="54" y="44"/>
                </a:lnTo>
                <a:lnTo>
                  <a:pt x="52" y="37"/>
                </a:lnTo>
                <a:lnTo>
                  <a:pt x="53" y="35"/>
                </a:lnTo>
                <a:lnTo>
                  <a:pt x="57" y="33"/>
                </a:lnTo>
                <a:lnTo>
                  <a:pt x="66" y="33"/>
                </a:lnTo>
                <a:lnTo>
                  <a:pt x="70" y="33"/>
                </a:lnTo>
                <a:lnTo>
                  <a:pt x="93" y="29"/>
                </a:lnTo>
                <a:lnTo>
                  <a:pt x="99" y="27"/>
                </a:lnTo>
                <a:lnTo>
                  <a:pt x="109" y="27"/>
                </a:lnTo>
                <a:lnTo>
                  <a:pt x="113" y="25"/>
                </a:lnTo>
                <a:lnTo>
                  <a:pt x="116" y="25"/>
                </a:lnTo>
                <a:lnTo>
                  <a:pt x="132" y="23"/>
                </a:lnTo>
                <a:lnTo>
                  <a:pt x="142" y="21"/>
                </a:lnTo>
                <a:lnTo>
                  <a:pt x="150" y="21"/>
                </a:lnTo>
                <a:lnTo>
                  <a:pt x="151" y="21"/>
                </a:lnTo>
                <a:lnTo>
                  <a:pt x="152" y="21"/>
                </a:lnTo>
                <a:lnTo>
                  <a:pt x="153" y="21"/>
                </a:lnTo>
                <a:lnTo>
                  <a:pt x="162" y="19"/>
                </a:lnTo>
                <a:lnTo>
                  <a:pt x="178" y="18"/>
                </a:lnTo>
                <a:lnTo>
                  <a:pt x="186" y="16"/>
                </a:lnTo>
                <a:lnTo>
                  <a:pt x="191" y="16"/>
                </a:lnTo>
                <a:lnTo>
                  <a:pt x="198" y="16"/>
                </a:lnTo>
                <a:lnTo>
                  <a:pt x="200" y="14"/>
                </a:lnTo>
                <a:lnTo>
                  <a:pt x="201" y="14"/>
                </a:lnTo>
                <a:lnTo>
                  <a:pt x="202" y="14"/>
                </a:lnTo>
                <a:lnTo>
                  <a:pt x="205" y="14"/>
                </a:lnTo>
                <a:lnTo>
                  <a:pt x="208" y="12"/>
                </a:lnTo>
                <a:lnTo>
                  <a:pt x="212" y="12"/>
                </a:lnTo>
                <a:lnTo>
                  <a:pt x="237" y="8"/>
                </a:lnTo>
                <a:lnTo>
                  <a:pt x="240" y="6"/>
                </a:lnTo>
                <a:lnTo>
                  <a:pt x="241" y="6"/>
                </a:lnTo>
                <a:lnTo>
                  <a:pt x="245" y="6"/>
                </a:lnTo>
                <a:lnTo>
                  <a:pt x="251" y="4"/>
                </a:lnTo>
                <a:lnTo>
                  <a:pt x="261" y="2"/>
                </a:lnTo>
                <a:lnTo>
                  <a:pt x="276" y="0"/>
                </a:lnTo>
                <a:lnTo>
                  <a:pt x="277" y="25"/>
                </a:lnTo>
                <a:lnTo>
                  <a:pt x="278" y="50"/>
                </a:lnTo>
                <a:lnTo>
                  <a:pt x="283" y="69"/>
                </a:lnTo>
                <a:lnTo>
                  <a:pt x="293" y="100"/>
                </a:lnTo>
                <a:lnTo>
                  <a:pt x="298" y="125"/>
                </a:lnTo>
                <a:lnTo>
                  <a:pt x="307" y="155"/>
                </a:lnTo>
                <a:lnTo>
                  <a:pt x="308" y="188"/>
                </a:lnTo>
                <a:lnTo>
                  <a:pt x="309" y="193"/>
                </a:lnTo>
                <a:lnTo>
                  <a:pt x="309" y="207"/>
                </a:lnTo>
                <a:lnTo>
                  <a:pt x="310" y="226"/>
                </a:lnTo>
                <a:lnTo>
                  <a:pt x="311" y="233"/>
                </a:lnTo>
                <a:lnTo>
                  <a:pt x="311" y="241"/>
                </a:lnTo>
                <a:lnTo>
                  <a:pt x="311" y="245"/>
                </a:lnTo>
                <a:lnTo>
                  <a:pt x="312" y="251"/>
                </a:lnTo>
                <a:lnTo>
                  <a:pt x="313" y="268"/>
                </a:lnTo>
                <a:lnTo>
                  <a:pt x="313" y="277"/>
                </a:lnTo>
                <a:lnTo>
                  <a:pt x="313" y="285"/>
                </a:lnTo>
                <a:lnTo>
                  <a:pt x="314" y="300"/>
                </a:lnTo>
                <a:lnTo>
                  <a:pt x="314" y="302"/>
                </a:lnTo>
                <a:lnTo>
                  <a:pt x="315" y="314"/>
                </a:lnTo>
                <a:lnTo>
                  <a:pt x="317" y="356"/>
                </a:lnTo>
                <a:lnTo>
                  <a:pt x="319" y="379"/>
                </a:lnTo>
                <a:lnTo>
                  <a:pt x="319" y="390"/>
                </a:lnTo>
                <a:lnTo>
                  <a:pt x="320" y="407"/>
                </a:lnTo>
                <a:lnTo>
                  <a:pt x="320" y="409"/>
                </a:lnTo>
                <a:lnTo>
                  <a:pt x="321" y="424"/>
                </a:lnTo>
                <a:lnTo>
                  <a:pt x="322" y="444"/>
                </a:lnTo>
                <a:lnTo>
                  <a:pt x="324" y="478"/>
                </a:lnTo>
                <a:lnTo>
                  <a:pt x="324" y="482"/>
                </a:lnTo>
                <a:lnTo>
                  <a:pt x="324" y="495"/>
                </a:lnTo>
                <a:lnTo>
                  <a:pt x="326" y="531"/>
                </a:lnTo>
                <a:lnTo>
                  <a:pt x="327" y="547"/>
                </a:lnTo>
                <a:lnTo>
                  <a:pt x="328" y="572"/>
                </a:lnTo>
                <a:lnTo>
                  <a:pt x="329" y="589"/>
                </a:lnTo>
                <a:lnTo>
                  <a:pt x="331" y="612"/>
                </a:lnTo>
                <a:lnTo>
                  <a:pt x="331" y="615"/>
                </a:lnTo>
                <a:lnTo>
                  <a:pt x="332" y="642"/>
                </a:lnTo>
                <a:lnTo>
                  <a:pt x="327" y="661"/>
                </a:lnTo>
                <a:lnTo>
                  <a:pt x="328" y="663"/>
                </a:lnTo>
                <a:lnTo>
                  <a:pt x="330" y="661"/>
                </a:lnTo>
                <a:lnTo>
                  <a:pt x="327" y="682"/>
                </a:lnTo>
                <a:lnTo>
                  <a:pt x="327" y="694"/>
                </a:lnTo>
                <a:lnTo>
                  <a:pt x="333" y="715"/>
                </a:lnTo>
                <a:lnTo>
                  <a:pt x="338" y="734"/>
                </a:lnTo>
                <a:lnTo>
                  <a:pt x="336" y="736"/>
                </a:lnTo>
                <a:lnTo>
                  <a:pt x="336" y="740"/>
                </a:lnTo>
                <a:lnTo>
                  <a:pt x="338" y="743"/>
                </a:lnTo>
                <a:lnTo>
                  <a:pt x="342" y="768"/>
                </a:lnTo>
                <a:lnTo>
                  <a:pt x="333" y="801"/>
                </a:lnTo>
                <a:lnTo>
                  <a:pt x="331" y="805"/>
                </a:lnTo>
                <a:lnTo>
                  <a:pt x="330" y="820"/>
                </a:lnTo>
                <a:lnTo>
                  <a:pt x="324" y="826"/>
                </a:lnTo>
                <a:lnTo>
                  <a:pt x="325" y="837"/>
                </a:lnTo>
                <a:lnTo>
                  <a:pt x="323" y="848"/>
                </a:lnTo>
                <a:lnTo>
                  <a:pt x="309" y="875"/>
                </a:lnTo>
                <a:lnTo>
                  <a:pt x="307" y="873"/>
                </a:lnTo>
                <a:lnTo>
                  <a:pt x="307" y="875"/>
                </a:lnTo>
                <a:lnTo>
                  <a:pt x="307" y="879"/>
                </a:lnTo>
                <a:lnTo>
                  <a:pt x="309" y="902"/>
                </a:lnTo>
                <a:lnTo>
                  <a:pt x="308" y="917"/>
                </a:lnTo>
                <a:lnTo>
                  <a:pt x="302" y="952"/>
                </a:lnTo>
                <a:lnTo>
                  <a:pt x="304" y="954"/>
                </a:lnTo>
                <a:lnTo>
                  <a:pt x="308" y="969"/>
                </a:lnTo>
                <a:lnTo>
                  <a:pt x="301" y="990"/>
                </a:lnTo>
                <a:lnTo>
                  <a:pt x="300" y="1007"/>
                </a:lnTo>
                <a:lnTo>
                  <a:pt x="302" y="1017"/>
                </a:lnTo>
                <a:lnTo>
                  <a:pt x="303" y="1018"/>
                </a:lnTo>
                <a:lnTo>
                  <a:pt x="309" y="1030"/>
                </a:lnTo>
                <a:lnTo>
                  <a:pt x="304" y="1038"/>
                </a:lnTo>
                <a:lnTo>
                  <a:pt x="294" y="1043"/>
                </a:lnTo>
                <a:lnTo>
                  <a:pt x="285" y="1055"/>
                </a:lnTo>
                <a:lnTo>
                  <a:pt x="284" y="1057"/>
                </a:lnTo>
                <a:lnTo>
                  <a:pt x="284" y="1055"/>
                </a:lnTo>
                <a:lnTo>
                  <a:pt x="280" y="1053"/>
                </a:lnTo>
                <a:lnTo>
                  <a:pt x="275" y="1089"/>
                </a:lnTo>
                <a:lnTo>
                  <a:pt x="281" y="1114"/>
                </a:lnTo>
                <a:lnTo>
                  <a:pt x="277" y="1127"/>
                </a:lnTo>
                <a:lnTo>
                  <a:pt x="271" y="1127"/>
                </a:lnTo>
                <a:lnTo>
                  <a:pt x="266" y="1118"/>
                </a:lnTo>
                <a:lnTo>
                  <a:pt x="255" y="1114"/>
                </a:lnTo>
                <a:lnTo>
                  <a:pt x="239" y="1101"/>
                </a:lnTo>
                <a:lnTo>
                  <a:pt x="233" y="1103"/>
                </a:lnTo>
                <a:lnTo>
                  <a:pt x="223" y="1129"/>
                </a:lnTo>
                <a:lnTo>
                  <a:pt x="220" y="1137"/>
                </a:lnTo>
                <a:lnTo>
                  <a:pt x="219" y="1143"/>
                </a:lnTo>
                <a:lnTo>
                  <a:pt x="222" y="1150"/>
                </a:lnTo>
                <a:lnTo>
                  <a:pt x="213" y="1137"/>
                </a:lnTo>
                <a:lnTo>
                  <a:pt x="213" y="1152"/>
                </a:lnTo>
                <a:lnTo>
                  <a:pt x="209" y="1150"/>
                </a:lnTo>
                <a:lnTo>
                  <a:pt x="203" y="1146"/>
                </a:lnTo>
                <a:lnTo>
                  <a:pt x="193" y="1103"/>
                </a:lnTo>
                <a:lnTo>
                  <a:pt x="191" y="1103"/>
                </a:lnTo>
                <a:lnTo>
                  <a:pt x="190" y="1104"/>
                </a:lnTo>
                <a:lnTo>
                  <a:pt x="188" y="1091"/>
                </a:lnTo>
                <a:lnTo>
                  <a:pt x="190" y="1085"/>
                </a:lnTo>
                <a:lnTo>
                  <a:pt x="193" y="1085"/>
                </a:lnTo>
                <a:lnTo>
                  <a:pt x="195" y="1078"/>
                </a:lnTo>
                <a:lnTo>
                  <a:pt x="185" y="1039"/>
                </a:lnTo>
                <a:lnTo>
                  <a:pt x="185" y="1038"/>
                </a:lnTo>
                <a:lnTo>
                  <a:pt x="187" y="1028"/>
                </a:lnTo>
                <a:lnTo>
                  <a:pt x="172" y="1003"/>
                </a:lnTo>
                <a:lnTo>
                  <a:pt x="170" y="992"/>
                </a:lnTo>
                <a:lnTo>
                  <a:pt x="159" y="978"/>
                </a:lnTo>
                <a:lnTo>
                  <a:pt x="153" y="978"/>
                </a:lnTo>
                <a:lnTo>
                  <a:pt x="148" y="980"/>
                </a:lnTo>
                <a:lnTo>
                  <a:pt x="142" y="963"/>
                </a:lnTo>
                <a:lnTo>
                  <a:pt x="131" y="944"/>
                </a:lnTo>
                <a:lnTo>
                  <a:pt x="124" y="940"/>
                </a:lnTo>
                <a:lnTo>
                  <a:pt x="120" y="934"/>
                </a:lnTo>
                <a:lnTo>
                  <a:pt x="120" y="933"/>
                </a:lnTo>
                <a:lnTo>
                  <a:pt x="119" y="933"/>
                </a:lnTo>
                <a:lnTo>
                  <a:pt x="110" y="913"/>
                </a:lnTo>
                <a:lnTo>
                  <a:pt x="109" y="908"/>
                </a:lnTo>
                <a:lnTo>
                  <a:pt x="110" y="881"/>
                </a:lnTo>
                <a:lnTo>
                  <a:pt x="115" y="856"/>
                </a:lnTo>
                <a:lnTo>
                  <a:pt x="115" y="852"/>
                </a:lnTo>
                <a:lnTo>
                  <a:pt x="115" y="850"/>
                </a:lnTo>
                <a:lnTo>
                  <a:pt x="116" y="848"/>
                </a:lnTo>
                <a:lnTo>
                  <a:pt x="116" y="847"/>
                </a:lnTo>
                <a:lnTo>
                  <a:pt x="121" y="829"/>
                </a:lnTo>
                <a:lnTo>
                  <a:pt x="121" y="822"/>
                </a:lnTo>
                <a:lnTo>
                  <a:pt x="120" y="803"/>
                </a:lnTo>
                <a:lnTo>
                  <a:pt x="121" y="799"/>
                </a:lnTo>
                <a:lnTo>
                  <a:pt x="124" y="793"/>
                </a:lnTo>
                <a:lnTo>
                  <a:pt x="125" y="791"/>
                </a:lnTo>
                <a:lnTo>
                  <a:pt x="124" y="780"/>
                </a:lnTo>
                <a:lnTo>
                  <a:pt x="113" y="768"/>
                </a:lnTo>
                <a:lnTo>
                  <a:pt x="111" y="768"/>
                </a:lnTo>
                <a:lnTo>
                  <a:pt x="106" y="766"/>
                </a:lnTo>
                <a:lnTo>
                  <a:pt x="103" y="763"/>
                </a:lnTo>
                <a:lnTo>
                  <a:pt x="96" y="761"/>
                </a:lnTo>
                <a:lnTo>
                  <a:pt x="89" y="782"/>
                </a:lnTo>
                <a:lnTo>
                  <a:pt x="86" y="784"/>
                </a:lnTo>
                <a:lnTo>
                  <a:pt x="79" y="770"/>
                </a:lnTo>
                <a:lnTo>
                  <a:pt x="77" y="757"/>
                </a:lnTo>
                <a:lnTo>
                  <a:pt x="75" y="732"/>
                </a:lnTo>
                <a:lnTo>
                  <a:pt x="72" y="711"/>
                </a:lnTo>
                <a:lnTo>
                  <a:pt x="69" y="703"/>
                </a:lnTo>
                <a:lnTo>
                  <a:pt x="61" y="688"/>
                </a:lnTo>
                <a:lnTo>
                  <a:pt x="53" y="677"/>
                </a:lnTo>
                <a:lnTo>
                  <a:pt x="48" y="673"/>
                </a:lnTo>
                <a:lnTo>
                  <a:pt x="38" y="650"/>
                </a:lnTo>
                <a:lnTo>
                  <a:pt x="34" y="650"/>
                </a:lnTo>
                <a:lnTo>
                  <a:pt x="32" y="638"/>
                </a:lnTo>
                <a:lnTo>
                  <a:pt x="25" y="629"/>
                </a:lnTo>
                <a:lnTo>
                  <a:pt x="23" y="627"/>
                </a:lnTo>
                <a:lnTo>
                  <a:pt x="21" y="623"/>
                </a:lnTo>
                <a:lnTo>
                  <a:pt x="20" y="621"/>
                </a:lnTo>
                <a:lnTo>
                  <a:pt x="15" y="610"/>
                </a:lnTo>
                <a:lnTo>
                  <a:pt x="15" y="608"/>
                </a:lnTo>
                <a:lnTo>
                  <a:pt x="14" y="598"/>
                </a:lnTo>
                <a:lnTo>
                  <a:pt x="8" y="585"/>
                </a:lnTo>
                <a:lnTo>
                  <a:pt x="8" y="570"/>
                </a:lnTo>
                <a:lnTo>
                  <a:pt x="4" y="560"/>
                </a:lnTo>
                <a:lnTo>
                  <a:pt x="0" y="533"/>
                </a:lnTo>
                <a:lnTo>
                  <a:pt x="0" y="518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78200" y="2698920"/>
            <a:ext cx="819360" cy="509400"/>
          </a:xfrm>
          <a:custGeom>
            <a:avLst/>
            <a:gdLst/>
            <a:ahLst/>
            <a:rect l="l" t="t" r="r" b="b"/>
            <a:pathLst>
              <a:path w="516" h="644">
                <a:moveTo>
                  <a:pt x="243" y="19"/>
                </a:moveTo>
                <a:lnTo>
                  <a:pt x="230" y="21"/>
                </a:lnTo>
                <a:lnTo>
                  <a:pt x="215" y="21"/>
                </a:lnTo>
                <a:lnTo>
                  <a:pt x="213" y="21"/>
                </a:lnTo>
                <a:lnTo>
                  <a:pt x="205" y="23"/>
                </a:lnTo>
                <a:lnTo>
                  <a:pt x="203" y="23"/>
                </a:lnTo>
                <a:lnTo>
                  <a:pt x="184" y="23"/>
                </a:lnTo>
                <a:lnTo>
                  <a:pt x="174" y="25"/>
                </a:lnTo>
                <a:lnTo>
                  <a:pt x="169" y="25"/>
                </a:lnTo>
                <a:lnTo>
                  <a:pt x="152" y="25"/>
                </a:lnTo>
                <a:lnTo>
                  <a:pt x="145" y="27"/>
                </a:lnTo>
                <a:lnTo>
                  <a:pt x="137" y="27"/>
                </a:lnTo>
                <a:lnTo>
                  <a:pt x="135" y="27"/>
                </a:lnTo>
                <a:lnTo>
                  <a:pt x="132" y="27"/>
                </a:lnTo>
                <a:lnTo>
                  <a:pt x="116" y="29"/>
                </a:lnTo>
                <a:lnTo>
                  <a:pt x="106" y="29"/>
                </a:lnTo>
                <a:lnTo>
                  <a:pt x="96" y="29"/>
                </a:lnTo>
                <a:lnTo>
                  <a:pt x="90" y="29"/>
                </a:lnTo>
                <a:lnTo>
                  <a:pt x="70" y="31"/>
                </a:lnTo>
                <a:lnTo>
                  <a:pt x="67" y="31"/>
                </a:lnTo>
                <a:lnTo>
                  <a:pt x="59" y="31"/>
                </a:lnTo>
                <a:lnTo>
                  <a:pt x="53" y="31"/>
                </a:lnTo>
                <a:lnTo>
                  <a:pt x="48" y="31"/>
                </a:lnTo>
                <a:lnTo>
                  <a:pt x="44" y="31"/>
                </a:lnTo>
                <a:lnTo>
                  <a:pt x="28" y="33"/>
                </a:lnTo>
                <a:lnTo>
                  <a:pt x="18" y="33"/>
                </a:lnTo>
                <a:lnTo>
                  <a:pt x="12" y="33"/>
                </a:lnTo>
                <a:lnTo>
                  <a:pt x="8" y="33"/>
                </a:lnTo>
                <a:lnTo>
                  <a:pt x="1" y="33"/>
                </a:lnTo>
                <a:lnTo>
                  <a:pt x="7" y="57"/>
                </a:lnTo>
                <a:lnTo>
                  <a:pt x="4" y="82"/>
                </a:lnTo>
                <a:lnTo>
                  <a:pt x="9" y="90"/>
                </a:lnTo>
                <a:lnTo>
                  <a:pt x="13" y="109"/>
                </a:lnTo>
                <a:lnTo>
                  <a:pt x="13" y="119"/>
                </a:lnTo>
                <a:lnTo>
                  <a:pt x="9" y="124"/>
                </a:lnTo>
                <a:lnTo>
                  <a:pt x="9" y="143"/>
                </a:lnTo>
                <a:lnTo>
                  <a:pt x="6" y="155"/>
                </a:lnTo>
                <a:lnTo>
                  <a:pt x="0" y="197"/>
                </a:lnTo>
                <a:lnTo>
                  <a:pt x="10" y="218"/>
                </a:lnTo>
                <a:lnTo>
                  <a:pt x="10" y="226"/>
                </a:lnTo>
                <a:lnTo>
                  <a:pt x="12" y="239"/>
                </a:lnTo>
                <a:lnTo>
                  <a:pt x="14" y="241"/>
                </a:lnTo>
                <a:lnTo>
                  <a:pt x="22" y="285"/>
                </a:lnTo>
                <a:lnTo>
                  <a:pt x="24" y="289"/>
                </a:lnTo>
                <a:lnTo>
                  <a:pt x="24" y="290"/>
                </a:lnTo>
                <a:lnTo>
                  <a:pt x="22" y="296"/>
                </a:lnTo>
                <a:lnTo>
                  <a:pt x="28" y="315"/>
                </a:lnTo>
                <a:lnTo>
                  <a:pt x="29" y="331"/>
                </a:lnTo>
                <a:lnTo>
                  <a:pt x="31" y="340"/>
                </a:lnTo>
                <a:lnTo>
                  <a:pt x="36" y="340"/>
                </a:lnTo>
                <a:lnTo>
                  <a:pt x="40" y="369"/>
                </a:lnTo>
                <a:lnTo>
                  <a:pt x="42" y="369"/>
                </a:lnTo>
                <a:lnTo>
                  <a:pt x="44" y="392"/>
                </a:lnTo>
                <a:lnTo>
                  <a:pt x="42" y="405"/>
                </a:lnTo>
                <a:lnTo>
                  <a:pt x="43" y="418"/>
                </a:lnTo>
                <a:lnTo>
                  <a:pt x="52" y="436"/>
                </a:lnTo>
                <a:lnTo>
                  <a:pt x="53" y="441"/>
                </a:lnTo>
                <a:lnTo>
                  <a:pt x="52" y="443"/>
                </a:lnTo>
                <a:lnTo>
                  <a:pt x="52" y="449"/>
                </a:lnTo>
                <a:lnTo>
                  <a:pt x="58" y="464"/>
                </a:lnTo>
                <a:lnTo>
                  <a:pt x="63" y="487"/>
                </a:lnTo>
                <a:lnTo>
                  <a:pt x="59" y="495"/>
                </a:lnTo>
                <a:lnTo>
                  <a:pt x="59" y="506"/>
                </a:lnTo>
                <a:lnTo>
                  <a:pt x="63" y="506"/>
                </a:lnTo>
                <a:lnTo>
                  <a:pt x="64" y="510"/>
                </a:lnTo>
                <a:lnTo>
                  <a:pt x="63" y="512"/>
                </a:lnTo>
                <a:lnTo>
                  <a:pt x="64" y="520"/>
                </a:lnTo>
                <a:lnTo>
                  <a:pt x="63" y="533"/>
                </a:lnTo>
                <a:lnTo>
                  <a:pt x="63" y="535"/>
                </a:lnTo>
                <a:lnTo>
                  <a:pt x="64" y="546"/>
                </a:lnTo>
                <a:lnTo>
                  <a:pt x="69" y="566"/>
                </a:lnTo>
                <a:lnTo>
                  <a:pt x="68" y="571"/>
                </a:lnTo>
                <a:lnTo>
                  <a:pt x="67" y="590"/>
                </a:lnTo>
                <a:lnTo>
                  <a:pt x="63" y="598"/>
                </a:lnTo>
                <a:lnTo>
                  <a:pt x="74" y="627"/>
                </a:lnTo>
                <a:lnTo>
                  <a:pt x="73" y="630"/>
                </a:lnTo>
                <a:lnTo>
                  <a:pt x="74" y="630"/>
                </a:lnTo>
                <a:lnTo>
                  <a:pt x="95" y="630"/>
                </a:lnTo>
                <a:lnTo>
                  <a:pt x="105" y="630"/>
                </a:lnTo>
                <a:lnTo>
                  <a:pt x="115" y="630"/>
                </a:lnTo>
                <a:lnTo>
                  <a:pt x="119" y="630"/>
                </a:lnTo>
                <a:lnTo>
                  <a:pt x="135" y="630"/>
                </a:lnTo>
                <a:lnTo>
                  <a:pt x="142" y="630"/>
                </a:lnTo>
                <a:lnTo>
                  <a:pt x="155" y="630"/>
                </a:lnTo>
                <a:lnTo>
                  <a:pt x="165" y="629"/>
                </a:lnTo>
                <a:lnTo>
                  <a:pt x="175" y="629"/>
                </a:lnTo>
                <a:lnTo>
                  <a:pt x="178" y="629"/>
                </a:lnTo>
                <a:lnTo>
                  <a:pt x="195" y="627"/>
                </a:lnTo>
                <a:lnTo>
                  <a:pt x="197" y="627"/>
                </a:lnTo>
                <a:lnTo>
                  <a:pt x="214" y="625"/>
                </a:lnTo>
                <a:lnTo>
                  <a:pt x="215" y="625"/>
                </a:lnTo>
                <a:lnTo>
                  <a:pt x="235" y="623"/>
                </a:lnTo>
                <a:lnTo>
                  <a:pt x="237" y="623"/>
                </a:lnTo>
                <a:lnTo>
                  <a:pt x="252" y="621"/>
                </a:lnTo>
                <a:lnTo>
                  <a:pt x="257" y="621"/>
                </a:lnTo>
                <a:lnTo>
                  <a:pt x="261" y="621"/>
                </a:lnTo>
                <a:lnTo>
                  <a:pt x="267" y="619"/>
                </a:lnTo>
                <a:lnTo>
                  <a:pt x="277" y="619"/>
                </a:lnTo>
                <a:lnTo>
                  <a:pt x="289" y="617"/>
                </a:lnTo>
                <a:lnTo>
                  <a:pt x="297" y="615"/>
                </a:lnTo>
                <a:lnTo>
                  <a:pt x="317" y="613"/>
                </a:lnTo>
                <a:lnTo>
                  <a:pt x="320" y="613"/>
                </a:lnTo>
                <a:lnTo>
                  <a:pt x="326" y="611"/>
                </a:lnTo>
                <a:lnTo>
                  <a:pt x="337" y="609"/>
                </a:lnTo>
                <a:lnTo>
                  <a:pt x="349" y="608"/>
                </a:lnTo>
                <a:lnTo>
                  <a:pt x="357" y="608"/>
                </a:lnTo>
                <a:lnTo>
                  <a:pt x="358" y="608"/>
                </a:lnTo>
                <a:lnTo>
                  <a:pt x="363" y="606"/>
                </a:lnTo>
                <a:lnTo>
                  <a:pt x="373" y="604"/>
                </a:lnTo>
                <a:lnTo>
                  <a:pt x="376" y="604"/>
                </a:lnTo>
                <a:lnTo>
                  <a:pt x="382" y="602"/>
                </a:lnTo>
                <a:lnTo>
                  <a:pt x="399" y="600"/>
                </a:lnTo>
                <a:lnTo>
                  <a:pt x="400" y="602"/>
                </a:lnTo>
                <a:lnTo>
                  <a:pt x="408" y="613"/>
                </a:lnTo>
                <a:lnTo>
                  <a:pt x="419" y="640"/>
                </a:lnTo>
                <a:lnTo>
                  <a:pt x="427" y="644"/>
                </a:lnTo>
                <a:lnTo>
                  <a:pt x="430" y="640"/>
                </a:lnTo>
                <a:lnTo>
                  <a:pt x="429" y="602"/>
                </a:lnTo>
                <a:lnTo>
                  <a:pt x="444" y="588"/>
                </a:lnTo>
                <a:lnTo>
                  <a:pt x="447" y="583"/>
                </a:lnTo>
                <a:lnTo>
                  <a:pt x="448" y="583"/>
                </a:lnTo>
                <a:lnTo>
                  <a:pt x="449" y="575"/>
                </a:lnTo>
                <a:lnTo>
                  <a:pt x="449" y="566"/>
                </a:lnTo>
                <a:lnTo>
                  <a:pt x="460" y="512"/>
                </a:lnTo>
                <a:lnTo>
                  <a:pt x="459" y="497"/>
                </a:lnTo>
                <a:lnTo>
                  <a:pt x="455" y="478"/>
                </a:lnTo>
                <a:lnTo>
                  <a:pt x="445" y="462"/>
                </a:lnTo>
                <a:lnTo>
                  <a:pt x="448" y="443"/>
                </a:lnTo>
                <a:lnTo>
                  <a:pt x="448" y="436"/>
                </a:lnTo>
                <a:lnTo>
                  <a:pt x="453" y="424"/>
                </a:lnTo>
                <a:lnTo>
                  <a:pt x="470" y="417"/>
                </a:lnTo>
                <a:lnTo>
                  <a:pt x="492" y="399"/>
                </a:lnTo>
                <a:lnTo>
                  <a:pt x="501" y="386"/>
                </a:lnTo>
                <a:lnTo>
                  <a:pt x="505" y="355"/>
                </a:lnTo>
                <a:lnTo>
                  <a:pt x="506" y="350"/>
                </a:lnTo>
                <a:lnTo>
                  <a:pt x="509" y="344"/>
                </a:lnTo>
                <a:lnTo>
                  <a:pt x="510" y="342"/>
                </a:lnTo>
                <a:lnTo>
                  <a:pt x="515" y="323"/>
                </a:lnTo>
                <a:lnTo>
                  <a:pt x="516" y="311"/>
                </a:lnTo>
                <a:lnTo>
                  <a:pt x="516" y="296"/>
                </a:lnTo>
                <a:lnTo>
                  <a:pt x="515" y="290"/>
                </a:lnTo>
                <a:lnTo>
                  <a:pt x="513" y="271"/>
                </a:lnTo>
                <a:lnTo>
                  <a:pt x="504" y="262"/>
                </a:lnTo>
                <a:lnTo>
                  <a:pt x="500" y="258"/>
                </a:lnTo>
                <a:lnTo>
                  <a:pt x="495" y="254"/>
                </a:lnTo>
                <a:lnTo>
                  <a:pt x="493" y="248"/>
                </a:lnTo>
                <a:lnTo>
                  <a:pt x="487" y="222"/>
                </a:lnTo>
                <a:lnTo>
                  <a:pt x="474" y="208"/>
                </a:lnTo>
                <a:lnTo>
                  <a:pt x="472" y="201"/>
                </a:lnTo>
                <a:lnTo>
                  <a:pt x="473" y="199"/>
                </a:lnTo>
                <a:lnTo>
                  <a:pt x="467" y="174"/>
                </a:lnTo>
                <a:lnTo>
                  <a:pt x="463" y="170"/>
                </a:lnTo>
                <a:lnTo>
                  <a:pt x="451" y="166"/>
                </a:lnTo>
                <a:lnTo>
                  <a:pt x="438" y="153"/>
                </a:lnTo>
                <a:lnTo>
                  <a:pt x="435" y="128"/>
                </a:lnTo>
                <a:lnTo>
                  <a:pt x="429" y="105"/>
                </a:lnTo>
                <a:lnTo>
                  <a:pt x="428" y="103"/>
                </a:lnTo>
                <a:lnTo>
                  <a:pt x="427" y="86"/>
                </a:lnTo>
                <a:lnTo>
                  <a:pt x="435" y="50"/>
                </a:lnTo>
                <a:lnTo>
                  <a:pt x="422" y="19"/>
                </a:lnTo>
                <a:lnTo>
                  <a:pt x="421" y="15"/>
                </a:lnTo>
                <a:lnTo>
                  <a:pt x="419" y="0"/>
                </a:lnTo>
                <a:lnTo>
                  <a:pt x="417" y="0"/>
                </a:lnTo>
                <a:lnTo>
                  <a:pt x="411" y="2"/>
                </a:lnTo>
                <a:lnTo>
                  <a:pt x="389" y="4"/>
                </a:lnTo>
                <a:lnTo>
                  <a:pt x="388" y="4"/>
                </a:lnTo>
                <a:lnTo>
                  <a:pt x="380" y="6"/>
                </a:lnTo>
                <a:lnTo>
                  <a:pt x="353" y="8"/>
                </a:lnTo>
                <a:lnTo>
                  <a:pt x="324" y="12"/>
                </a:lnTo>
                <a:lnTo>
                  <a:pt x="316" y="12"/>
                </a:lnTo>
                <a:lnTo>
                  <a:pt x="282" y="15"/>
                </a:lnTo>
                <a:lnTo>
                  <a:pt x="280" y="15"/>
                </a:lnTo>
                <a:lnTo>
                  <a:pt x="278" y="17"/>
                </a:lnTo>
                <a:lnTo>
                  <a:pt x="252" y="19"/>
                </a:lnTo>
                <a:lnTo>
                  <a:pt x="251" y="19"/>
                </a:lnTo>
                <a:lnTo>
                  <a:pt x="243" y="19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15040" y="3976560"/>
            <a:ext cx="738360" cy="731880"/>
          </a:xfrm>
          <a:custGeom>
            <a:avLst/>
            <a:gdLst/>
            <a:ahLst/>
            <a:rect l="l" t="t" r="r" b="b"/>
            <a:pathLst>
              <a:path w="465" h="923">
                <a:moveTo>
                  <a:pt x="69" y="42"/>
                </a:moveTo>
                <a:lnTo>
                  <a:pt x="72" y="42"/>
                </a:lnTo>
                <a:lnTo>
                  <a:pt x="74" y="40"/>
                </a:lnTo>
                <a:lnTo>
                  <a:pt x="78" y="40"/>
                </a:lnTo>
                <a:lnTo>
                  <a:pt x="85" y="39"/>
                </a:lnTo>
                <a:lnTo>
                  <a:pt x="97" y="35"/>
                </a:lnTo>
                <a:lnTo>
                  <a:pt x="107" y="33"/>
                </a:lnTo>
                <a:lnTo>
                  <a:pt x="111" y="31"/>
                </a:lnTo>
                <a:lnTo>
                  <a:pt x="117" y="29"/>
                </a:lnTo>
                <a:lnTo>
                  <a:pt x="128" y="27"/>
                </a:lnTo>
                <a:lnTo>
                  <a:pt x="138" y="25"/>
                </a:lnTo>
                <a:lnTo>
                  <a:pt x="143" y="23"/>
                </a:lnTo>
                <a:lnTo>
                  <a:pt x="144" y="23"/>
                </a:lnTo>
                <a:lnTo>
                  <a:pt x="171" y="16"/>
                </a:lnTo>
                <a:lnTo>
                  <a:pt x="177" y="14"/>
                </a:lnTo>
                <a:lnTo>
                  <a:pt x="182" y="12"/>
                </a:lnTo>
                <a:lnTo>
                  <a:pt x="183" y="12"/>
                </a:lnTo>
                <a:lnTo>
                  <a:pt x="197" y="6"/>
                </a:lnTo>
                <a:lnTo>
                  <a:pt x="209" y="2"/>
                </a:lnTo>
                <a:lnTo>
                  <a:pt x="215" y="0"/>
                </a:lnTo>
                <a:lnTo>
                  <a:pt x="215" y="14"/>
                </a:lnTo>
                <a:lnTo>
                  <a:pt x="205" y="35"/>
                </a:lnTo>
                <a:lnTo>
                  <a:pt x="199" y="65"/>
                </a:lnTo>
                <a:lnTo>
                  <a:pt x="200" y="71"/>
                </a:lnTo>
                <a:lnTo>
                  <a:pt x="209" y="81"/>
                </a:lnTo>
                <a:lnTo>
                  <a:pt x="221" y="92"/>
                </a:lnTo>
                <a:lnTo>
                  <a:pt x="223" y="96"/>
                </a:lnTo>
                <a:lnTo>
                  <a:pt x="229" y="102"/>
                </a:lnTo>
                <a:lnTo>
                  <a:pt x="229" y="103"/>
                </a:lnTo>
                <a:lnTo>
                  <a:pt x="231" y="105"/>
                </a:lnTo>
                <a:lnTo>
                  <a:pt x="234" y="105"/>
                </a:lnTo>
                <a:lnTo>
                  <a:pt x="245" y="105"/>
                </a:lnTo>
                <a:lnTo>
                  <a:pt x="250" y="123"/>
                </a:lnTo>
                <a:lnTo>
                  <a:pt x="256" y="138"/>
                </a:lnTo>
                <a:lnTo>
                  <a:pt x="259" y="142"/>
                </a:lnTo>
                <a:lnTo>
                  <a:pt x="260" y="145"/>
                </a:lnTo>
                <a:lnTo>
                  <a:pt x="260" y="153"/>
                </a:lnTo>
                <a:lnTo>
                  <a:pt x="268" y="168"/>
                </a:lnTo>
                <a:lnTo>
                  <a:pt x="273" y="182"/>
                </a:lnTo>
                <a:lnTo>
                  <a:pt x="276" y="189"/>
                </a:lnTo>
                <a:lnTo>
                  <a:pt x="277" y="191"/>
                </a:lnTo>
                <a:lnTo>
                  <a:pt x="277" y="193"/>
                </a:lnTo>
                <a:lnTo>
                  <a:pt x="280" y="201"/>
                </a:lnTo>
                <a:lnTo>
                  <a:pt x="298" y="218"/>
                </a:lnTo>
                <a:lnTo>
                  <a:pt x="310" y="235"/>
                </a:lnTo>
                <a:lnTo>
                  <a:pt x="314" y="247"/>
                </a:lnTo>
                <a:lnTo>
                  <a:pt x="318" y="260"/>
                </a:lnTo>
                <a:lnTo>
                  <a:pt x="324" y="264"/>
                </a:lnTo>
                <a:lnTo>
                  <a:pt x="325" y="264"/>
                </a:lnTo>
                <a:lnTo>
                  <a:pt x="333" y="272"/>
                </a:lnTo>
                <a:lnTo>
                  <a:pt x="334" y="272"/>
                </a:lnTo>
                <a:lnTo>
                  <a:pt x="345" y="304"/>
                </a:lnTo>
                <a:lnTo>
                  <a:pt x="351" y="315"/>
                </a:lnTo>
                <a:lnTo>
                  <a:pt x="354" y="327"/>
                </a:lnTo>
                <a:lnTo>
                  <a:pt x="363" y="335"/>
                </a:lnTo>
                <a:lnTo>
                  <a:pt x="364" y="346"/>
                </a:lnTo>
                <a:lnTo>
                  <a:pt x="367" y="350"/>
                </a:lnTo>
                <a:lnTo>
                  <a:pt x="377" y="352"/>
                </a:lnTo>
                <a:lnTo>
                  <a:pt x="384" y="361"/>
                </a:lnTo>
                <a:lnTo>
                  <a:pt x="389" y="367"/>
                </a:lnTo>
                <a:lnTo>
                  <a:pt x="390" y="382"/>
                </a:lnTo>
                <a:lnTo>
                  <a:pt x="402" y="419"/>
                </a:lnTo>
                <a:lnTo>
                  <a:pt x="403" y="443"/>
                </a:lnTo>
                <a:lnTo>
                  <a:pt x="406" y="447"/>
                </a:lnTo>
                <a:lnTo>
                  <a:pt x="407" y="449"/>
                </a:lnTo>
                <a:lnTo>
                  <a:pt x="416" y="453"/>
                </a:lnTo>
                <a:lnTo>
                  <a:pt x="435" y="499"/>
                </a:lnTo>
                <a:lnTo>
                  <a:pt x="434" y="512"/>
                </a:lnTo>
                <a:lnTo>
                  <a:pt x="435" y="516"/>
                </a:lnTo>
                <a:lnTo>
                  <a:pt x="439" y="537"/>
                </a:lnTo>
                <a:lnTo>
                  <a:pt x="450" y="539"/>
                </a:lnTo>
                <a:lnTo>
                  <a:pt x="460" y="547"/>
                </a:lnTo>
                <a:lnTo>
                  <a:pt x="464" y="547"/>
                </a:lnTo>
                <a:lnTo>
                  <a:pt x="465" y="554"/>
                </a:lnTo>
                <a:lnTo>
                  <a:pt x="454" y="587"/>
                </a:lnTo>
                <a:lnTo>
                  <a:pt x="448" y="587"/>
                </a:lnTo>
                <a:lnTo>
                  <a:pt x="452" y="598"/>
                </a:lnTo>
                <a:lnTo>
                  <a:pt x="445" y="619"/>
                </a:lnTo>
                <a:lnTo>
                  <a:pt x="443" y="617"/>
                </a:lnTo>
                <a:lnTo>
                  <a:pt x="442" y="617"/>
                </a:lnTo>
                <a:lnTo>
                  <a:pt x="440" y="621"/>
                </a:lnTo>
                <a:lnTo>
                  <a:pt x="445" y="623"/>
                </a:lnTo>
                <a:lnTo>
                  <a:pt x="447" y="638"/>
                </a:lnTo>
                <a:lnTo>
                  <a:pt x="444" y="654"/>
                </a:lnTo>
                <a:lnTo>
                  <a:pt x="442" y="652"/>
                </a:lnTo>
                <a:lnTo>
                  <a:pt x="437" y="657"/>
                </a:lnTo>
                <a:lnTo>
                  <a:pt x="438" y="663"/>
                </a:lnTo>
                <a:lnTo>
                  <a:pt x="445" y="661"/>
                </a:lnTo>
                <a:lnTo>
                  <a:pt x="439" y="692"/>
                </a:lnTo>
                <a:lnTo>
                  <a:pt x="437" y="694"/>
                </a:lnTo>
                <a:lnTo>
                  <a:pt x="440" y="711"/>
                </a:lnTo>
                <a:lnTo>
                  <a:pt x="441" y="717"/>
                </a:lnTo>
                <a:lnTo>
                  <a:pt x="434" y="743"/>
                </a:lnTo>
                <a:lnTo>
                  <a:pt x="428" y="749"/>
                </a:lnTo>
                <a:lnTo>
                  <a:pt x="431" y="749"/>
                </a:lnTo>
                <a:lnTo>
                  <a:pt x="430" y="772"/>
                </a:lnTo>
                <a:lnTo>
                  <a:pt x="428" y="776"/>
                </a:lnTo>
                <a:lnTo>
                  <a:pt x="434" y="778"/>
                </a:lnTo>
                <a:lnTo>
                  <a:pt x="435" y="833"/>
                </a:lnTo>
                <a:lnTo>
                  <a:pt x="407" y="833"/>
                </a:lnTo>
                <a:lnTo>
                  <a:pt x="394" y="827"/>
                </a:lnTo>
                <a:lnTo>
                  <a:pt x="390" y="824"/>
                </a:lnTo>
                <a:lnTo>
                  <a:pt x="380" y="843"/>
                </a:lnTo>
                <a:lnTo>
                  <a:pt x="386" y="892"/>
                </a:lnTo>
                <a:lnTo>
                  <a:pt x="385" y="921"/>
                </a:lnTo>
                <a:lnTo>
                  <a:pt x="373" y="923"/>
                </a:lnTo>
                <a:lnTo>
                  <a:pt x="368" y="898"/>
                </a:lnTo>
                <a:lnTo>
                  <a:pt x="367" y="885"/>
                </a:lnTo>
                <a:lnTo>
                  <a:pt x="364" y="885"/>
                </a:lnTo>
                <a:lnTo>
                  <a:pt x="352" y="887"/>
                </a:lnTo>
                <a:lnTo>
                  <a:pt x="348" y="887"/>
                </a:lnTo>
                <a:lnTo>
                  <a:pt x="345" y="889"/>
                </a:lnTo>
                <a:lnTo>
                  <a:pt x="341" y="889"/>
                </a:lnTo>
                <a:lnTo>
                  <a:pt x="333" y="889"/>
                </a:lnTo>
                <a:lnTo>
                  <a:pt x="325" y="890"/>
                </a:lnTo>
                <a:lnTo>
                  <a:pt x="324" y="890"/>
                </a:lnTo>
                <a:lnTo>
                  <a:pt x="318" y="892"/>
                </a:lnTo>
                <a:lnTo>
                  <a:pt x="307" y="894"/>
                </a:lnTo>
                <a:lnTo>
                  <a:pt x="283" y="898"/>
                </a:lnTo>
                <a:lnTo>
                  <a:pt x="277" y="898"/>
                </a:lnTo>
                <a:lnTo>
                  <a:pt x="272" y="898"/>
                </a:lnTo>
                <a:lnTo>
                  <a:pt x="267" y="900"/>
                </a:lnTo>
                <a:lnTo>
                  <a:pt x="264" y="900"/>
                </a:lnTo>
                <a:lnTo>
                  <a:pt x="263" y="900"/>
                </a:lnTo>
                <a:lnTo>
                  <a:pt x="260" y="900"/>
                </a:lnTo>
                <a:lnTo>
                  <a:pt x="250" y="902"/>
                </a:lnTo>
                <a:lnTo>
                  <a:pt x="240" y="904"/>
                </a:lnTo>
                <a:lnTo>
                  <a:pt x="237" y="904"/>
                </a:lnTo>
                <a:lnTo>
                  <a:pt x="233" y="904"/>
                </a:lnTo>
                <a:lnTo>
                  <a:pt x="227" y="906"/>
                </a:lnTo>
                <a:lnTo>
                  <a:pt x="215" y="908"/>
                </a:lnTo>
                <a:lnTo>
                  <a:pt x="208" y="908"/>
                </a:lnTo>
                <a:lnTo>
                  <a:pt x="202" y="910"/>
                </a:lnTo>
                <a:lnTo>
                  <a:pt x="198" y="910"/>
                </a:lnTo>
                <a:lnTo>
                  <a:pt x="195" y="910"/>
                </a:lnTo>
                <a:lnTo>
                  <a:pt x="185" y="911"/>
                </a:lnTo>
                <a:lnTo>
                  <a:pt x="180" y="911"/>
                </a:lnTo>
                <a:lnTo>
                  <a:pt x="177" y="913"/>
                </a:lnTo>
                <a:lnTo>
                  <a:pt x="175" y="913"/>
                </a:lnTo>
                <a:lnTo>
                  <a:pt x="169" y="913"/>
                </a:lnTo>
                <a:lnTo>
                  <a:pt x="168" y="913"/>
                </a:lnTo>
                <a:lnTo>
                  <a:pt x="160" y="915"/>
                </a:lnTo>
                <a:lnTo>
                  <a:pt x="144" y="917"/>
                </a:lnTo>
                <a:lnTo>
                  <a:pt x="124" y="921"/>
                </a:lnTo>
                <a:lnTo>
                  <a:pt x="123" y="917"/>
                </a:lnTo>
                <a:lnTo>
                  <a:pt x="109" y="871"/>
                </a:lnTo>
                <a:lnTo>
                  <a:pt x="108" y="864"/>
                </a:lnTo>
                <a:lnTo>
                  <a:pt x="108" y="862"/>
                </a:lnTo>
                <a:lnTo>
                  <a:pt x="105" y="850"/>
                </a:lnTo>
                <a:lnTo>
                  <a:pt x="101" y="841"/>
                </a:lnTo>
                <a:lnTo>
                  <a:pt x="95" y="816"/>
                </a:lnTo>
                <a:lnTo>
                  <a:pt x="96" y="803"/>
                </a:lnTo>
                <a:lnTo>
                  <a:pt x="95" y="789"/>
                </a:lnTo>
                <a:lnTo>
                  <a:pt x="96" y="764"/>
                </a:lnTo>
                <a:lnTo>
                  <a:pt x="97" y="761"/>
                </a:lnTo>
                <a:lnTo>
                  <a:pt x="93" y="738"/>
                </a:lnTo>
                <a:lnTo>
                  <a:pt x="87" y="726"/>
                </a:lnTo>
                <a:lnTo>
                  <a:pt x="86" y="711"/>
                </a:lnTo>
                <a:lnTo>
                  <a:pt x="86" y="709"/>
                </a:lnTo>
                <a:lnTo>
                  <a:pt x="85" y="707"/>
                </a:lnTo>
                <a:lnTo>
                  <a:pt x="84" y="688"/>
                </a:lnTo>
                <a:lnTo>
                  <a:pt x="85" y="684"/>
                </a:lnTo>
                <a:lnTo>
                  <a:pt x="88" y="663"/>
                </a:lnTo>
                <a:lnTo>
                  <a:pt x="88" y="661"/>
                </a:lnTo>
                <a:lnTo>
                  <a:pt x="88" y="648"/>
                </a:lnTo>
                <a:lnTo>
                  <a:pt x="87" y="634"/>
                </a:lnTo>
                <a:lnTo>
                  <a:pt x="92" y="623"/>
                </a:lnTo>
                <a:lnTo>
                  <a:pt x="98" y="612"/>
                </a:lnTo>
                <a:lnTo>
                  <a:pt x="99" y="606"/>
                </a:lnTo>
                <a:lnTo>
                  <a:pt x="90" y="594"/>
                </a:lnTo>
                <a:lnTo>
                  <a:pt x="92" y="581"/>
                </a:lnTo>
                <a:lnTo>
                  <a:pt x="88" y="556"/>
                </a:lnTo>
                <a:lnTo>
                  <a:pt x="87" y="556"/>
                </a:lnTo>
                <a:lnTo>
                  <a:pt x="87" y="554"/>
                </a:lnTo>
                <a:lnTo>
                  <a:pt x="79" y="537"/>
                </a:lnTo>
                <a:lnTo>
                  <a:pt x="77" y="531"/>
                </a:lnTo>
                <a:lnTo>
                  <a:pt x="73" y="510"/>
                </a:lnTo>
                <a:lnTo>
                  <a:pt x="72" y="510"/>
                </a:lnTo>
                <a:lnTo>
                  <a:pt x="72" y="508"/>
                </a:lnTo>
                <a:lnTo>
                  <a:pt x="73" y="503"/>
                </a:lnTo>
                <a:lnTo>
                  <a:pt x="66" y="485"/>
                </a:lnTo>
                <a:lnTo>
                  <a:pt x="63" y="468"/>
                </a:lnTo>
                <a:lnTo>
                  <a:pt x="62" y="461"/>
                </a:lnTo>
                <a:lnTo>
                  <a:pt x="59" y="438"/>
                </a:lnTo>
                <a:lnTo>
                  <a:pt x="58" y="434"/>
                </a:lnTo>
                <a:lnTo>
                  <a:pt x="55" y="415"/>
                </a:lnTo>
                <a:lnTo>
                  <a:pt x="50" y="384"/>
                </a:lnTo>
                <a:lnTo>
                  <a:pt x="49" y="373"/>
                </a:lnTo>
                <a:lnTo>
                  <a:pt x="47" y="361"/>
                </a:lnTo>
                <a:lnTo>
                  <a:pt x="47" y="359"/>
                </a:lnTo>
                <a:lnTo>
                  <a:pt x="43" y="333"/>
                </a:lnTo>
                <a:lnTo>
                  <a:pt x="42" y="327"/>
                </a:lnTo>
                <a:lnTo>
                  <a:pt x="36" y="289"/>
                </a:lnTo>
                <a:lnTo>
                  <a:pt x="36" y="287"/>
                </a:lnTo>
                <a:lnTo>
                  <a:pt x="34" y="277"/>
                </a:lnTo>
                <a:lnTo>
                  <a:pt x="31" y="266"/>
                </a:lnTo>
                <a:lnTo>
                  <a:pt x="30" y="258"/>
                </a:lnTo>
                <a:lnTo>
                  <a:pt x="29" y="251"/>
                </a:lnTo>
                <a:lnTo>
                  <a:pt x="28" y="241"/>
                </a:lnTo>
                <a:lnTo>
                  <a:pt x="25" y="226"/>
                </a:lnTo>
                <a:lnTo>
                  <a:pt x="23" y="212"/>
                </a:lnTo>
                <a:lnTo>
                  <a:pt x="22" y="201"/>
                </a:lnTo>
                <a:lnTo>
                  <a:pt x="18" y="176"/>
                </a:lnTo>
                <a:lnTo>
                  <a:pt x="16" y="165"/>
                </a:lnTo>
                <a:lnTo>
                  <a:pt x="14" y="153"/>
                </a:lnTo>
                <a:lnTo>
                  <a:pt x="12" y="140"/>
                </a:lnTo>
                <a:lnTo>
                  <a:pt x="11" y="132"/>
                </a:lnTo>
                <a:lnTo>
                  <a:pt x="7" y="107"/>
                </a:lnTo>
                <a:lnTo>
                  <a:pt x="5" y="92"/>
                </a:lnTo>
                <a:lnTo>
                  <a:pt x="4" y="84"/>
                </a:lnTo>
                <a:lnTo>
                  <a:pt x="3" y="82"/>
                </a:lnTo>
                <a:lnTo>
                  <a:pt x="0" y="60"/>
                </a:lnTo>
                <a:lnTo>
                  <a:pt x="9" y="58"/>
                </a:lnTo>
                <a:lnTo>
                  <a:pt x="11" y="58"/>
                </a:lnTo>
                <a:lnTo>
                  <a:pt x="20" y="56"/>
                </a:lnTo>
                <a:lnTo>
                  <a:pt x="21" y="56"/>
                </a:lnTo>
                <a:lnTo>
                  <a:pt x="25" y="54"/>
                </a:lnTo>
                <a:lnTo>
                  <a:pt x="29" y="52"/>
                </a:lnTo>
                <a:lnTo>
                  <a:pt x="30" y="52"/>
                </a:lnTo>
                <a:lnTo>
                  <a:pt x="31" y="52"/>
                </a:lnTo>
                <a:lnTo>
                  <a:pt x="55" y="46"/>
                </a:lnTo>
                <a:lnTo>
                  <a:pt x="60" y="44"/>
                </a:lnTo>
                <a:lnTo>
                  <a:pt x="67" y="42"/>
                </a:lnTo>
                <a:lnTo>
                  <a:pt x="69" y="42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31120" y="3909960"/>
            <a:ext cx="685800" cy="500040"/>
          </a:xfrm>
          <a:custGeom>
            <a:avLst/>
            <a:gdLst/>
            <a:ahLst/>
            <a:rect l="l" t="t" r="r" b="b"/>
            <a:pathLst>
              <a:path w="432" h="631">
                <a:moveTo>
                  <a:pt x="77" y="273"/>
                </a:moveTo>
                <a:lnTo>
                  <a:pt x="78" y="275"/>
                </a:lnTo>
                <a:lnTo>
                  <a:pt x="78" y="277"/>
                </a:lnTo>
                <a:lnTo>
                  <a:pt x="81" y="285"/>
                </a:lnTo>
                <a:lnTo>
                  <a:pt x="99" y="302"/>
                </a:lnTo>
                <a:lnTo>
                  <a:pt x="111" y="319"/>
                </a:lnTo>
                <a:lnTo>
                  <a:pt x="115" y="331"/>
                </a:lnTo>
                <a:lnTo>
                  <a:pt x="119" y="344"/>
                </a:lnTo>
                <a:lnTo>
                  <a:pt x="125" y="348"/>
                </a:lnTo>
                <a:lnTo>
                  <a:pt x="126" y="348"/>
                </a:lnTo>
                <a:lnTo>
                  <a:pt x="134" y="356"/>
                </a:lnTo>
                <a:lnTo>
                  <a:pt x="135" y="356"/>
                </a:lnTo>
                <a:lnTo>
                  <a:pt x="146" y="388"/>
                </a:lnTo>
                <a:lnTo>
                  <a:pt x="152" y="399"/>
                </a:lnTo>
                <a:lnTo>
                  <a:pt x="155" y="411"/>
                </a:lnTo>
                <a:lnTo>
                  <a:pt x="164" y="419"/>
                </a:lnTo>
                <a:lnTo>
                  <a:pt x="165" y="430"/>
                </a:lnTo>
                <a:lnTo>
                  <a:pt x="168" y="434"/>
                </a:lnTo>
                <a:lnTo>
                  <a:pt x="178" y="436"/>
                </a:lnTo>
                <a:lnTo>
                  <a:pt x="185" y="445"/>
                </a:lnTo>
                <a:lnTo>
                  <a:pt x="190" y="451"/>
                </a:lnTo>
                <a:lnTo>
                  <a:pt x="191" y="466"/>
                </a:lnTo>
                <a:lnTo>
                  <a:pt x="203" y="503"/>
                </a:lnTo>
                <a:lnTo>
                  <a:pt x="204" y="527"/>
                </a:lnTo>
                <a:lnTo>
                  <a:pt x="207" y="531"/>
                </a:lnTo>
                <a:lnTo>
                  <a:pt x="208" y="533"/>
                </a:lnTo>
                <a:lnTo>
                  <a:pt x="217" y="537"/>
                </a:lnTo>
                <a:lnTo>
                  <a:pt x="236" y="583"/>
                </a:lnTo>
                <a:lnTo>
                  <a:pt x="235" y="596"/>
                </a:lnTo>
                <a:lnTo>
                  <a:pt x="236" y="600"/>
                </a:lnTo>
                <a:lnTo>
                  <a:pt x="240" y="621"/>
                </a:lnTo>
                <a:lnTo>
                  <a:pt x="251" y="623"/>
                </a:lnTo>
                <a:lnTo>
                  <a:pt x="261" y="631"/>
                </a:lnTo>
                <a:lnTo>
                  <a:pt x="262" y="623"/>
                </a:lnTo>
                <a:lnTo>
                  <a:pt x="272" y="606"/>
                </a:lnTo>
                <a:lnTo>
                  <a:pt x="278" y="589"/>
                </a:lnTo>
                <a:lnTo>
                  <a:pt x="270" y="581"/>
                </a:lnTo>
                <a:lnTo>
                  <a:pt x="264" y="560"/>
                </a:lnTo>
                <a:lnTo>
                  <a:pt x="281" y="579"/>
                </a:lnTo>
                <a:lnTo>
                  <a:pt x="291" y="566"/>
                </a:lnTo>
                <a:lnTo>
                  <a:pt x="296" y="547"/>
                </a:lnTo>
                <a:lnTo>
                  <a:pt x="286" y="524"/>
                </a:lnTo>
                <a:lnTo>
                  <a:pt x="294" y="524"/>
                </a:lnTo>
                <a:lnTo>
                  <a:pt x="298" y="527"/>
                </a:lnTo>
                <a:lnTo>
                  <a:pt x="301" y="524"/>
                </a:lnTo>
                <a:lnTo>
                  <a:pt x="303" y="526"/>
                </a:lnTo>
                <a:lnTo>
                  <a:pt x="305" y="520"/>
                </a:lnTo>
                <a:lnTo>
                  <a:pt x="318" y="499"/>
                </a:lnTo>
                <a:lnTo>
                  <a:pt x="330" y="487"/>
                </a:lnTo>
                <a:lnTo>
                  <a:pt x="338" y="457"/>
                </a:lnTo>
                <a:lnTo>
                  <a:pt x="349" y="442"/>
                </a:lnTo>
                <a:lnTo>
                  <a:pt x="361" y="411"/>
                </a:lnTo>
                <a:lnTo>
                  <a:pt x="358" y="398"/>
                </a:lnTo>
                <a:lnTo>
                  <a:pt x="376" y="390"/>
                </a:lnTo>
                <a:lnTo>
                  <a:pt x="383" y="363"/>
                </a:lnTo>
                <a:lnTo>
                  <a:pt x="385" y="361"/>
                </a:lnTo>
                <a:lnTo>
                  <a:pt x="389" y="310"/>
                </a:lnTo>
                <a:lnTo>
                  <a:pt x="397" y="262"/>
                </a:lnTo>
                <a:lnTo>
                  <a:pt x="412" y="220"/>
                </a:lnTo>
                <a:lnTo>
                  <a:pt x="416" y="212"/>
                </a:lnTo>
                <a:lnTo>
                  <a:pt x="432" y="191"/>
                </a:lnTo>
                <a:lnTo>
                  <a:pt x="430" y="187"/>
                </a:lnTo>
                <a:lnTo>
                  <a:pt x="422" y="178"/>
                </a:lnTo>
                <a:lnTo>
                  <a:pt x="421" y="176"/>
                </a:lnTo>
                <a:lnTo>
                  <a:pt x="397" y="144"/>
                </a:lnTo>
                <a:lnTo>
                  <a:pt x="383" y="124"/>
                </a:lnTo>
                <a:lnTo>
                  <a:pt x="377" y="117"/>
                </a:lnTo>
                <a:lnTo>
                  <a:pt x="357" y="90"/>
                </a:lnTo>
                <a:lnTo>
                  <a:pt x="350" y="79"/>
                </a:lnTo>
                <a:lnTo>
                  <a:pt x="338" y="63"/>
                </a:lnTo>
                <a:lnTo>
                  <a:pt x="337" y="61"/>
                </a:lnTo>
                <a:lnTo>
                  <a:pt x="322" y="40"/>
                </a:lnTo>
                <a:lnTo>
                  <a:pt x="315" y="33"/>
                </a:lnTo>
                <a:lnTo>
                  <a:pt x="314" y="33"/>
                </a:lnTo>
                <a:lnTo>
                  <a:pt x="309" y="35"/>
                </a:lnTo>
                <a:lnTo>
                  <a:pt x="298" y="38"/>
                </a:lnTo>
                <a:lnTo>
                  <a:pt x="294" y="38"/>
                </a:lnTo>
                <a:lnTo>
                  <a:pt x="287" y="40"/>
                </a:lnTo>
                <a:lnTo>
                  <a:pt x="265" y="48"/>
                </a:lnTo>
                <a:lnTo>
                  <a:pt x="260" y="50"/>
                </a:lnTo>
                <a:lnTo>
                  <a:pt x="259" y="50"/>
                </a:lnTo>
                <a:lnTo>
                  <a:pt x="248" y="52"/>
                </a:lnTo>
                <a:lnTo>
                  <a:pt x="239" y="56"/>
                </a:lnTo>
                <a:lnTo>
                  <a:pt x="219" y="61"/>
                </a:lnTo>
                <a:lnTo>
                  <a:pt x="217" y="37"/>
                </a:lnTo>
                <a:lnTo>
                  <a:pt x="211" y="25"/>
                </a:lnTo>
                <a:lnTo>
                  <a:pt x="210" y="23"/>
                </a:lnTo>
                <a:lnTo>
                  <a:pt x="207" y="17"/>
                </a:lnTo>
                <a:lnTo>
                  <a:pt x="204" y="12"/>
                </a:lnTo>
                <a:lnTo>
                  <a:pt x="196" y="16"/>
                </a:lnTo>
                <a:lnTo>
                  <a:pt x="191" y="4"/>
                </a:lnTo>
                <a:lnTo>
                  <a:pt x="192" y="0"/>
                </a:lnTo>
                <a:lnTo>
                  <a:pt x="182" y="2"/>
                </a:lnTo>
                <a:lnTo>
                  <a:pt x="173" y="4"/>
                </a:lnTo>
                <a:lnTo>
                  <a:pt x="166" y="6"/>
                </a:lnTo>
                <a:lnTo>
                  <a:pt x="163" y="6"/>
                </a:lnTo>
                <a:lnTo>
                  <a:pt x="152" y="10"/>
                </a:lnTo>
                <a:lnTo>
                  <a:pt x="130" y="14"/>
                </a:lnTo>
                <a:lnTo>
                  <a:pt x="129" y="14"/>
                </a:lnTo>
                <a:lnTo>
                  <a:pt x="120" y="16"/>
                </a:lnTo>
                <a:lnTo>
                  <a:pt x="111" y="17"/>
                </a:lnTo>
                <a:lnTo>
                  <a:pt x="103" y="19"/>
                </a:lnTo>
                <a:lnTo>
                  <a:pt x="97" y="21"/>
                </a:lnTo>
                <a:lnTo>
                  <a:pt x="90" y="23"/>
                </a:lnTo>
                <a:lnTo>
                  <a:pt x="88" y="23"/>
                </a:lnTo>
                <a:lnTo>
                  <a:pt x="87" y="23"/>
                </a:lnTo>
                <a:lnTo>
                  <a:pt x="78" y="27"/>
                </a:lnTo>
                <a:lnTo>
                  <a:pt x="66" y="37"/>
                </a:lnTo>
                <a:lnTo>
                  <a:pt x="60" y="42"/>
                </a:lnTo>
                <a:lnTo>
                  <a:pt x="54" y="48"/>
                </a:lnTo>
                <a:lnTo>
                  <a:pt x="51" y="48"/>
                </a:lnTo>
                <a:lnTo>
                  <a:pt x="45" y="63"/>
                </a:lnTo>
                <a:lnTo>
                  <a:pt x="36" y="67"/>
                </a:lnTo>
                <a:lnTo>
                  <a:pt x="34" y="69"/>
                </a:lnTo>
                <a:lnTo>
                  <a:pt x="25" y="77"/>
                </a:lnTo>
                <a:lnTo>
                  <a:pt x="24" y="77"/>
                </a:lnTo>
                <a:lnTo>
                  <a:pt x="16" y="84"/>
                </a:lnTo>
                <a:lnTo>
                  <a:pt x="16" y="98"/>
                </a:lnTo>
                <a:lnTo>
                  <a:pt x="6" y="119"/>
                </a:lnTo>
                <a:lnTo>
                  <a:pt x="0" y="149"/>
                </a:lnTo>
                <a:lnTo>
                  <a:pt x="1" y="155"/>
                </a:lnTo>
                <a:lnTo>
                  <a:pt x="10" y="165"/>
                </a:lnTo>
                <a:lnTo>
                  <a:pt x="22" y="176"/>
                </a:lnTo>
                <a:lnTo>
                  <a:pt x="24" y="180"/>
                </a:lnTo>
                <a:lnTo>
                  <a:pt x="30" y="186"/>
                </a:lnTo>
                <a:lnTo>
                  <a:pt x="30" y="187"/>
                </a:lnTo>
                <a:lnTo>
                  <a:pt x="32" y="189"/>
                </a:lnTo>
                <a:lnTo>
                  <a:pt x="35" y="189"/>
                </a:lnTo>
                <a:lnTo>
                  <a:pt x="46" y="189"/>
                </a:lnTo>
                <a:lnTo>
                  <a:pt x="51" y="207"/>
                </a:lnTo>
                <a:lnTo>
                  <a:pt x="57" y="222"/>
                </a:lnTo>
                <a:lnTo>
                  <a:pt x="60" y="226"/>
                </a:lnTo>
                <a:lnTo>
                  <a:pt x="61" y="229"/>
                </a:lnTo>
                <a:lnTo>
                  <a:pt x="61" y="237"/>
                </a:lnTo>
                <a:lnTo>
                  <a:pt x="69" y="252"/>
                </a:lnTo>
                <a:lnTo>
                  <a:pt x="74" y="266"/>
                </a:lnTo>
                <a:lnTo>
                  <a:pt x="77" y="273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41480" y="2384280"/>
            <a:ext cx="930600" cy="727200"/>
          </a:xfrm>
          <a:custGeom>
            <a:avLst/>
            <a:gdLst/>
            <a:ahLst/>
            <a:rect l="l" t="t" r="r" b="b"/>
            <a:pathLst>
              <a:path w="586" h="917">
                <a:moveTo>
                  <a:pt x="379" y="892"/>
                </a:moveTo>
                <a:lnTo>
                  <a:pt x="374" y="892"/>
                </a:lnTo>
                <a:lnTo>
                  <a:pt x="364" y="890"/>
                </a:lnTo>
                <a:lnTo>
                  <a:pt x="336" y="884"/>
                </a:lnTo>
                <a:lnTo>
                  <a:pt x="333" y="884"/>
                </a:lnTo>
                <a:lnTo>
                  <a:pt x="299" y="878"/>
                </a:lnTo>
                <a:lnTo>
                  <a:pt x="294" y="876"/>
                </a:lnTo>
                <a:lnTo>
                  <a:pt x="274" y="875"/>
                </a:lnTo>
                <a:lnTo>
                  <a:pt x="251" y="869"/>
                </a:lnTo>
                <a:lnTo>
                  <a:pt x="229" y="865"/>
                </a:lnTo>
                <a:lnTo>
                  <a:pt x="180" y="855"/>
                </a:lnTo>
                <a:lnTo>
                  <a:pt x="160" y="852"/>
                </a:lnTo>
                <a:lnTo>
                  <a:pt x="124" y="844"/>
                </a:lnTo>
                <a:lnTo>
                  <a:pt x="121" y="844"/>
                </a:lnTo>
                <a:lnTo>
                  <a:pt x="84" y="836"/>
                </a:lnTo>
                <a:lnTo>
                  <a:pt x="80" y="834"/>
                </a:lnTo>
                <a:lnTo>
                  <a:pt x="62" y="831"/>
                </a:lnTo>
                <a:lnTo>
                  <a:pt x="0" y="815"/>
                </a:lnTo>
                <a:lnTo>
                  <a:pt x="3" y="764"/>
                </a:lnTo>
                <a:lnTo>
                  <a:pt x="6" y="726"/>
                </a:lnTo>
                <a:lnTo>
                  <a:pt x="7" y="714"/>
                </a:lnTo>
                <a:lnTo>
                  <a:pt x="8" y="697"/>
                </a:lnTo>
                <a:lnTo>
                  <a:pt x="10" y="663"/>
                </a:lnTo>
                <a:lnTo>
                  <a:pt x="11" y="645"/>
                </a:lnTo>
                <a:lnTo>
                  <a:pt x="14" y="611"/>
                </a:lnTo>
                <a:lnTo>
                  <a:pt x="15" y="586"/>
                </a:lnTo>
                <a:lnTo>
                  <a:pt x="20" y="514"/>
                </a:lnTo>
                <a:lnTo>
                  <a:pt x="21" y="506"/>
                </a:lnTo>
                <a:lnTo>
                  <a:pt x="24" y="458"/>
                </a:lnTo>
                <a:lnTo>
                  <a:pt x="28" y="407"/>
                </a:lnTo>
                <a:lnTo>
                  <a:pt x="28" y="403"/>
                </a:lnTo>
                <a:lnTo>
                  <a:pt x="29" y="395"/>
                </a:lnTo>
                <a:lnTo>
                  <a:pt x="31" y="357"/>
                </a:lnTo>
                <a:lnTo>
                  <a:pt x="32" y="344"/>
                </a:lnTo>
                <a:lnTo>
                  <a:pt x="34" y="315"/>
                </a:lnTo>
                <a:lnTo>
                  <a:pt x="34" y="305"/>
                </a:lnTo>
                <a:lnTo>
                  <a:pt x="35" y="305"/>
                </a:lnTo>
                <a:lnTo>
                  <a:pt x="38" y="254"/>
                </a:lnTo>
                <a:lnTo>
                  <a:pt x="40" y="229"/>
                </a:lnTo>
                <a:lnTo>
                  <a:pt x="41" y="206"/>
                </a:lnTo>
                <a:lnTo>
                  <a:pt x="43" y="177"/>
                </a:lnTo>
                <a:lnTo>
                  <a:pt x="44" y="153"/>
                </a:lnTo>
                <a:lnTo>
                  <a:pt x="48" y="107"/>
                </a:lnTo>
                <a:lnTo>
                  <a:pt x="49" y="101"/>
                </a:lnTo>
                <a:lnTo>
                  <a:pt x="51" y="69"/>
                </a:lnTo>
                <a:lnTo>
                  <a:pt x="55" y="0"/>
                </a:lnTo>
                <a:lnTo>
                  <a:pt x="104" y="13"/>
                </a:lnTo>
                <a:lnTo>
                  <a:pt x="135" y="19"/>
                </a:lnTo>
                <a:lnTo>
                  <a:pt x="146" y="21"/>
                </a:lnTo>
                <a:lnTo>
                  <a:pt x="150" y="23"/>
                </a:lnTo>
                <a:lnTo>
                  <a:pt x="201" y="32"/>
                </a:lnTo>
                <a:lnTo>
                  <a:pt x="210" y="36"/>
                </a:lnTo>
                <a:lnTo>
                  <a:pt x="240" y="42"/>
                </a:lnTo>
                <a:lnTo>
                  <a:pt x="249" y="44"/>
                </a:lnTo>
                <a:lnTo>
                  <a:pt x="258" y="46"/>
                </a:lnTo>
                <a:lnTo>
                  <a:pt x="268" y="47"/>
                </a:lnTo>
                <a:lnTo>
                  <a:pt x="294" y="51"/>
                </a:lnTo>
                <a:lnTo>
                  <a:pt x="353" y="63"/>
                </a:lnTo>
                <a:lnTo>
                  <a:pt x="362" y="65"/>
                </a:lnTo>
                <a:lnTo>
                  <a:pt x="418" y="74"/>
                </a:lnTo>
                <a:lnTo>
                  <a:pt x="419" y="74"/>
                </a:lnTo>
                <a:lnTo>
                  <a:pt x="429" y="76"/>
                </a:lnTo>
                <a:lnTo>
                  <a:pt x="438" y="78"/>
                </a:lnTo>
                <a:lnTo>
                  <a:pt x="439" y="78"/>
                </a:lnTo>
                <a:lnTo>
                  <a:pt x="446" y="76"/>
                </a:lnTo>
                <a:lnTo>
                  <a:pt x="508" y="86"/>
                </a:lnTo>
                <a:lnTo>
                  <a:pt x="512" y="86"/>
                </a:lnTo>
                <a:lnTo>
                  <a:pt x="527" y="88"/>
                </a:lnTo>
                <a:lnTo>
                  <a:pt x="535" y="90"/>
                </a:lnTo>
                <a:lnTo>
                  <a:pt x="586" y="95"/>
                </a:lnTo>
                <a:lnTo>
                  <a:pt x="585" y="147"/>
                </a:lnTo>
                <a:lnTo>
                  <a:pt x="584" y="183"/>
                </a:lnTo>
                <a:lnTo>
                  <a:pt x="583" y="198"/>
                </a:lnTo>
                <a:lnTo>
                  <a:pt x="582" y="248"/>
                </a:lnTo>
                <a:lnTo>
                  <a:pt x="581" y="263"/>
                </a:lnTo>
                <a:lnTo>
                  <a:pt x="581" y="271"/>
                </a:lnTo>
                <a:lnTo>
                  <a:pt x="580" y="300"/>
                </a:lnTo>
                <a:lnTo>
                  <a:pt x="579" y="330"/>
                </a:lnTo>
                <a:lnTo>
                  <a:pt x="578" y="351"/>
                </a:lnTo>
                <a:lnTo>
                  <a:pt x="578" y="376"/>
                </a:lnTo>
                <a:lnTo>
                  <a:pt x="577" y="403"/>
                </a:lnTo>
                <a:lnTo>
                  <a:pt x="577" y="407"/>
                </a:lnTo>
                <a:lnTo>
                  <a:pt x="576" y="428"/>
                </a:lnTo>
                <a:lnTo>
                  <a:pt x="574" y="479"/>
                </a:lnTo>
                <a:lnTo>
                  <a:pt x="574" y="504"/>
                </a:lnTo>
                <a:lnTo>
                  <a:pt x="574" y="515"/>
                </a:lnTo>
                <a:lnTo>
                  <a:pt x="573" y="542"/>
                </a:lnTo>
                <a:lnTo>
                  <a:pt x="571" y="588"/>
                </a:lnTo>
                <a:lnTo>
                  <a:pt x="569" y="659"/>
                </a:lnTo>
                <a:lnTo>
                  <a:pt x="568" y="685"/>
                </a:lnTo>
                <a:lnTo>
                  <a:pt x="567" y="710"/>
                </a:lnTo>
                <a:lnTo>
                  <a:pt x="567" y="737"/>
                </a:lnTo>
                <a:lnTo>
                  <a:pt x="566" y="762"/>
                </a:lnTo>
                <a:lnTo>
                  <a:pt x="565" y="773"/>
                </a:lnTo>
                <a:lnTo>
                  <a:pt x="565" y="789"/>
                </a:lnTo>
                <a:lnTo>
                  <a:pt x="565" y="800"/>
                </a:lnTo>
                <a:lnTo>
                  <a:pt x="564" y="813"/>
                </a:lnTo>
                <a:lnTo>
                  <a:pt x="564" y="836"/>
                </a:lnTo>
                <a:lnTo>
                  <a:pt x="563" y="854"/>
                </a:lnTo>
                <a:lnTo>
                  <a:pt x="562" y="890"/>
                </a:lnTo>
                <a:lnTo>
                  <a:pt x="561" y="917"/>
                </a:lnTo>
                <a:lnTo>
                  <a:pt x="514" y="911"/>
                </a:lnTo>
                <a:lnTo>
                  <a:pt x="495" y="909"/>
                </a:lnTo>
                <a:lnTo>
                  <a:pt x="490" y="909"/>
                </a:lnTo>
                <a:lnTo>
                  <a:pt x="475" y="907"/>
                </a:lnTo>
                <a:lnTo>
                  <a:pt x="465" y="905"/>
                </a:lnTo>
                <a:lnTo>
                  <a:pt x="463" y="905"/>
                </a:lnTo>
                <a:lnTo>
                  <a:pt x="449" y="903"/>
                </a:lnTo>
                <a:lnTo>
                  <a:pt x="399" y="896"/>
                </a:lnTo>
                <a:lnTo>
                  <a:pt x="389" y="894"/>
                </a:lnTo>
                <a:lnTo>
                  <a:pt x="388" y="894"/>
                </a:lnTo>
                <a:lnTo>
                  <a:pt x="382" y="892"/>
                </a:lnTo>
                <a:lnTo>
                  <a:pt x="379" y="892"/>
                </a:lnTo>
                <a:close/>
              </a:path>
            </a:pathLst>
          </a:custGeom>
          <a:solidFill>
            <a:srgbClr val="0000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19320" y="1643040"/>
            <a:ext cx="798480" cy="1225440"/>
          </a:xfrm>
          <a:custGeom>
            <a:avLst/>
            <a:gdLst/>
            <a:ahLst/>
            <a:rect l="l" t="t" r="r" b="b"/>
            <a:pathLst>
              <a:path w="503" h="1545">
                <a:moveTo>
                  <a:pt x="52" y="972"/>
                </a:moveTo>
                <a:lnTo>
                  <a:pt x="50" y="978"/>
                </a:lnTo>
                <a:lnTo>
                  <a:pt x="49" y="978"/>
                </a:lnTo>
                <a:lnTo>
                  <a:pt x="40" y="1024"/>
                </a:lnTo>
                <a:lnTo>
                  <a:pt x="39" y="1027"/>
                </a:lnTo>
                <a:lnTo>
                  <a:pt x="36" y="1037"/>
                </a:lnTo>
                <a:lnTo>
                  <a:pt x="33" y="1064"/>
                </a:lnTo>
                <a:lnTo>
                  <a:pt x="31" y="1085"/>
                </a:lnTo>
                <a:lnTo>
                  <a:pt x="23" y="1169"/>
                </a:lnTo>
                <a:lnTo>
                  <a:pt x="0" y="1402"/>
                </a:lnTo>
                <a:lnTo>
                  <a:pt x="4" y="1406"/>
                </a:lnTo>
                <a:lnTo>
                  <a:pt x="76" y="1430"/>
                </a:lnTo>
                <a:lnTo>
                  <a:pt x="156" y="1457"/>
                </a:lnTo>
                <a:lnTo>
                  <a:pt x="178" y="1463"/>
                </a:lnTo>
                <a:lnTo>
                  <a:pt x="190" y="1469"/>
                </a:lnTo>
                <a:lnTo>
                  <a:pt x="214" y="1476"/>
                </a:lnTo>
                <a:lnTo>
                  <a:pt x="217" y="1476"/>
                </a:lnTo>
                <a:lnTo>
                  <a:pt x="218" y="1476"/>
                </a:lnTo>
                <a:lnTo>
                  <a:pt x="233" y="1482"/>
                </a:lnTo>
                <a:lnTo>
                  <a:pt x="256" y="1490"/>
                </a:lnTo>
                <a:lnTo>
                  <a:pt x="295" y="1499"/>
                </a:lnTo>
                <a:lnTo>
                  <a:pt x="315" y="1505"/>
                </a:lnTo>
                <a:lnTo>
                  <a:pt x="379" y="1522"/>
                </a:lnTo>
                <a:lnTo>
                  <a:pt x="380" y="1522"/>
                </a:lnTo>
                <a:lnTo>
                  <a:pt x="381" y="1524"/>
                </a:lnTo>
                <a:lnTo>
                  <a:pt x="384" y="1524"/>
                </a:lnTo>
                <a:lnTo>
                  <a:pt x="385" y="1524"/>
                </a:lnTo>
                <a:lnTo>
                  <a:pt x="394" y="1526"/>
                </a:lnTo>
                <a:lnTo>
                  <a:pt x="413" y="1532"/>
                </a:lnTo>
                <a:lnTo>
                  <a:pt x="432" y="1535"/>
                </a:lnTo>
                <a:lnTo>
                  <a:pt x="436" y="1537"/>
                </a:lnTo>
                <a:lnTo>
                  <a:pt x="439" y="1537"/>
                </a:lnTo>
                <a:lnTo>
                  <a:pt x="469" y="1545"/>
                </a:lnTo>
                <a:lnTo>
                  <a:pt x="470" y="1520"/>
                </a:lnTo>
                <a:lnTo>
                  <a:pt x="475" y="1448"/>
                </a:lnTo>
                <a:lnTo>
                  <a:pt x="476" y="1440"/>
                </a:lnTo>
                <a:lnTo>
                  <a:pt x="479" y="1392"/>
                </a:lnTo>
                <a:lnTo>
                  <a:pt x="483" y="1341"/>
                </a:lnTo>
                <a:lnTo>
                  <a:pt x="483" y="1337"/>
                </a:lnTo>
                <a:lnTo>
                  <a:pt x="484" y="1329"/>
                </a:lnTo>
                <a:lnTo>
                  <a:pt x="486" y="1291"/>
                </a:lnTo>
                <a:lnTo>
                  <a:pt x="487" y="1278"/>
                </a:lnTo>
                <a:lnTo>
                  <a:pt x="489" y="1249"/>
                </a:lnTo>
                <a:lnTo>
                  <a:pt x="489" y="1239"/>
                </a:lnTo>
                <a:lnTo>
                  <a:pt x="490" y="1239"/>
                </a:lnTo>
                <a:lnTo>
                  <a:pt x="493" y="1188"/>
                </a:lnTo>
                <a:lnTo>
                  <a:pt x="495" y="1163"/>
                </a:lnTo>
                <a:lnTo>
                  <a:pt x="496" y="1140"/>
                </a:lnTo>
                <a:lnTo>
                  <a:pt x="498" y="1111"/>
                </a:lnTo>
                <a:lnTo>
                  <a:pt x="499" y="1087"/>
                </a:lnTo>
                <a:lnTo>
                  <a:pt x="503" y="1041"/>
                </a:lnTo>
                <a:lnTo>
                  <a:pt x="499" y="1039"/>
                </a:lnTo>
                <a:lnTo>
                  <a:pt x="499" y="1037"/>
                </a:lnTo>
                <a:lnTo>
                  <a:pt x="497" y="1035"/>
                </a:lnTo>
                <a:lnTo>
                  <a:pt x="490" y="1003"/>
                </a:lnTo>
                <a:lnTo>
                  <a:pt x="482" y="978"/>
                </a:lnTo>
                <a:lnTo>
                  <a:pt x="480" y="978"/>
                </a:lnTo>
                <a:lnTo>
                  <a:pt x="474" y="985"/>
                </a:lnTo>
                <a:lnTo>
                  <a:pt x="470" y="997"/>
                </a:lnTo>
                <a:lnTo>
                  <a:pt x="469" y="1020"/>
                </a:lnTo>
                <a:lnTo>
                  <a:pt x="461" y="1014"/>
                </a:lnTo>
                <a:lnTo>
                  <a:pt x="422" y="1008"/>
                </a:lnTo>
                <a:lnTo>
                  <a:pt x="413" y="999"/>
                </a:lnTo>
                <a:lnTo>
                  <a:pt x="404" y="1010"/>
                </a:lnTo>
                <a:lnTo>
                  <a:pt x="392" y="1014"/>
                </a:lnTo>
                <a:lnTo>
                  <a:pt x="375" y="1003"/>
                </a:lnTo>
                <a:lnTo>
                  <a:pt x="366" y="1016"/>
                </a:lnTo>
                <a:lnTo>
                  <a:pt x="367" y="1025"/>
                </a:lnTo>
                <a:lnTo>
                  <a:pt x="365" y="1029"/>
                </a:lnTo>
                <a:lnTo>
                  <a:pt x="354" y="1006"/>
                </a:lnTo>
                <a:lnTo>
                  <a:pt x="349" y="941"/>
                </a:lnTo>
                <a:lnTo>
                  <a:pt x="327" y="911"/>
                </a:lnTo>
                <a:lnTo>
                  <a:pt x="330" y="886"/>
                </a:lnTo>
                <a:lnTo>
                  <a:pt x="303" y="735"/>
                </a:lnTo>
                <a:lnTo>
                  <a:pt x="277" y="764"/>
                </a:lnTo>
                <a:lnTo>
                  <a:pt x="267" y="764"/>
                </a:lnTo>
                <a:lnTo>
                  <a:pt x="254" y="748"/>
                </a:lnTo>
                <a:lnTo>
                  <a:pt x="283" y="561"/>
                </a:lnTo>
                <a:lnTo>
                  <a:pt x="285" y="563"/>
                </a:lnTo>
                <a:lnTo>
                  <a:pt x="291" y="538"/>
                </a:lnTo>
                <a:lnTo>
                  <a:pt x="290" y="531"/>
                </a:lnTo>
                <a:lnTo>
                  <a:pt x="287" y="529"/>
                </a:lnTo>
                <a:lnTo>
                  <a:pt x="278" y="531"/>
                </a:lnTo>
                <a:lnTo>
                  <a:pt x="271" y="531"/>
                </a:lnTo>
                <a:lnTo>
                  <a:pt x="269" y="525"/>
                </a:lnTo>
                <a:lnTo>
                  <a:pt x="270" y="514"/>
                </a:lnTo>
                <a:lnTo>
                  <a:pt x="267" y="508"/>
                </a:lnTo>
                <a:lnTo>
                  <a:pt x="259" y="514"/>
                </a:lnTo>
                <a:lnTo>
                  <a:pt x="258" y="510"/>
                </a:lnTo>
                <a:lnTo>
                  <a:pt x="260" y="504"/>
                </a:lnTo>
                <a:lnTo>
                  <a:pt x="249" y="462"/>
                </a:lnTo>
                <a:lnTo>
                  <a:pt x="243" y="447"/>
                </a:lnTo>
                <a:lnTo>
                  <a:pt x="228" y="391"/>
                </a:lnTo>
                <a:lnTo>
                  <a:pt x="218" y="380"/>
                </a:lnTo>
                <a:lnTo>
                  <a:pt x="201" y="342"/>
                </a:lnTo>
                <a:lnTo>
                  <a:pt x="211" y="338"/>
                </a:lnTo>
                <a:lnTo>
                  <a:pt x="203" y="323"/>
                </a:lnTo>
                <a:lnTo>
                  <a:pt x="206" y="288"/>
                </a:lnTo>
                <a:lnTo>
                  <a:pt x="190" y="227"/>
                </a:lnTo>
                <a:lnTo>
                  <a:pt x="190" y="223"/>
                </a:lnTo>
                <a:lnTo>
                  <a:pt x="194" y="181"/>
                </a:lnTo>
                <a:lnTo>
                  <a:pt x="199" y="132"/>
                </a:lnTo>
                <a:lnTo>
                  <a:pt x="200" y="124"/>
                </a:lnTo>
                <a:lnTo>
                  <a:pt x="199" y="124"/>
                </a:lnTo>
                <a:lnTo>
                  <a:pt x="206" y="49"/>
                </a:lnTo>
                <a:lnTo>
                  <a:pt x="208" y="30"/>
                </a:lnTo>
                <a:lnTo>
                  <a:pt x="209" y="25"/>
                </a:lnTo>
                <a:lnTo>
                  <a:pt x="139" y="0"/>
                </a:lnTo>
                <a:lnTo>
                  <a:pt x="139" y="7"/>
                </a:lnTo>
                <a:lnTo>
                  <a:pt x="138" y="17"/>
                </a:lnTo>
                <a:lnTo>
                  <a:pt x="136" y="30"/>
                </a:lnTo>
                <a:lnTo>
                  <a:pt x="125" y="143"/>
                </a:lnTo>
                <a:lnTo>
                  <a:pt x="122" y="174"/>
                </a:lnTo>
                <a:lnTo>
                  <a:pt x="120" y="189"/>
                </a:lnTo>
                <a:lnTo>
                  <a:pt x="119" y="195"/>
                </a:lnTo>
                <a:lnTo>
                  <a:pt x="119" y="198"/>
                </a:lnTo>
                <a:lnTo>
                  <a:pt x="119" y="202"/>
                </a:lnTo>
                <a:lnTo>
                  <a:pt x="113" y="248"/>
                </a:lnTo>
                <a:lnTo>
                  <a:pt x="111" y="273"/>
                </a:lnTo>
                <a:lnTo>
                  <a:pt x="106" y="324"/>
                </a:lnTo>
                <a:lnTo>
                  <a:pt x="104" y="345"/>
                </a:lnTo>
                <a:lnTo>
                  <a:pt x="103" y="347"/>
                </a:lnTo>
                <a:lnTo>
                  <a:pt x="101" y="372"/>
                </a:lnTo>
                <a:lnTo>
                  <a:pt x="93" y="447"/>
                </a:lnTo>
                <a:lnTo>
                  <a:pt x="92" y="456"/>
                </a:lnTo>
                <a:lnTo>
                  <a:pt x="89" y="489"/>
                </a:lnTo>
                <a:lnTo>
                  <a:pt x="89" y="496"/>
                </a:lnTo>
                <a:lnTo>
                  <a:pt x="87" y="512"/>
                </a:lnTo>
                <a:lnTo>
                  <a:pt x="85" y="521"/>
                </a:lnTo>
                <a:lnTo>
                  <a:pt x="89" y="548"/>
                </a:lnTo>
                <a:lnTo>
                  <a:pt x="88" y="601"/>
                </a:lnTo>
                <a:lnTo>
                  <a:pt x="90" y="611"/>
                </a:lnTo>
                <a:lnTo>
                  <a:pt x="93" y="628"/>
                </a:lnTo>
                <a:lnTo>
                  <a:pt x="94" y="632"/>
                </a:lnTo>
                <a:lnTo>
                  <a:pt x="110" y="661"/>
                </a:lnTo>
                <a:lnTo>
                  <a:pt x="113" y="687"/>
                </a:lnTo>
                <a:lnTo>
                  <a:pt x="90" y="752"/>
                </a:lnTo>
                <a:lnTo>
                  <a:pt x="90" y="754"/>
                </a:lnTo>
                <a:lnTo>
                  <a:pt x="83" y="781"/>
                </a:lnTo>
                <a:lnTo>
                  <a:pt x="79" y="789"/>
                </a:lnTo>
                <a:lnTo>
                  <a:pt x="73" y="802"/>
                </a:lnTo>
                <a:lnTo>
                  <a:pt x="66" y="833"/>
                </a:lnTo>
                <a:lnTo>
                  <a:pt x="54" y="848"/>
                </a:lnTo>
                <a:lnTo>
                  <a:pt x="31" y="918"/>
                </a:lnTo>
                <a:lnTo>
                  <a:pt x="31" y="934"/>
                </a:lnTo>
                <a:lnTo>
                  <a:pt x="41" y="947"/>
                </a:lnTo>
                <a:lnTo>
                  <a:pt x="46" y="951"/>
                </a:lnTo>
                <a:lnTo>
                  <a:pt x="52" y="972"/>
                </a:lnTo>
                <a:close/>
              </a:path>
            </a:pathLst>
          </a:custGeom>
          <a:solidFill>
            <a:srgbClr val="00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35080" y="2565360"/>
            <a:ext cx="1130400" cy="1744560"/>
          </a:xfrm>
          <a:custGeom>
            <a:avLst/>
            <a:gdLst/>
            <a:ahLst/>
            <a:rect l="l" t="t" r="r" b="b"/>
            <a:pathLst>
              <a:path w="712" h="2197">
                <a:moveTo>
                  <a:pt x="631" y="2195"/>
                </a:moveTo>
                <a:lnTo>
                  <a:pt x="634" y="2197"/>
                </a:lnTo>
                <a:lnTo>
                  <a:pt x="651" y="2195"/>
                </a:lnTo>
                <a:lnTo>
                  <a:pt x="658" y="2143"/>
                </a:lnTo>
                <a:lnTo>
                  <a:pt x="651" y="2137"/>
                </a:lnTo>
                <a:lnTo>
                  <a:pt x="642" y="2118"/>
                </a:lnTo>
                <a:lnTo>
                  <a:pt x="647" y="2063"/>
                </a:lnTo>
                <a:lnTo>
                  <a:pt x="655" y="2053"/>
                </a:lnTo>
                <a:lnTo>
                  <a:pt x="670" y="2002"/>
                </a:lnTo>
                <a:lnTo>
                  <a:pt x="675" y="1948"/>
                </a:lnTo>
                <a:lnTo>
                  <a:pt x="679" y="1942"/>
                </a:lnTo>
                <a:lnTo>
                  <a:pt x="683" y="1925"/>
                </a:lnTo>
                <a:lnTo>
                  <a:pt x="700" y="1912"/>
                </a:lnTo>
                <a:lnTo>
                  <a:pt x="709" y="1899"/>
                </a:lnTo>
                <a:lnTo>
                  <a:pt x="712" y="1887"/>
                </a:lnTo>
                <a:lnTo>
                  <a:pt x="694" y="1853"/>
                </a:lnTo>
                <a:lnTo>
                  <a:pt x="695" y="1841"/>
                </a:lnTo>
                <a:lnTo>
                  <a:pt x="689" y="1792"/>
                </a:lnTo>
                <a:lnTo>
                  <a:pt x="680" y="1761"/>
                </a:lnTo>
                <a:lnTo>
                  <a:pt x="682" y="1732"/>
                </a:lnTo>
                <a:lnTo>
                  <a:pt x="662" y="1677"/>
                </a:lnTo>
                <a:lnTo>
                  <a:pt x="638" y="1614"/>
                </a:lnTo>
                <a:lnTo>
                  <a:pt x="612" y="1543"/>
                </a:lnTo>
                <a:lnTo>
                  <a:pt x="603" y="1520"/>
                </a:lnTo>
                <a:lnTo>
                  <a:pt x="594" y="1494"/>
                </a:lnTo>
                <a:lnTo>
                  <a:pt x="593" y="1492"/>
                </a:lnTo>
                <a:lnTo>
                  <a:pt x="569" y="1427"/>
                </a:lnTo>
                <a:lnTo>
                  <a:pt x="549" y="1371"/>
                </a:lnTo>
                <a:lnTo>
                  <a:pt x="505" y="1257"/>
                </a:lnTo>
                <a:lnTo>
                  <a:pt x="480" y="1190"/>
                </a:lnTo>
                <a:lnTo>
                  <a:pt x="475" y="1177"/>
                </a:lnTo>
                <a:lnTo>
                  <a:pt x="460" y="1136"/>
                </a:lnTo>
                <a:lnTo>
                  <a:pt x="457" y="1129"/>
                </a:lnTo>
                <a:lnTo>
                  <a:pt x="446" y="1098"/>
                </a:lnTo>
                <a:lnTo>
                  <a:pt x="421" y="1029"/>
                </a:lnTo>
                <a:lnTo>
                  <a:pt x="399" y="972"/>
                </a:lnTo>
                <a:lnTo>
                  <a:pt x="388" y="942"/>
                </a:lnTo>
                <a:lnTo>
                  <a:pt x="373" y="902"/>
                </a:lnTo>
                <a:lnTo>
                  <a:pt x="367" y="884"/>
                </a:lnTo>
                <a:lnTo>
                  <a:pt x="365" y="880"/>
                </a:lnTo>
                <a:lnTo>
                  <a:pt x="362" y="871"/>
                </a:lnTo>
                <a:lnTo>
                  <a:pt x="349" y="842"/>
                </a:lnTo>
                <a:lnTo>
                  <a:pt x="344" y="827"/>
                </a:lnTo>
                <a:lnTo>
                  <a:pt x="341" y="817"/>
                </a:lnTo>
                <a:lnTo>
                  <a:pt x="327" y="783"/>
                </a:lnTo>
                <a:lnTo>
                  <a:pt x="323" y="772"/>
                </a:lnTo>
                <a:lnTo>
                  <a:pt x="321" y="766"/>
                </a:lnTo>
                <a:lnTo>
                  <a:pt x="317" y="754"/>
                </a:lnTo>
                <a:lnTo>
                  <a:pt x="319" y="741"/>
                </a:lnTo>
                <a:lnTo>
                  <a:pt x="320" y="732"/>
                </a:lnTo>
                <a:lnTo>
                  <a:pt x="320" y="730"/>
                </a:lnTo>
                <a:lnTo>
                  <a:pt x="321" y="722"/>
                </a:lnTo>
                <a:lnTo>
                  <a:pt x="323" y="705"/>
                </a:lnTo>
                <a:lnTo>
                  <a:pt x="324" y="691"/>
                </a:lnTo>
                <a:lnTo>
                  <a:pt x="326" y="678"/>
                </a:lnTo>
                <a:lnTo>
                  <a:pt x="327" y="665"/>
                </a:lnTo>
                <a:lnTo>
                  <a:pt x="329" y="653"/>
                </a:lnTo>
                <a:lnTo>
                  <a:pt x="332" y="628"/>
                </a:lnTo>
                <a:lnTo>
                  <a:pt x="334" y="609"/>
                </a:lnTo>
                <a:lnTo>
                  <a:pt x="340" y="562"/>
                </a:lnTo>
                <a:lnTo>
                  <a:pt x="352" y="453"/>
                </a:lnTo>
                <a:lnTo>
                  <a:pt x="369" y="313"/>
                </a:lnTo>
                <a:lnTo>
                  <a:pt x="373" y="281"/>
                </a:lnTo>
                <a:lnTo>
                  <a:pt x="383" y="197"/>
                </a:lnTo>
                <a:lnTo>
                  <a:pt x="388" y="151"/>
                </a:lnTo>
                <a:lnTo>
                  <a:pt x="372" y="143"/>
                </a:lnTo>
                <a:lnTo>
                  <a:pt x="368" y="143"/>
                </a:lnTo>
                <a:lnTo>
                  <a:pt x="319" y="122"/>
                </a:lnTo>
                <a:lnTo>
                  <a:pt x="304" y="115"/>
                </a:lnTo>
                <a:lnTo>
                  <a:pt x="287" y="107"/>
                </a:lnTo>
                <a:lnTo>
                  <a:pt x="275" y="101"/>
                </a:lnTo>
                <a:lnTo>
                  <a:pt x="233" y="80"/>
                </a:lnTo>
                <a:lnTo>
                  <a:pt x="220" y="74"/>
                </a:lnTo>
                <a:lnTo>
                  <a:pt x="211" y="71"/>
                </a:lnTo>
                <a:lnTo>
                  <a:pt x="152" y="44"/>
                </a:lnTo>
                <a:lnTo>
                  <a:pt x="144" y="38"/>
                </a:lnTo>
                <a:lnTo>
                  <a:pt x="137" y="36"/>
                </a:lnTo>
                <a:lnTo>
                  <a:pt x="128" y="32"/>
                </a:lnTo>
                <a:lnTo>
                  <a:pt x="122" y="29"/>
                </a:lnTo>
                <a:lnTo>
                  <a:pt x="115" y="27"/>
                </a:lnTo>
                <a:lnTo>
                  <a:pt x="107" y="23"/>
                </a:lnTo>
                <a:lnTo>
                  <a:pt x="105" y="23"/>
                </a:lnTo>
                <a:lnTo>
                  <a:pt x="92" y="15"/>
                </a:lnTo>
                <a:lnTo>
                  <a:pt x="78" y="9"/>
                </a:lnTo>
                <a:lnTo>
                  <a:pt x="69" y="4"/>
                </a:lnTo>
                <a:lnTo>
                  <a:pt x="62" y="0"/>
                </a:lnTo>
                <a:lnTo>
                  <a:pt x="53" y="44"/>
                </a:lnTo>
                <a:lnTo>
                  <a:pt x="59" y="61"/>
                </a:lnTo>
                <a:lnTo>
                  <a:pt x="58" y="113"/>
                </a:lnTo>
                <a:lnTo>
                  <a:pt x="56" y="130"/>
                </a:lnTo>
                <a:lnTo>
                  <a:pt x="44" y="174"/>
                </a:lnTo>
                <a:lnTo>
                  <a:pt x="40" y="174"/>
                </a:lnTo>
                <a:lnTo>
                  <a:pt x="40" y="193"/>
                </a:lnTo>
                <a:lnTo>
                  <a:pt x="42" y="193"/>
                </a:lnTo>
                <a:lnTo>
                  <a:pt x="42" y="202"/>
                </a:lnTo>
                <a:lnTo>
                  <a:pt x="35" y="225"/>
                </a:lnTo>
                <a:lnTo>
                  <a:pt x="7" y="292"/>
                </a:lnTo>
                <a:lnTo>
                  <a:pt x="5" y="317"/>
                </a:lnTo>
                <a:lnTo>
                  <a:pt x="0" y="338"/>
                </a:lnTo>
                <a:lnTo>
                  <a:pt x="17" y="380"/>
                </a:lnTo>
                <a:lnTo>
                  <a:pt x="22" y="407"/>
                </a:lnTo>
                <a:lnTo>
                  <a:pt x="29" y="464"/>
                </a:lnTo>
                <a:lnTo>
                  <a:pt x="30" y="491"/>
                </a:lnTo>
                <a:lnTo>
                  <a:pt x="20" y="539"/>
                </a:lnTo>
                <a:lnTo>
                  <a:pt x="19" y="646"/>
                </a:lnTo>
                <a:lnTo>
                  <a:pt x="26" y="672"/>
                </a:lnTo>
                <a:lnTo>
                  <a:pt x="43" y="735"/>
                </a:lnTo>
                <a:lnTo>
                  <a:pt x="51" y="756"/>
                </a:lnTo>
                <a:lnTo>
                  <a:pt x="53" y="785"/>
                </a:lnTo>
                <a:lnTo>
                  <a:pt x="57" y="789"/>
                </a:lnTo>
                <a:lnTo>
                  <a:pt x="59" y="798"/>
                </a:lnTo>
                <a:lnTo>
                  <a:pt x="56" y="798"/>
                </a:lnTo>
                <a:lnTo>
                  <a:pt x="56" y="823"/>
                </a:lnTo>
                <a:lnTo>
                  <a:pt x="52" y="850"/>
                </a:lnTo>
                <a:lnTo>
                  <a:pt x="56" y="844"/>
                </a:lnTo>
                <a:lnTo>
                  <a:pt x="61" y="848"/>
                </a:lnTo>
                <a:lnTo>
                  <a:pt x="68" y="871"/>
                </a:lnTo>
                <a:lnTo>
                  <a:pt x="76" y="882"/>
                </a:lnTo>
                <a:lnTo>
                  <a:pt x="83" y="903"/>
                </a:lnTo>
                <a:lnTo>
                  <a:pt x="87" y="902"/>
                </a:lnTo>
                <a:lnTo>
                  <a:pt x="85" y="909"/>
                </a:lnTo>
                <a:lnTo>
                  <a:pt x="83" y="909"/>
                </a:lnTo>
                <a:lnTo>
                  <a:pt x="82" y="924"/>
                </a:lnTo>
                <a:lnTo>
                  <a:pt x="77" y="966"/>
                </a:lnTo>
                <a:lnTo>
                  <a:pt x="79" y="968"/>
                </a:lnTo>
                <a:lnTo>
                  <a:pt x="81" y="995"/>
                </a:lnTo>
                <a:lnTo>
                  <a:pt x="77" y="1020"/>
                </a:lnTo>
                <a:lnTo>
                  <a:pt x="81" y="1049"/>
                </a:lnTo>
                <a:lnTo>
                  <a:pt x="84" y="1054"/>
                </a:lnTo>
                <a:lnTo>
                  <a:pt x="89" y="1077"/>
                </a:lnTo>
                <a:lnTo>
                  <a:pt x="100" y="1094"/>
                </a:lnTo>
                <a:lnTo>
                  <a:pt x="113" y="1098"/>
                </a:lnTo>
                <a:lnTo>
                  <a:pt x="117" y="1125"/>
                </a:lnTo>
                <a:lnTo>
                  <a:pt x="111" y="1161"/>
                </a:lnTo>
                <a:lnTo>
                  <a:pt x="105" y="1171"/>
                </a:lnTo>
                <a:lnTo>
                  <a:pt x="101" y="1163"/>
                </a:lnTo>
                <a:lnTo>
                  <a:pt x="96" y="1171"/>
                </a:lnTo>
                <a:lnTo>
                  <a:pt x="99" y="1243"/>
                </a:lnTo>
                <a:lnTo>
                  <a:pt x="105" y="1255"/>
                </a:lnTo>
                <a:lnTo>
                  <a:pt x="121" y="1308"/>
                </a:lnTo>
                <a:lnTo>
                  <a:pt x="122" y="1335"/>
                </a:lnTo>
                <a:lnTo>
                  <a:pt x="129" y="1354"/>
                </a:lnTo>
                <a:lnTo>
                  <a:pt x="130" y="1375"/>
                </a:lnTo>
                <a:lnTo>
                  <a:pt x="140" y="1396"/>
                </a:lnTo>
                <a:lnTo>
                  <a:pt x="147" y="1425"/>
                </a:lnTo>
                <a:lnTo>
                  <a:pt x="158" y="1444"/>
                </a:lnTo>
                <a:lnTo>
                  <a:pt x="159" y="1457"/>
                </a:lnTo>
                <a:lnTo>
                  <a:pt x="153" y="1480"/>
                </a:lnTo>
                <a:lnTo>
                  <a:pt x="164" y="1505"/>
                </a:lnTo>
                <a:lnTo>
                  <a:pt x="173" y="1517"/>
                </a:lnTo>
                <a:lnTo>
                  <a:pt x="168" y="1545"/>
                </a:lnTo>
                <a:lnTo>
                  <a:pt x="167" y="1566"/>
                </a:lnTo>
                <a:lnTo>
                  <a:pt x="159" y="1631"/>
                </a:lnTo>
                <a:lnTo>
                  <a:pt x="179" y="1660"/>
                </a:lnTo>
                <a:lnTo>
                  <a:pt x="211" y="1673"/>
                </a:lnTo>
                <a:lnTo>
                  <a:pt x="220" y="1688"/>
                </a:lnTo>
                <a:lnTo>
                  <a:pt x="242" y="1694"/>
                </a:lnTo>
                <a:lnTo>
                  <a:pt x="254" y="1709"/>
                </a:lnTo>
                <a:lnTo>
                  <a:pt x="269" y="1742"/>
                </a:lnTo>
                <a:lnTo>
                  <a:pt x="274" y="1771"/>
                </a:lnTo>
                <a:lnTo>
                  <a:pt x="292" y="1795"/>
                </a:lnTo>
                <a:lnTo>
                  <a:pt x="319" y="1807"/>
                </a:lnTo>
                <a:lnTo>
                  <a:pt x="329" y="1818"/>
                </a:lnTo>
                <a:lnTo>
                  <a:pt x="334" y="1843"/>
                </a:lnTo>
                <a:lnTo>
                  <a:pt x="334" y="1876"/>
                </a:lnTo>
                <a:lnTo>
                  <a:pt x="342" y="1887"/>
                </a:lnTo>
                <a:lnTo>
                  <a:pt x="357" y="1885"/>
                </a:lnTo>
                <a:lnTo>
                  <a:pt x="366" y="1906"/>
                </a:lnTo>
                <a:lnTo>
                  <a:pt x="375" y="1923"/>
                </a:lnTo>
                <a:lnTo>
                  <a:pt x="395" y="1973"/>
                </a:lnTo>
                <a:lnTo>
                  <a:pt x="402" y="1988"/>
                </a:lnTo>
                <a:lnTo>
                  <a:pt x="413" y="2034"/>
                </a:lnTo>
                <a:lnTo>
                  <a:pt x="412" y="2112"/>
                </a:lnTo>
                <a:lnTo>
                  <a:pt x="419" y="2143"/>
                </a:lnTo>
                <a:lnTo>
                  <a:pt x="419" y="2162"/>
                </a:lnTo>
                <a:lnTo>
                  <a:pt x="510" y="2176"/>
                </a:lnTo>
                <a:lnTo>
                  <a:pt x="631" y="2195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67000" y="3957480"/>
            <a:ext cx="48960" cy="24120"/>
          </a:xfrm>
          <a:custGeom>
            <a:avLst/>
            <a:gdLst/>
            <a:ahLst/>
            <a:rect l="l" t="t" r="r" b="b"/>
            <a:pathLst>
              <a:path w="31" h="29">
                <a:moveTo>
                  <a:pt x="0" y="0"/>
                </a:moveTo>
                <a:lnTo>
                  <a:pt x="23" y="23"/>
                </a:lnTo>
                <a:lnTo>
                  <a:pt x="28" y="18"/>
                </a:lnTo>
                <a:lnTo>
                  <a:pt x="31" y="25"/>
                </a:lnTo>
                <a:lnTo>
                  <a:pt x="27" y="29"/>
                </a:lnTo>
                <a:lnTo>
                  <a:pt x="3" y="25"/>
                </a:lnTo>
                <a:lnTo>
                  <a:pt x="0" y="0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22360" y="3960720"/>
            <a:ext cx="33480" cy="1908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6"/>
                </a:moveTo>
                <a:lnTo>
                  <a:pt x="3" y="21"/>
                </a:lnTo>
                <a:lnTo>
                  <a:pt x="21" y="23"/>
                </a:lnTo>
                <a:lnTo>
                  <a:pt x="16" y="10"/>
                </a:lnTo>
                <a:lnTo>
                  <a:pt x="17" y="0"/>
                </a:lnTo>
                <a:lnTo>
                  <a:pt x="0" y="6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28640" y="4092480"/>
            <a:ext cx="30240" cy="28800"/>
          </a:xfrm>
          <a:custGeom>
            <a:avLst/>
            <a:gdLst/>
            <a:ahLst/>
            <a:rect l="l" t="t" r="r" b="b"/>
            <a:pathLst>
              <a:path w="19" h="37">
                <a:moveTo>
                  <a:pt x="0" y="0"/>
                </a:moveTo>
                <a:lnTo>
                  <a:pt x="0" y="8"/>
                </a:lnTo>
                <a:lnTo>
                  <a:pt x="5" y="12"/>
                </a:lnTo>
                <a:lnTo>
                  <a:pt x="9" y="37"/>
                </a:lnTo>
                <a:lnTo>
                  <a:pt x="19" y="33"/>
                </a:lnTo>
                <a:lnTo>
                  <a:pt x="16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11360" y="4162320"/>
            <a:ext cx="23760" cy="38160"/>
          </a:xfrm>
          <a:custGeom>
            <a:avLst/>
            <a:gdLst/>
            <a:ahLst/>
            <a:rect l="l" t="t" r="r" b="b"/>
            <a:pathLst>
              <a:path w="15" h="48">
                <a:moveTo>
                  <a:pt x="0" y="0"/>
                </a:moveTo>
                <a:lnTo>
                  <a:pt x="7" y="46"/>
                </a:lnTo>
                <a:lnTo>
                  <a:pt x="15" y="48"/>
                </a:lnTo>
                <a:lnTo>
                  <a:pt x="0" y="0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1120" y="3060720"/>
            <a:ext cx="966600" cy="720720"/>
          </a:xfrm>
          <a:custGeom>
            <a:avLst/>
            <a:gdLst/>
            <a:ahLst/>
            <a:rect l="l" t="t" r="r" b="b"/>
            <a:pathLst>
              <a:path w="609" h="909">
                <a:moveTo>
                  <a:pt x="603" y="374"/>
                </a:moveTo>
                <a:lnTo>
                  <a:pt x="603" y="376"/>
                </a:lnTo>
                <a:lnTo>
                  <a:pt x="603" y="389"/>
                </a:lnTo>
                <a:lnTo>
                  <a:pt x="602" y="416"/>
                </a:lnTo>
                <a:lnTo>
                  <a:pt x="602" y="466"/>
                </a:lnTo>
                <a:lnTo>
                  <a:pt x="602" y="468"/>
                </a:lnTo>
                <a:lnTo>
                  <a:pt x="601" y="477"/>
                </a:lnTo>
                <a:lnTo>
                  <a:pt x="601" y="483"/>
                </a:lnTo>
                <a:lnTo>
                  <a:pt x="601" y="492"/>
                </a:lnTo>
                <a:lnTo>
                  <a:pt x="600" y="534"/>
                </a:lnTo>
                <a:lnTo>
                  <a:pt x="600" y="555"/>
                </a:lnTo>
                <a:lnTo>
                  <a:pt x="600" y="571"/>
                </a:lnTo>
                <a:lnTo>
                  <a:pt x="599" y="573"/>
                </a:lnTo>
                <a:lnTo>
                  <a:pt x="599" y="609"/>
                </a:lnTo>
                <a:lnTo>
                  <a:pt x="598" y="622"/>
                </a:lnTo>
                <a:lnTo>
                  <a:pt x="598" y="643"/>
                </a:lnTo>
                <a:lnTo>
                  <a:pt x="598" y="645"/>
                </a:lnTo>
                <a:lnTo>
                  <a:pt x="597" y="674"/>
                </a:lnTo>
                <a:lnTo>
                  <a:pt x="597" y="701"/>
                </a:lnTo>
                <a:lnTo>
                  <a:pt x="596" y="754"/>
                </a:lnTo>
                <a:lnTo>
                  <a:pt x="596" y="773"/>
                </a:lnTo>
                <a:lnTo>
                  <a:pt x="596" y="777"/>
                </a:lnTo>
                <a:lnTo>
                  <a:pt x="595" y="804"/>
                </a:lnTo>
                <a:lnTo>
                  <a:pt x="594" y="827"/>
                </a:lnTo>
                <a:lnTo>
                  <a:pt x="594" y="855"/>
                </a:lnTo>
                <a:lnTo>
                  <a:pt x="593" y="880"/>
                </a:lnTo>
                <a:lnTo>
                  <a:pt x="593" y="909"/>
                </a:lnTo>
                <a:lnTo>
                  <a:pt x="543" y="903"/>
                </a:lnTo>
                <a:lnTo>
                  <a:pt x="532" y="901"/>
                </a:lnTo>
                <a:lnTo>
                  <a:pt x="512" y="899"/>
                </a:lnTo>
                <a:lnTo>
                  <a:pt x="504" y="899"/>
                </a:lnTo>
                <a:lnTo>
                  <a:pt x="484" y="897"/>
                </a:lnTo>
                <a:lnTo>
                  <a:pt x="479" y="897"/>
                </a:lnTo>
                <a:lnTo>
                  <a:pt x="426" y="892"/>
                </a:lnTo>
                <a:lnTo>
                  <a:pt x="395" y="890"/>
                </a:lnTo>
                <a:lnTo>
                  <a:pt x="348" y="884"/>
                </a:lnTo>
                <a:lnTo>
                  <a:pt x="329" y="880"/>
                </a:lnTo>
                <a:lnTo>
                  <a:pt x="324" y="880"/>
                </a:lnTo>
                <a:lnTo>
                  <a:pt x="281" y="873"/>
                </a:lnTo>
                <a:lnTo>
                  <a:pt x="278" y="873"/>
                </a:lnTo>
                <a:lnTo>
                  <a:pt x="268" y="871"/>
                </a:lnTo>
                <a:lnTo>
                  <a:pt x="256" y="871"/>
                </a:lnTo>
                <a:lnTo>
                  <a:pt x="217" y="865"/>
                </a:lnTo>
                <a:lnTo>
                  <a:pt x="137" y="850"/>
                </a:lnTo>
                <a:lnTo>
                  <a:pt x="135" y="850"/>
                </a:lnTo>
                <a:lnTo>
                  <a:pt x="132" y="848"/>
                </a:lnTo>
                <a:lnTo>
                  <a:pt x="131" y="848"/>
                </a:lnTo>
                <a:lnTo>
                  <a:pt x="77" y="838"/>
                </a:lnTo>
                <a:lnTo>
                  <a:pt x="56" y="834"/>
                </a:lnTo>
                <a:lnTo>
                  <a:pt x="31" y="831"/>
                </a:lnTo>
                <a:lnTo>
                  <a:pt x="25" y="829"/>
                </a:lnTo>
                <a:lnTo>
                  <a:pt x="0" y="823"/>
                </a:lnTo>
                <a:lnTo>
                  <a:pt x="6" y="724"/>
                </a:lnTo>
                <a:lnTo>
                  <a:pt x="6" y="720"/>
                </a:lnTo>
                <a:lnTo>
                  <a:pt x="9" y="668"/>
                </a:lnTo>
                <a:lnTo>
                  <a:pt x="11" y="641"/>
                </a:lnTo>
                <a:lnTo>
                  <a:pt x="12" y="617"/>
                </a:lnTo>
                <a:lnTo>
                  <a:pt x="14" y="584"/>
                </a:lnTo>
                <a:lnTo>
                  <a:pt x="14" y="582"/>
                </a:lnTo>
                <a:lnTo>
                  <a:pt x="14" y="559"/>
                </a:lnTo>
                <a:lnTo>
                  <a:pt x="16" y="513"/>
                </a:lnTo>
                <a:lnTo>
                  <a:pt x="20" y="462"/>
                </a:lnTo>
                <a:lnTo>
                  <a:pt x="23" y="410"/>
                </a:lnTo>
                <a:lnTo>
                  <a:pt x="27" y="336"/>
                </a:lnTo>
                <a:lnTo>
                  <a:pt x="28" y="334"/>
                </a:lnTo>
                <a:lnTo>
                  <a:pt x="29" y="309"/>
                </a:lnTo>
                <a:lnTo>
                  <a:pt x="30" y="282"/>
                </a:lnTo>
                <a:lnTo>
                  <a:pt x="31" y="275"/>
                </a:lnTo>
                <a:lnTo>
                  <a:pt x="33" y="231"/>
                </a:lnTo>
                <a:lnTo>
                  <a:pt x="35" y="206"/>
                </a:lnTo>
                <a:lnTo>
                  <a:pt x="38" y="160"/>
                </a:lnTo>
                <a:lnTo>
                  <a:pt x="40" y="114"/>
                </a:lnTo>
                <a:lnTo>
                  <a:pt x="42" y="78"/>
                </a:lnTo>
                <a:lnTo>
                  <a:pt x="43" y="70"/>
                </a:lnTo>
                <a:lnTo>
                  <a:pt x="44" y="51"/>
                </a:lnTo>
                <a:lnTo>
                  <a:pt x="45" y="26"/>
                </a:lnTo>
                <a:lnTo>
                  <a:pt x="47" y="0"/>
                </a:lnTo>
                <a:lnTo>
                  <a:pt x="67" y="3"/>
                </a:lnTo>
                <a:lnTo>
                  <a:pt x="116" y="13"/>
                </a:lnTo>
                <a:lnTo>
                  <a:pt x="138" y="17"/>
                </a:lnTo>
                <a:lnTo>
                  <a:pt x="161" y="23"/>
                </a:lnTo>
                <a:lnTo>
                  <a:pt x="181" y="24"/>
                </a:lnTo>
                <a:lnTo>
                  <a:pt x="186" y="26"/>
                </a:lnTo>
                <a:lnTo>
                  <a:pt x="220" y="32"/>
                </a:lnTo>
                <a:lnTo>
                  <a:pt x="223" y="32"/>
                </a:lnTo>
                <a:lnTo>
                  <a:pt x="251" y="38"/>
                </a:lnTo>
                <a:lnTo>
                  <a:pt x="261" y="40"/>
                </a:lnTo>
                <a:lnTo>
                  <a:pt x="266" y="40"/>
                </a:lnTo>
                <a:lnTo>
                  <a:pt x="269" y="40"/>
                </a:lnTo>
                <a:lnTo>
                  <a:pt x="275" y="42"/>
                </a:lnTo>
                <a:lnTo>
                  <a:pt x="276" y="42"/>
                </a:lnTo>
                <a:lnTo>
                  <a:pt x="286" y="44"/>
                </a:lnTo>
                <a:lnTo>
                  <a:pt x="336" y="51"/>
                </a:lnTo>
                <a:lnTo>
                  <a:pt x="350" y="53"/>
                </a:lnTo>
                <a:lnTo>
                  <a:pt x="352" y="53"/>
                </a:lnTo>
                <a:lnTo>
                  <a:pt x="362" y="55"/>
                </a:lnTo>
                <a:lnTo>
                  <a:pt x="377" y="57"/>
                </a:lnTo>
                <a:lnTo>
                  <a:pt x="382" y="57"/>
                </a:lnTo>
                <a:lnTo>
                  <a:pt x="401" y="59"/>
                </a:lnTo>
                <a:lnTo>
                  <a:pt x="448" y="65"/>
                </a:lnTo>
                <a:lnTo>
                  <a:pt x="482" y="68"/>
                </a:lnTo>
                <a:lnTo>
                  <a:pt x="487" y="68"/>
                </a:lnTo>
                <a:lnTo>
                  <a:pt x="486" y="68"/>
                </a:lnTo>
                <a:lnTo>
                  <a:pt x="502" y="70"/>
                </a:lnTo>
                <a:lnTo>
                  <a:pt x="561" y="76"/>
                </a:lnTo>
                <a:lnTo>
                  <a:pt x="563" y="76"/>
                </a:lnTo>
                <a:lnTo>
                  <a:pt x="564" y="76"/>
                </a:lnTo>
                <a:lnTo>
                  <a:pt x="609" y="80"/>
                </a:lnTo>
                <a:lnTo>
                  <a:pt x="608" y="131"/>
                </a:lnTo>
                <a:lnTo>
                  <a:pt x="608" y="143"/>
                </a:lnTo>
                <a:lnTo>
                  <a:pt x="608" y="156"/>
                </a:lnTo>
                <a:lnTo>
                  <a:pt x="607" y="183"/>
                </a:lnTo>
                <a:lnTo>
                  <a:pt x="607" y="194"/>
                </a:lnTo>
                <a:lnTo>
                  <a:pt x="606" y="214"/>
                </a:lnTo>
                <a:lnTo>
                  <a:pt x="605" y="286"/>
                </a:lnTo>
                <a:lnTo>
                  <a:pt x="603" y="374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21000" y="1662120"/>
            <a:ext cx="1392120" cy="806400"/>
          </a:xfrm>
          <a:custGeom>
            <a:avLst/>
            <a:gdLst/>
            <a:ahLst/>
            <a:rect l="l" t="t" r="r" b="b"/>
            <a:pathLst>
              <a:path w="877" h="1016">
                <a:moveTo>
                  <a:pt x="113" y="710"/>
                </a:moveTo>
                <a:lnTo>
                  <a:pt x="87" y="739"/>
                </a:lnTo>
                <a:lnTo>
                  <a:pt x="77" y="739"/>
                </a:lnTo>
                <a:lnTo>
                  <a:pt x="64" y="723"/>
                </a:lnTo>
                <a:lnTo>
                  <a:pt x="93" y="536"/>
                </a:lnTo>
                <a:lnTo>
                  <a:pt x="95" y="538"/>
                </a:lnTo>
                <a:lnTo>
                  <a:pt x="101" y="513"/>
                </a:lnTo>
                <a:lnTo>
                  <a:pt x="100" y="506"/>
                </a:lnTo>
                <a:lnTo>
                  <a:pt x="97" y="504"/>
                </a:lnTo>
                <a:lnTo>
                  <a:pt x="88" y="506"/>
                </a:lnTo>
                <a:lnTo>
                  <a:pt x="81" y="506"/>
                </a:lnTo>
                <a:lnTo>
                  <a:pt x="79" y="500"/>
                </a:lnTo>
                <a:lnTo>
                  <a:pt x="80" y="489"/>
                </a:lnTo>
                <a:lnTo>
                  <a:pt x="77" y="483"/>
                </a:lnTo>
                <a:lnTo>
                  <a:pt x="69" y="489"/>
                </a:lnTo>
                <a:lnTo>
                  <a:pt x="68" y="485"/>
                </a:lnTo>
                <a:lnTo>
                  <a:pt x="70" y="479"/>
                </a:lnTo>
                <a:lnTo>
                  <a:pt x="59" y="437"/>
                </a:lnTo>
                <a:lnTo>
                  <a:pt x="53" y="422"/>
                </a:lnTo>
                <a:lnTo>
                  <a:pt x="38" y="366"/>
                </a:lnTo>
                <a:lnTo>
                  <a:pt x="28" y="355"/>
                </a:lnTo>
                <a:lnTo>
                  <a:pt x="11" y="317"/>
                </a:lnTo>
                <a:lnTo>
                  <a:pt x="21" y="313"/>
                </a:lnTo>
                <a:lnTo>
                  <a:pt x="13" y="298"/>
                </a:lnTo>
                <a:lnTo>
                  <a:pt x="16" y="263"/>
                </a:lnTo>
                <a:lnTo>
                  <a:pt x="0" y="202"/>
                </a:lnTo>
                <a:lnTo>
                  <a:pt x="0" y="198"/>
                </a:lnTo>
                <a:lnTo>
                  <a:pt x="4" y="156"/>
                </a:lnTo>
                <a:lnTo>
                  <a:pt x="9" y="107"/>
                </a:lnTo>
                <a:lnTo>
                  <a:pt x="10" y="99"/>
                </a:lnTo>
                <a:lnTo>
                  <a:pt x="9" y="99"/>
                </a:lnTo>
                <a:lnTo>
                  <a:pt x="16" y="24"/>
                </a:lnTo>
                <a:lnTo>
                  <a:pt x="18" y="5"/>
                </a:lnTo>
                <a:lnTo>
                  <a:pt x="19" y="0"/>
                </a:lnTo>
                <a:lnTo>
                  <a:pt x="112" y="30"/>
                </a:lnTo>
                <a:lnTo>
                  <a:pt x="160" y="45"/>
                </a:lnTo>
                <a:lnTo>
                  <a:pt x="293" y="84"/>
                </a:lnTo>
                <a:lnTo>
                  <a:pt x="360" y="101"/>
                </a:lnTo>
                <a:lnTo>
                  <a:pt x="397" y="110"/>
                </a:lnTo>
                <a:lnTo>
                  <a:pt x="451" y="122"/>
                </a:lnTo>
                <a:lnTo>
                  <a:pt x="486" y="131"/>
                </a:lnTo>
                <a:lnTo>
                  <a:pt x="577" y="149"/>
                </a:lnTo>
                <a:lnTo>
                  <a:pt x="652" y="162"/>
                </a:lnTo>
                <a:lnTo>
                  <a:pt x="730" y="175"/>
                </a:lnTo>
                <a:lnTo>
                  <a:pt x="805" y="187"/>
                </a:lnTo>
                <a:lnTo>
                  <a:pt x="877" y="194"/>
                </a:lnTo>
                <a:lnTo>
                  <a:pt x="876" y="244"/>
                </a:lnTo>
                <a:lnTo>
                  <a:pt x="875" y="261"/>
                </a:lnTo>
                <a:lnTo>
                  <a:pt x="875" y="269"/>
                </a:lnTo>
                <a:lnTo>
                  <a:pt x="875" y="271"/>
                </a:lnTo>
                <a:lnTo>
                  <a:pt x="874" y="296"/>
                </a:lnTo>
                <a:lnTo>
                  <a:pt x="874" y="317"/>
                </a:lnTo>
                <a:lnTo>
                  <a:pt x="872" y="370"/>
                </a:lnTo>
                <a:lnTo>
                  <a:pt x="871" y="397"/>
                </a:lnTo>
                <a:lnTo>
                  <a:pt x="871" y="422"/>
                </a:lnTo>
                <a:lnTo>
                  <a:pt x="870" y="447"/>
                </a:lnTo>
                <a:lnTo>
                  <a:pt x="867" y="517"/>
                </a:lnTo>
                <a:lnTo>
                  <a:pt x="867" y="523"/>
                </a:lnTo>
                <a:lnTo>
                  <a:pt x="867" y="531"/>
                </a:lnTo>
                <a:lnTo>
                  <a:pt x="866" y="573"/>
                </a:lnTo>
                <a:lnTo>
                  <a:pt x="863" y="649"/>
                </a:lnTo>
                <a:lnTo>
                  <a:pt x="862" y="670"/>
                </a:lnTo>
                <a:lnTo>
                  <a:pt x="862" y="691"/>
                </a:lnTo>
                <a:lnTo>
                  <a:pt x="862" y="699"/>
                </a:lnTo>
                <a:lnTo>
                  <a:pt x="860" y="744"/>
                </a:lnTo>
                <a:lnTo>
                  <a:pt x="860" y="750"/>
                </a:lnTo>
                <a:lnTo>
                  <a:pt x="859" y="781"/>
                </a:lnTo>
                <a:lnTo>
                  <a:pt x="858" y="813"/>
                </a:lnTo>
                <a:lnTo>
                  <a:pt x="858" y="825"/>
                </a:lnTo>
                <a:lnTo>
                  <a:pt x="857" y="851"/>
                </a:lnTo>
                <a:lnTo>
                  <a:pt x="854" y="955"/>
                </a:lnTo>
                <a:lnTo>
                  <a:pt x="854" y="960"/>
                </a:lnTo>
                <a:lnTo>
                  <a:pt x="853" y="1004"/>
                </a:lnTo>
                <a:lnTo>
                  <a:pt x="851" y="1004"/>
                </a:lnTo>
                <a:lnTo>
                  <a:pt x="800" y="999"/>
                </a:lnTo>
                <a:lnTo>
                  <a:pt x="792" y="997"/>
                </a:lnTo>
                <a:lnTo>
                  <a:pt x="777" y="995"/>
                </a:lnTo>
                <a:lnTo>
                  <a:pt x="773" y="995"/>
                </a:lnTo>
                <a:lnTo>
                  <a:pt x="711" y="985"/>
                </a:lnTo>
                <a:lnTo>
                  <a:pt x="704" y="987"/>
                </a:lnTo>
                <a:lnTo>
                  <a:pt x="703" y="987"/>
                </a:lnTo>
                <a:lnTo>
                  <a:pt x="694" y="985"/>
                </a:lnTo>
                <a:lnTo>
                  <a:pt x="684" y="983"/>
                </a:lnTo>
                <a:lnTo>
                  <a:pt x="683" y="983"/>
                </a:lnTo>
                <a:lnTo>
                  <a:pt x="627" y="974"/>
                </a:lnTo>
                <a:lnTo>
                  <a:pt x="618" y="972"/>
                </a:lnTo>
                <a:lnTo>
                  <a:pt x="559" y="960"/>
                </a:lnTo>
                <a:lnTo>
                  <a:pt x="533" y="956"/>
                </a:lnTo>
                <a:lnTo>
                  <a:pt x="523" y="955"/>
                </a:lnTo>
                <a:lnTo>
                  <a:pt x="514" y="953"/>
                </a:lnTo>
                <a:lnTo>
                  <a:pt x="505" y="951"/>
                </a:lnTo>
                <a:lnTo>
                  <a:pt x="475" y="945"/>
                </a:lnTo>
                <a:lnTo>
                  <a:pt x="466" y="941"/>
                </a:lnTo>
                <a:lnTo>
                  <a:pt x="415" y="932"/>
                </a:lnTo>
                <a:lnTo>
                  <a:pt x="411" y="930"/>
                </a:lnTo>
                <a:lnTo>
                  <a:pt x="400" y="928"/>
                </a:lnTo>
                <a:lnTo>
                  <a:pt x="369" y="922"/>
                </a:lnTo>
                <a:lnTo>
                  <a:pt x="320" y="909"/>
                </a:lnTo>
                <a:lnTo>
                  <a:pt x="316" y="978"/>
                </a:lnTo>
                <a:lnTo>
                  <a:pt x="314" y="1010"/>
                </a:lnTo>
                <a:lnTo>
                  <a:pt x="313" y="1016"/>
                </a:lnTo>
                <a:lnTo>
                  <a:pt x="309" y="1014"/>
                </a:lnTo>
                <a:lnTo>
                  <a:pt x="309" y="1012"/>
                </a:lnTo>
                <a:lnTo>
                  <a:pt x="307" y="1010"/>
                </a:lnTo>
                <a:lnTo>
                  <a:pt x="300" y="978"/>
                </a:lnTo>
                <a:lnTo>
                  <a:pt x="292" y="953"/>
                </a:lnTo>
                <a:lnTo>
                  <a:pt x="290" y="953"/>
                </a:lnTo>
                <a:lnTo>
                  <a:pt x="284" y="960"/>
                </a:lnTo>
                <a:lnTo>
                  <a:pt x="280" y="972"/>
                </a:lnTo>
                <a:lnTo>
                  <a:pt x="279" y="995"/>
                </a:lnTo>
                <a:lnTo>
                  <a:pt x="271" y="989"/>
                </a:lnTo>
                <a:lnTo>
                  <a:pt x="232" y="983"/>
                </a:lnTo>
                <a:lnTo>
                  <a:pt x="223" y="974"/>
                </a:lnTo>
                <a:lnTo>
                  <a:pt x="214" y="985"/>
                </a:lnTo>
                <a:lnTo>
                  <a:pt x="202" y="989"/>
                </a:lnTo>
                <a:lnTo>
                  <a:pt x="185" y="978"/>
                </a:lnTo>
                <a:lnTo>
                  <a:pt x="176" y="991"/>
                </a:lnTo>
                <a:lnTo>
                  <a:pt x="177" y="1000"/>
                </a:lnTo>
                <a:lnTo>
                  <a:pt x="175" y="1004"/>
                </a:lnTo>
                <a:lnTo>
                  <a:pt x="164" y="981"/>
                </a:lnTo>
                <a:lnTo>
                  <a:pt x="159" y="916"/>
                </a:lnTo>
                <a:lnTo>
                  <a:pt x="137" y="886"/>
                </a:lnTo>
                <a:lnTo>
                  <a:pt x="140" y="861"/>
                </a:lnTo>
                <a:lnTo>
                  <a:pt x="113" y="710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38360" y="2685960"/>
            <a:ext cx="850680" cy="1255680"/>
          </a:xfrm>
          <a:custGeom>
            <a:avLst/>
            <a:gdLst/>
            <a:ahLst/>
            <a:rect l="l" t="t" r="r" b="b"/>
            <a:pathLst>
              <a:path w="536" h="1581">
                <a:moveTo>
                  <a:pt x="3" y="581"/>
                </a:moveTo>
                <a:lnTo>
                  <a:pt x="2" y="590"/>
                </a:lnTo>
                <a:lnTo>
                  <a:pt x="0" y="603"/>
                </a:lnTo>
                <a:lnTo>
                  <a:pt x="4" y="615"/>
                </a:lnTo>
                <a:lnTo>
                  <a:pt x="6" y="621"/>
                </a:lnTo>
                <a:lnTo>
                  <a:pt x="10" y="632"/>
                </a:lnTo>
                <a:lnTo>
                  <a:pt x="24" y="666"/>
                </a:lnTo>
                <a:lnTo>
                  <a:pt x="27" y="676"/>
                </a:lnTo>
                <a:lnTo>
                  <a:pt x="32" y="691"/>
                </a:lnTo>
                <a:lnTo>
                  <a:pt x="45" y="720"/>
                </a:lnTo>
                <a:lnTo>
                  <a:pt x="48" y="729"/>
                </a:lnTo>
                <a:lnTo>
                  <a:pt x="50" y="733"/>
                </a:lnTo>
                <a:lnTo>
                  <a:pt x="56" y="751"/>
                </a:lnTo>
                <a:lnTo>
                  <a:pt x="71" y="791"/>
                </a:lnTo>
                <a:lnTo>
                  <a:pt x="82" y="821"/>
                </a:lnTo>
                <a:lnTo>
                  <a:pt x="104" y="878"/>
                </a:lnTo>
                <a:lnTo>
                  <a:pt x="129" y="947"/>
                </a:lnTo>
                <a:lnTo>
                  <a:pt x="140" y="978"/>
                </a:lnTo>
                <a:lnTo>
                  <a:pt x="143" y="985"/>
                </a:lnTo>
                <a:lnTo>
                  <a:pt x="158" y="1026"/>
                </a:lnTo>
                <a:lnTo>
                  <a:pt x="163" y="1039"/>
                </a:lnTo>
                <a:lnTo>
                  <a:pt x="188" y="1106"/>
                </a:lnTo>
                <a:lnTo>
                  <a:pt x="232" y="1220"/>
                </a:lnTo>
                <a:lnTo>
                  <a:pt x="252" y="1276"/>
                </a:lnTo>
                <a:lnTo>
                  <a:pt x="276" y="1341"/>
                </a:lnTo>
                <a:lnTo>
                  <a:pt x="277" y="1343"/>
                </a:lnTo>
                <a:lnTo>
                  <a:pt x="286" y="1369"/>
                </a:lnTo>
                <a:lnTo>
                  <a:pt x="295" y="1392"/>
                </a:lnTo>
                <a:lnTo>
                  <a:pt x="321" y="1463"/>
                </a:lnTo>
                <a:lnTo>
                  <a:pt x="345" y="1526"/>
                </a:lnTo>
                <a:lnTo>
                  <a:pt x="365" y="1581"/>
                </a:lnTo>
                <a:lnTo>
                  <a:pt x="373" y="1532"/>
                </a:lnTo>
                <a:lnTo>
                  <a:pt x="373" y="1427"/>
                </a:lnTo>
                <a:lnTo>
                  <a:pt x="378" y="1402"/>
                </a:lnTo>
                <a:lnTo>
                  <a:pt x="375" y="1354"/>
                </a:lnTo>
                <a:lnTo>
                  <a:pt x="396" y="1350"/>
                </a:lnTo>
                <a:lnTo>
                  <a:pt x="415" y="1383"/>
                </a:lnTo>
                <a:lnTo>
                  <a:pt x="436" y="1352"/>
                </a:lnTo>
                <a:lnTo>
                  <a:pt x="447" y="1220"/>
                </a:lnTo>
                <a:lnTo>
                  <a:pt x="450" y="1188"/>
                </a:lnTo>
                <a:lnTo>
                  <a:pt x="452" y="1167"/>
                </a:lnTo>
                <a:lnTo>
                  <a:pt x="457" y="1098"/>
                </a:lnTo>
                <a:lnTo>
                  <a:pt x="460" y="1064"/>
                </a:lnTo>
                <a:lnTo>
                  <a:pt x="463" y="1033"/>
                </a:lnTo>
                <a:lnTo>
                  <a:pt x="463" y="1029"/>
                </a:lnTo>
                <a:lnTo>
                  <a:pt x="470" y="953"/>
                </a:lnTo>
                <a:lnTo>
                  <a:pt x="472" y="922"/>
                </a:lnTo>
                <a:lnTo>
                  <a:pt x="476" y="880"/>
                </a:lnTo>
                <a:lnTo>
                  <a:pt x="477" y="865"/>
                </a:lnTo>
                <a:lnTo>
                  <a:pt x="478" y="856"/>
                </a:lnTo>
                <a:lnTo>
                  <a:pt x="479" y="844"/>
                </a:lnTo>
                <a:lnTo>
                  <a:pt x="482" y="806"/>
                </a:lnTo>
                <a:lnTo>
                  <a:pt x="493" y="676"/>
                </a:lnTo>
                <a:lnTo>
                  <a:pt x="494" y="668"/>
                </a:lnTo>
                <a:lnTo>
                  <a:pt x="497" y="624"/>
                </a:lnTo>
                <a:lnTo>
                  <a:pt x="500" y="594"/>
                </a:lnTo>
                <a:lnTo>
                  <a:pt x="502" y="575"/>
                </a:lnTo>
                <a:lnTo>
                  <a:pt x="504" y="550"/>
                </a:lnTo>
                <a:lnTo>
                  <a:pt x="508" y="502"/>
                </a:lnTo>
                <a:lnTo>
                  <a:pt x="512" y="447"/>
                </a:lnTo>
                <a:lnTo>
                  <a:pt x="519" y="370"/>
                </a:lnTo>
                <a:lnTo>
                  <a:pt x="525" y="304"/>
                </a:lnTo>
                <a:lnTo>
                  <a:pt x="534" y="191"/>
                </a:lnTo>
                <a:lnTo>
                  <a:pt x="536" y="168"/>
                </a:lnTo>
                <a:lnTo>
                  <a:pt x="521" y="162"/>
                </a:lnTo>
                <a:lnTo>
                  <a:pt x="520" y="162"/>
                </a:lnTo>
                <a:lnTo>
                  <a:pt x="517" y="162"/>
                </a:lnTo>
                <a:lnTo>
                  <a:pt x="493" y="155"/>
                </a:lnTo>
                <a:lnTo>
                  <a:pt x="481" y="149"/>
                </a:lnTo>
                <a:lnTo>
                  <a:pt x="459" y="143"/>
                </a:lnTo>
                <a:lnTo>
                  <a:pt x="379" y="116"/>
                </a:lnTo>
                <a:lnTo>
                  <a:pt x="307" y="92"/>
                </a:lnTo>
                <a:lnTo>
                  <a:pt x="303" y="88"/>
                </a:lnTo>
                <a:lnTo>
                  <a:pt x="285" y="82"/>
                </a:lnTo>
                <a:lnTo>
                  <a:pt x="281" y="82"/>
                </a:lnTo>
                <a:lnTo>
                  <a:pt x="210" y="55"/>
                </a:lnTo>
                <a:lnTo>
                  <a:pt x="187" y="48"/>
                </a:lnTo>
                <a:lnTo>
                  <a:pt x="172" y="42"/>
                </a:lnTo>
                <a:lnTo>
                  <a:pt x="123" y="21"/>
                </a:lnTo>
                <a:lnTo>
                  <a:pt x="120" y="21"/>
                </a:lnTo>
                <a:lnTo>
                  <a:pt x="109" y="15"/>
                </a:lnTo>
                <a:lnTo>
                  <a:pt x="81" y="4"/>
                </a:lnTo>
                <a:lnTo>
                  <a:pt x="71" y="0"/>
                </a:lnTo>
                <a:lnTo>
                  <a:pt x="66" y="46"/>
                </a:lnTo>
                <a:lnTo>
                  <a:pt x="56" y="130"/>
                </a:lnTo>
                <a:lnTo>
                  <a:pt x="52" y="162"/>
                </a:lnTo>
                <a:lnTo>
                  <a:pt x="35" y="302"/>
                </a:lnTo>
                <a:lnTo>
                  <a:pt x="23" y="411"/>
                </a:lnTo>
                <a:lnTo>
                  <a:pt x="17" y="458"/>
                </a:lnTo>
                <a:lnTo>
                  <a:pt x="15" y="477"/>
                </a:lnTo>
                <a:lnTo>
                  <a:pt x="12" y="502"/>
                </a:lnTo>
                <a:lnTo>
                  <a:pt x="10" y="514"/>
                </a:lnTo>
                <a:lnTo>
                  <a:pt x="9" y="527"/>
                </a:lnTo>
                <a:lnTo>
                  <a:pt x="7" y="540"/>
                </a:lnTo>
                <a:lnTo>
                  <a:pt x="6" y="554"/>
                </a:lnTo>
                <a:lnTo>
                  <a:pt x="4" y="571"/>
                </a:lnTo>
                <a:lnTo>
                  <a:pt x="3" y="579"/>
                </a:lnTo>
                <a:lnTo>
                  <a:pt x="3" y="581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1905120"/>
            <a:ext cx="1079280" cy="850680"/>
          </a:xfrm>
          <a:custGeom>
            <a:avLst/>
            <a:gdLst/>
            <a:ahLst/>
            <a:rect l="l" t="t" r="r" b="b"/>
            <a:pathLst>
              <a:path w="680" h="1072">
                <a:moveTo>
                  <a:pt x="598" y="604"/>
                </a:moveTo>
                <a:lnTo>
                  <a:pt x="608" y="617"/>
                </a:lnTo>
                <a:lnTo>
                  <a:pt x="613" y="621"/>
                </a:lnTo>
                <a:lnTo>
                  <a:pt x="619" y="642"/>
                </a:lnTo>
                <a:lnTo>
                  <a:pt x="617" y="648"/>
                </a:lnTo>
                <a:lnTo>
                  <a:pt x="616" y="648"/>
                </a:lnTo>
                <a:lnTo>
                  <a:pt x="607" y="694"/>
                </a:lnTo>
                <a:lnTo>
                  <a:pt x="606" y="697"/>
                </a:lnTo>
                <a:lnTo>
                  <a:pt x="603" y="707"/>
                </a:lnTo>
                <a:lnTo>
                  <a:pt x="600" y="734"/>
                </a:lnTo>
                <a:lnTo>
                  <a:pt x="598" y="755"/>
                </a:lnTo>
                <a:lnTo>
                  <a:pt x="590" y="839"/>
                </a:lnTo>
                <a:lnTo>
                  <a:pt x="567" y="1072"/>
                </a:lnTo>
                <a:lnTo>
                  <a:pt x="549" y="1066"/>
                </a:lnTo>
                <a:lnTo>
                  <a:pt x="545" y="1066"/>
                </a:lnTo>
                <a:lnTo>
                  <a:pt x="474" y="1039"/>
                </a:lnTo>
                <a:lnTo>
                  <a:pt x="451" y="1032"/>
                </a:lnTo>
                <a:lnTo>
                  <a:pt x="436" y="1026"/>
                </a:lnTo>
                <a:lnTo>
                  <a:pt x="387" y="1005"/>
                </a:lnTo>
                <a:lnTo>
                  <a:pt x="384" y="1005"/>
                </a:lnTo>
                <a:lnTo>
                  <a:pt x="373" y="999"/>
                </a:lnTo>
                <a:lnTo>
                  <a:pt x="345" y="988"/>
                </a:lnTo>
                <a:lnTo>
                  <a:pt x="335" y="984"/>
                </a:lnTo>
                <a:lnTo>
                  <a:pt x="319" y="976"/>
                </a:lnTo>
                <a:lnTo>
                  <a:pt x="315" y="976"/>
                </a:lnTo>
                <a:lnTo>
                  <a:pt x="266" y="955"/>
                </a:lnTo>
                <a:lnTo>
                  <a:pt x="251" y="948"/>
                </a:lnTo>
                <a:lnTo>
                  <a:pt x="234" y="940"/>
                </a:lnTo>
                <a:lnTo>
                  <a:pt x="222" y="934"/>
                </a:lnTo>
                <a:lnTo>
                  <a:pt x="180" y="913"/>
                </a:lnTo>
                <a:lnTo>
                  <a:pt x="167" y="907"/>
                </a:lnTo>
                <a:lnTo>
                  <a:pt x="158" y="904"/>
                </a:lnTo>
                <a:lnTo>
                  <a:pt x="99" y="877"/>
                </a:lnTo>
                <a:lnTo>
                  <a:pt x="91" y="871"/>
                </a:lnTo>
                <a:lnTo>
                  <a:pt x="84" y="869"/>
                </a:lnTo>
                <a:lnTo>
                  <a:pt x="75" y="865"/>
                </a:lnTo>
                <a:lnTo>
                  <a:pt x="69" y="862"/>
                </a:lnTo>
                <a:lnTo>
                  <a:pt x="62" y="860"/>
                </a:lnTo>
                <a:lnTo>
                  <a:pt x="54" y="856"/>
                </a:lnTo>
                <a:lnTo>
                  <a:pt x="52" y="856"/>
                </a:lnTo>
                <a:lnTo>
                  <a:pt x="39" y="848"/>
                </a:lnTo>
                <a:lnTo>
                  <a:pt x="25" y="842"/>
                </a:lnTo>
                <a:lnTo>
                  <a:pt x="16" y="837"/>
                </a:lnTo>
                <a:lnTo>
                  <a:pt x="9" y="833"/>
                </a:lnTo>
                <a:lnTo>
                  <a:pt x="0" y="804"/>
                </a:lnTo>
                <a:lnTo>
                  <a:pt x="11" y="697"/>
                </a:lnTo>
                <a:lnTo>
                  <a:pt x="4" y="651"/>
                </a:lnTo>
                <a:lnTo>
                  <a:pt x="15" y="632"/>
                </a:lnTo>
                <a:lnTo>
                  <a:pt x="34" y="558"/>
                </a:lnTo>
                <a:lnTo>
                  <a:pt x="39" y="554"/>
                </a:lnTo>
                <a:lnTo>
                  <a:pt x="53" y="512"/>
                </a:lnTo>
                <a:lnTo>
                  <a:pt x="64" y="464"/>
                </a:lnTo>
                <a:lnTo>
                  <a:pt x="79" y="384"/>
                </a:lnTo>
                <a:lnTo>
                  <a:pt x="107" y="239"/>
                </a:lnTo>
                <a:lnTo>
                  <a:pt x="107" y="235"/>
                </a:lnTo>
                <a:lnTo>
                  <a:pt x="117" y="197"/>
                </a:lnTo>
                <a:lnTo>
                  <a:pt x="131" y="99"/>
                </a:lnTo>
                <a:lnTo>
                  <a:pt x="131" y="92"/>
                </a:lnTo>
                <a:lnTo>
                  <a:pt x="142" y="25"/>
                </a:lnTo>
                <a:lnTo>
                  <a:pt x="140" y="2"/>
                </a:lnTo>
                <a:lnTo>
                  <a:pt x="142" y="0"/>
                </a:lnTo>
                <a:lnTo>
                  <a:pt x="149" y="17"/>
                </a:lnTo>
                <a:lnTo>
                  <a:pt x="159" y="15"/>
                </a:lnTo>
                <a:lnTo>
                  <a:pt x="166" y="8"/>
                </a:lnTo>
                <a:lnTo>
                  <a:pt x="180" y="14"/>
                </a:lnTo>
                <a:lnTo>
                  <a:pt x="182" y="17"/>
                </a:lnTo>
                <a:lnTo>
                  <a:pt x="185" y="42"/>
                </a:lnTo>
                <a:lnTo>
                  <a:pt x="194" y="44"/>
                </a:lnTo>
                <a:lnTo>
                  <a:pt x="197" y="42"/>
                </a:lnTo>
                <a:lnTo>
                  <a:pt x="211" y="57"/>
                </a:lnTo>
                <a:lnTo>
                  <a:pt x="220" y="98"/>
                </a:lnTo>
                <a:lnTo>
                  <a:pt x="219" y="120"/>
                </a:lnTo>
                <a:lnTo>
                  <a:pt x="219" y="142"/>
                </a:lnTo>
                <a:lnTo>
                  <a:pt x="218" y="143"/>
                </a:lnTo>
                <a:lnTo>
                  <a:pt x="218" y="145"/>
                </a:lnTo>
                <a:lnTo>
                  <a:pt x="216" y="159"/>
                </a:lnTo>
                <a:lnTo>
                  <a:pt x="237" y="189"/>
                </a:lnTo>
                <a:lnTo>
                  <a:pt x="251" y="199"/>
                </a:lnTo>
                <a:lnTo>
                  <a:pt x="257" y="195"/>
                </a:lnTo>
                <a:lnTo>
                  <a:pt x="263" y="197"/>
                </a:lnTo>
                <a:lnTo>
                  <a:pt x="277" y="189"/>
                </a:lnTo>
                <a:lnTo>
                  <a:pt x="287" y="182"/>
                </a:lnTo>
                <a:lnTo>
                  <a:pt x="292" y="187"/>
                </a:lnTo>
                <a:lnTo>
                  <a:pt x="309" y="187"/>
                </a:lnTo>
                <a:lnTo>
                  <a:pt x="311" y="189"/>
                </a:lnTo>
                <a:lnTo>
                  <a:pt x="313" y="195"/>
                </a:lnTo>
                <a:lnTo>
                  <a:pt x="315" y="197"/>
                </a:lnTo>
                <a:lnTo>
                  <a:pt x="331" y="208"/>
                </a:lnTo>
                <a:lnTo>
                  <a:pt x="331" y="222"/>
                </a:lnTo>
                <a:lnTo>
                  <a:pt x="352" y="224"/>
                </a:lnTo>
                <a:lnTo>
                  <a:pt x="357" y="220"/>
                </a:lnTo>
                <a:lnTo>
                  <a:pt x="370" y="216"/>
                </a:lnTo>
                <a:lnTo>
                  <a:pt x="373" y="214"/>
                </a:lnTo>
                <a:lnTo>
                  <a:pt x="385" y="227"/>
                </a:lnTo>
                <a:lnTo>
                  <a:pt x="406" y="229"/>
                </a:lnTo>
                <a:lnTo>
                  <a:pt x="423" y="220"/>
                </a:lnTo>
                <a:lnTo>
                  <a:pt x="426" y="218"/>
                </a:lnTo>
                <a:lnTo>
                  <a:pt x="430" y="218"/>
                </a:lnTo>
                <a:lnTo>
                  <a:pt x="433" y="218"/>
                </a:lnTo>
                <a:lnTo>
                  <a:pt x="448" y="220"/>
                </a:lnTo>
                <a:lnTo>
                  <a:pt x="457" y="210"/>
                </a:lnTo>
                <a:lnTo>
                  <a:pt x="467" y="216"/>
                </a:lnTo>
                <a:lnTo>
                  <a:pt x="480" y="216"/>
                </a:lnTo>
                <a:lnTo>
                  <a:pt x="490" y="222"/>
                </a:lnTo>
                <a:lnTo>
                  <a:pt x="503" y="212"/>
                </a:lnTo>
                <a:lnTo>
                  <a:pt x="518" y="218"/>
                </a:lnTo>
                <a:lnTo>
                  <a:pt x="557" y="233"/>
                </a:lnTo>
                <a:lnTo>
                  <a:pt x="575" y="241"/>
                </a:lnTo>
                <a:lnTo>
                  <a:pt x="577" y="241"/>
                </a:lnTo>
                <a:lnTo>
                  <a:pt x="596" y="248"/>
                </a:lnTo>
                <a:lnTo>
                  <a:pt x="602" y="250"/>
                </a:lnTo>
                <a:lnTo>
                  <a:pt x="604" y="252"/>
                </a:lnTo>
                <a:lnTo>
                  <a:pt x="612" y="254"/>
                </a:lnTo>
                <a:lnTo>
                  <a:pt x="613" y="256"/>
                </a:lnTo>
                <a:lnTo>
                  <a:pt x="622" y="260"/>
                </a:lnTo>
                <a:lnTo>
                  <a:pt x="624" y="260"/>
                </a:lnTo>
                <a:lnTo>
                  <a:pt x="655" y="271"/>
                </a:lnTo>
                <a:lnTo>
                  <a:pt x="657" y="281"/>
                </a:lnTo>
                <a:lnTo>
                  <a:pt x="660" y="298"/>
                </a:lnTo>
                <a:lnTo>
                  <a:pt x="661" y="302"/>
                </a:lnTo>
                <a:lnTo>
                  <a:pt x="677" y="331"/>
                </a:lnTo>
                <a:lnTo>
                  <a:pt x="680" y="357"/>
                </a:lnTo>
                <a:lnTo>
                  <a:pt x="657" y="422"/>
                </a:lnTo>
                <a:lnTo>
                  <a:pt x="657" y="424"/>
                </a:lnTo>
                <a:lnTo>
                  <a:pt x="650" y="451"/>
                </a:lnTo>
                <a:lnTo>
                  <a:pt x="646" y="459"/>
                </a:lnTo>
                <a:lnTo>
                  <a:pt x="640" y="472"/>
                </a:lnTo>
                <a:lnTo>
                  <a:pt x="633" y="503"/>
                </a:lnTo>
                <a:lnTo>
                  <a:pt x="621" y="518"/>
                </a:lnTo>
                <a:lnTo>
                  <a:pt x="598" y="588"/>
                </a:lnTo>
                <a:lnTo>
                  <a:pt x="598" y="604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52600" y="2819520"/>
            <a:ext cx="743040" cy="893520"/>
          </a:xfrm>
          <a:custGeom>
            <a:avLst/>
            <a:gdLst/>
            <a:ahLst/>
            <a:rect l="l" t="t" r="r" b="b"/>
            <a:pathLst>
              <a:path w="468" h="1127">
                <a:moveTo>
                  <a:pt x="20" y="785"/>
                </a:moveTo>
                <a:lnTo>
                  <a:pt x="13" y="861"/>
                </a:lnTo>
                <a:lnTo>
                  <a:pt x="13" y="865"/>
                </a:lnTo>
                <a:lnTo>
                  <a:pt x="10" y="896"/>
                </a:lnTo>
                <a:lnTo>
                  <a:pt x="7" y="930"/>
                </a:lnTo>
                <a:lnTo>
                  <a:pt x="2" y="999"/>
                </a:lnTo>
                <a:lnTo>
                  <a:pt x="0" y="1020"/>
                </a:lnTo>
                <a:lnTo>
                  <a:pt x="27" y="1028"/>
                </a:lnTo>
                <a:lnTo>
                  <a:pt x="55" y="1035"/>
                </a:lnTo>
                <a:lnTo>
                  <a:pt x="96" y="1047"/>
                </a:lnTo>
                <a:lnTo>
                  <a:pt x="98" y="1049"/>
                </a:lnTo>
                <a:lnTo>
                  <a:pt x="109" y="1050"/>
                </a:lnTo>
                <a:lnTo>
                  <a:pt x="126" y="1056"/>
                </a:lnTo>
                <a:lnTo>
                  <a:pt x="193" y="1073"/>
                </a:lnTo>
                <a:lnTo>
                  <a:pt x="214" y="1079"/>
                </a:lnTo>
                <a:lnTo>
                  <a:pt x="222" y="1081"/>
                </a:lnTo>
                <a:lnTo>
                  <a:pt x="235" y="1085"/>
                </a:lnTo>
                <a:lnTo>
                  <a:pt x="256" y="1089"/>
                </a:lnTo>
                <a:lnTo>
                  <a:pt x="277" y="1094"/>
                </a:lnTo>
                <a:lnTo>
                  <a:pt x="299" y="1098"/>
                </a:lnTo>
                <a:lnTo>
                  <a:pt x="300" y="1100"/>
                </a:lnTo>
                <a:lnTo>
                  <a:pt x="340" y="1110"/>
                </a:lnTo>
                <a:lnTo>
                  <a:pt x="372" y="1117"/>
                </a:lnTo>
                <a:lnTo>
                  <a:pt x="383" y="1119"/>
                </a:lnTo>
                <a:lnTo>
                  <a:pt x="421" y="1127"/>
                </a:lnTo>
                <a:lnTo>
                  <a:pt x="427" y="1028"/>
                </a:lnTo>
                <a:lnTo>
                  <a:pt x="427" y="1024"/>
                </a:lnTo>
                <a:lnTo>
                  <a:pt x="430" y="972"/>
                </a:lnTo>
                <a:lnTo>
                  <a:pt x="432" y="945"/>
                </a:lnTo>
                <a:lnTo>
                  <a:pt x="433" y="921"/>
                </a:lnTo>
                <a:lnTo>
                  <a:pt x="435" y="888"/>
                </a:lnTo>
                <a:lnTo>
                  <a:pt x="435" y="886"/>
                </a:lnTo>
                <a:lnTo>
                  <a:pt x="435" y="863"/>
                </a:lnTo>
                <a:lnTo>
                  <a:pt x="437" y="817"/>
                </a:lnTo>
                <a:lnTo>
                  <a:pt x="441" y="766"/>
                </a:lnTo>
                <a:lnTo>
                  <a:pt x="444" y="714"/>
                </a:lnTo>
                <a:lnTo>
                  <a:pt x="448" y="640"/>
                </a:lnTo>
                <a:lnTo>
                  <a:pt x="449" y="638"/>
                </a:lnTo>
                <a:lnTo>
                  <a:pt x="450" y="613"/>
                </a:lnTo>
                <a:lnTo>
                  <a:pt x="451" y="586"/>
                </a:lnTo>
                <a:lnTo>
                  <a:pt x="452" y="579"/>
                </a:lnTo>
                <a:lnTo>
                  <a:pt x="454" y="535"/>
                </a:lnTo>
                <a:lnTo>
                  <a:pt x="456" y="510"/>
                </a:lnTo>
                <a:lnTo>
                  <a:pt x="459" y="464"/>
                </a:lnTo>
                <a:lnTo>
                  <a:pt x="461" y="418"/>
                </a:lnTo>
                <a:lnTo>
                  <a:pt x="463" y="382"/>
                </a:lnTo>
                <a:lnTo>
                  <a:pt x="464" y="374"/>
                </a:lnTo>
                <a:lnTo>
                  <a:pt x="465" y="355"/>
                </a:lnTo>
                <a:lnTo>
                  <a:pt x="466" y="330"/>
                </a:lnTo>
                <a:lnTo>
                  <a:pt x="468" y="304"/>
                </a:lnTo>
                <a:lnTo>
                  <a:pt x="432" y="296"/>
                </a:lnTo>
                <a:lnTo>
                  <a:pt x="429" y="296"/>
                </a:lnTo>
                <a:lnTo>
                  <a:pt x="392" y="288"/>
                </a:lnTo>
                <a:lnTo>
                  <a:pt x="388" y="286"/>
                </a:lnTo>
                <a:lnTo>
                  <a:pt x="370" y="283"/>
                </a:lnTo>
                <a:lnTo>
                  <a:pt x="308" y="267"/>
                </a:lnTo>
                <a:lnTo>
                  <a:pt x="311" y="216"/>
                </a:lnTo>
                <a:lnTo>
                  <a:pt x="314" y="178"/>
                </a:lnTo>
                <a:lnTo>
                  <a:pt x="315" y="166"/>
                </a:lnTo>
                <a:lnTo>
                  <a:pt x="316" y="149"/>
                </a:lnTo>
                <a:lnTo>
                  <a:pt x="318" y="115"/>
                </a:lnTo>
                <a:lnTo>
                  <a:pt x="319" y="97"/>
                </a:lnTo>
                <a:lnTo>
                  <a:pt x="322" y="63"/>
                </a:lnTo>
                <a:lnTo>
                  <a:pt x="292" y="55"/>
                </a:lnTo>
                <a:lnTo>
                  <a:pt x="289" y="55"/>
                </a:lnTo>
                <a:lnTo>
                  <a:pt x="285" y="53"/>
                </a:lnTo>
                <a:lnTo>
                  <a:pt x="266" y="50"/>
                </a:lnTo>
                <a:lnTo>
                  <a:pt x="247" y="44"/>
                </a:lnTo>
                <a:lnTo>
                  <a:pt x="238" y="42"/>
                </a:lnTo>
                <a:lnTo>
                  <a:pt x="237" y="42"/>
                </a:lnTo>
                <a:lnTo>
                  <a:pt x="234" y="42"/>
                </a:lnTo>
                <a:lnTo>
                  <a:pt x="233" y="40"/>
                </a:lnTo>
                <a:lnTo>
                  <a:pt x="232" y="40"/>
                </a:lnTo>
                <a:lnTo>
                  <a:pt x="168" y="23"/>
                </a:lnTo>
                <a:lnTo>
                  <a:pt x="148" y="17"/>
                </a:lnTo>
                <a:lnTo>
                  <a:pt x="109" y="8"/>
                </a:lnTo>
                <a:lnTo>
                  <a:pt x="86" y="0"/>
                </a:lnTo>
                <a:lnTo>
                  <a:pt x="84" y="23"/>
                </a:lnTo>
                <a:lnTo>
                  <a:pt x="75" y="136"/>
                </a:lnTo>
                <a:lnTo>
                  <a:pt x="69" y="202"/>
                </a:lnTo>
                <a:lnTo>
                  <a:pt x="62" y="279"/>
                </a:lnTo>
                <a:lnTo>
                  <a:pt x="58" y="334"/>
                </a:lnTo>
                <a:lnTo>
                  <a:pt x="54" y="382"/>
                </a:lnTo>
                <a:lnTo>
                  <a:pt x="52" y="407"/>
                </a:lnTo>
                <a:lnTo>
                  <a:pt x="50" y="426"/>
                </a:lnTo>
                <a:lnTo>
                  <a:pt x="47" y="456"/>
                </a:lnTo>
                <a:lnTo>
                  <a:pt x="44" y="500"/>
                </a:lnTo>
                <a:lnTo>
                  <a:pt x="43" y="508"/>
                </a:lnTo>
                <a:lnTo>
                  <a:pt x="32" y="638"/>
                </a:lnTo>
                <a:lnTo>
                  <a:pt x="29" y="676"/>
                </a:lnTo>
                <a:lnTo>
                  <a:pt x="28" y="688"/>
                </a:lnTo>
                <a:lnTo>
                  <a:pt x="27" y="697"/>
                </a:lnTo>
                <a:lnTo>
                  <a:pt x="26" y="712"/>
                </a:lnTo>
                <a:lnTo>
                  <a:pt x="22" y="754"/>
                </a:lnTo>
                <a:lnTo>
                  <a:pt x="20" y="785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36760" y="1511280"/>
            <a:ext cx="903240" cy="609480"/>
          </a:xfrm>
          <a:custGeom>
            <a:avLst/>
            <a:gdLst/>
            <a:ahLst/>
            <a:rect l="l" t="t" r="r" b="b"/>
            <a:pathLst>
              <a:path w="569" h="767">
                <a:moveTo>
                  <a:pt x="517" y="678"/>
                </a:moveTo>
                <a:lnTo>
                  <a:pt x="515" y="687"/>
                </a:lnTo>
                <a:lnTo>
                  <a:pt x="519" y="714"/>
                </a:lnTo>
                <a:lnTo>
                  <a:pt x="518" y="767"/>
                </a:lnTo>
                <a:lnTo>
                  <a:pt x="487" y="756"/>
                </a:lnTo>
                <a:lnTo>
                  <a:pt x="485" y="756"/>
                </a:lnTo>
                <a:lnTo>
                  <a:pt x="476" y="752"/>
                </a:lnTo>
                <a:lnTo>
                  <a:pt x="475" y="750"/>
                </a:lnTo>
                <a:lnTo>
                  <a:pt x="467" y="748"/>
                </a:lnTo>
                <a:lnTo>
                  <a:pt x="465" y="746"/>
                </a:lnTo>
                <a:lnTo>
                  <a:pt x="459" y="744"/>
                </a:lnTo>
                <a:lnTo>
                  <a:pt x="440" y="737"/>
                </a:lnTo>
                <a:lnTo>
                  <a:pt x="438" y="737"/>
                </a:lnTo>
                <a:lnTo>
                  <a:pt x="420" y="729"/>
                </a:lnTo>
                <a:lnTo>
                  <a:pt x="381" y="714"/>
                </a:lnTo>
                <a:lnTo>
                  <a:pt x="366" y="708"/>
                </a:lnTo>
                <a:lnTo>
                  <a:pt x="353" y="718"/>
                </a:lnTo>
                <a:lnTo>
                  <a:pt x="343" y="712"/>
                </a:lnTo>
                <a:lnTo>
                  <a:pt x="330" y="712"/>
                </a:lnTo>
                <a:lnTo>
                  <a:pt x="320" y="706"/>
                </a:lnTo>
                <a:lnTo>
                  <a:pt x="311" y="716"/>
                </a:lnTo>
                <a:lnTo>
                  <a:pt x="296" y="714"/>
                </a:lnTo>
                <a:lnTo>
                  <a:pt x="293" y="714"/>
                </a:lnTo>
                <a:lnTo>
                  <a:pt x="289" y="714"/>
                </a:lnTo>
                <a:lnTo>
                  <a:pt x="286" y="716"/>
                </a:lnTo>
                <a:lnTo>
                  <a:pt x="269" y="725"/>
                </a:lnTo>
                <a:lnTo>
                  <a:pt x="248" y="723"/>
                </a:lnTo>
                <a:lnTo>
                  <a:pt x="236" y="710"/>
                </a:lnTo>
                <a:lnTo>
                  <a:pt x="233" y="712"/>
                </a:lnTo>
                <a:lnTo>
                  <a:pt x="220" y="716"/>
                </a:lnTo>
                <a:lnTo>
                  <a:pt x="215" y="720"/>
                </a:lnTo>
                <a:lnTo>
                  <a:pt x="194" y="718"/>
                </a:lnTo>
                <a:lnTo>
                  <a:pt x="194" y="704"/>
                </a:lnTo>
                <a:lnTo>
                  <a:pt x="178" y="693"/>
                </a:lnTo>
                <a:lnTo>
                  <a:pt x="176" y="691"/>
                </a:lnTo>
                <a:lnTo>
                  <a:pt x="174" y="685"/>
                </a:lnTo>
                <a:lnTo>
                  <a:pt x="172" y="683"/>
                </a:lnTo>
                <a:lnTo>
                  <a:pt x="155" y="683"/>
                </a:lnTo>
                <a:lnTo>
                  <a:pt x="150" y="678"/>
                </a:lnTo>
                <a:lnTo>
                  <a:pt x="140" y="685"/>
                </a:lnTo>
                <a:lnTo>
                  <a:pt x="126" y="693"/>
                </a:lnTo>
                <a:lnTo>
                  <a:pt x="120" y="691"/>
                </a:lnTo>
                <a:lnTo>
                  <a:pt x="114" y="695"/>
                </a:lnTo>
                <a:lnTo>
                  <a:pt x="100" y="685"/>
                </a:lnTo>
                <a:lnTo>
                  <a:pt x="79" y="655"/>
                </a:lnTo>
                <a:lnTo>
                  <a:pt x="81" y="641"/>
                </a:lnTo>
                <a:lnTo>
                  <a:pt x="81" y="639"/>
                </a:lnTo>
                <a:lnTo>
                  <a:pt x="82" y="638"/>
                </a:lnTo>
                <a:lnTo>
                  <a:pt x="82" y="616"/>
                </a:lnTo>
                <a:lnTo>
                  <a:pt x="83" y="594"/>
                </a:lnTo>
                <a:lnTo>
                  <a:pt x="74" y="553"/>
                </a:lnTo>
                <a:lnTo>
                  <a:pt x="60" y="538"/>
                </a:lnTo>
                <a:lnTo>
                  <a:pt x="57" y="540"/>
                </a:lnTo>
                <a:lnTo>
                  <a:pt x="48" y="538"/>
                </a:lnTo>
                <a:lnTo>
                  <a:pt x="45" y="513"/>
                </a:lnTo>
                <a:lnTo>
                  <a:pt x="43" y="510"/>
                </a:lnTo>
                <a:lnTo>
                  <a:pt x="29" y="504"/>
                </a:lnTo>
                <a:lnTo>
                  <a:pt x="26" y="496"/>
                </a:lnTo>
                <a:lnTo>
                  <a:pt x="14" y="500"/>
                </a:lnTo>
                <a:lnTo>
                  <a:pt x="7" y="492"/>
                </a:lnTo>
                <a:lnTo>
                  <a:pt x="7" y="481"/>
                </a:lnTo>
                <a:lnTo>
                  <a:pt x="3" y="490"/>
                </a:lnTo>
                <a:lnTo>
                  <a:pt x="0" y="489"/>
                </a:lnTo>
                <a:lnTo>
                  <a:pt x="11" y="414"/>
                </a:lnTo>
                <a:lnTo>
                  <a:pt x="9" y="452"/>
                </a:lnTo>
                <a:lnTo>
                  <a:pt x="13" y="446"/>
                </a:lnTo>
                <a:lnTo>
                  <a:pt x="18" y="446"/>
                </a:lnTo>
                <a:lnTo>
                  <a:pt x="18" y="422"/>
                </a:lnTo>
                <a:lnTo>
                  <a:pt x="26" y="412"/>
                </a:lnTo>
                <a:lnTo>
                  <a:pt x="27" y="404"/>
                </a:lnTo>
                <a:lnTo>
                  <a:pt x="17" y="404"/>
                </a:lnTo>
                <a:lnTo>
                  <a:pt x="11" y="395"/>
                </a:lnTo>
                <a:lnTo>
                  <a:pt x="13" y="383"/>
                </a:lnTo>
                <a:lnTo>
                  <a:pt x="13" y="366"/>
                </a:lnTo>
                <a:lnTo>
                  <a:pt x="12" y="361"/>
                </a:lnTo>
                <a:lnTo>
                  <a:pt x="15" y="368"/>
                </a:lnTo>
                <a:lnTo>
                  <a:pt x="32" y="362"/>
                </a:lnTo>
                <a:lnTo>
                  <a:pt x="33" y="359"/>
                </a:lnTo>
                <a:lnTo>
                  <a:pt x="24" y="349"/>
                </a:lnTo>
                <a:lnTo>
                  <a:pt x="17" y="334"/>
                </a:lnTo>
                <a:lnTo>
                  <a:pt x="15" y="353"/>
                </a:lnTo>
                <a:lnTo>
                  <a:pt x="10" y="355"/>
                </a:lnTo>
                <a:lnTo>
                  <a:pt x="16" y="299"/>
                </a:lnTo>
                <a:lnTo>
                  <a:pt x="16" y="280"/>
                </a:lnTo>
                <a:lnTo>
                  <a:pt x="12" y="265"/>
                </a:lnTo>
                <a:lnTo>
                  <a:pt x="14" y="229"/>
                </a:lnTo>
                <a:lnTo>
                  <a:pt x="12" y="179"/>
                </a:lnTo>
                <a:lnTo>
                  <a:pt x="12" y="175"/>
                </a:lnTo>
                <a:lnTo>
                  <a:pt x="4" y="152"/>
                </a:lnTo>
                <a:lnTo>
                  <a:pt x="3" y="126"/>
                </a:lnTo>
                <a:lnTo>
                  <a:pt x="5" y="118"/>
                </a:lnTo>
                <a:lnTo>
                  <a:pt x="4" y="95"/>
                </a:lnTo>
                <a:lnTo>
                  <a:pt x="13" y="61"/>
                </a:lnTo>
                <a:lnTo>
                  <a:pt x="10" y="47"/>
                </a:lnTo>
                <a:lnTo>
                  <a:pt x="15" y="51"/>
                </a:lnTo>
                <a:lnTo>
                  <a:pt x="57" y="118"/>
                </a:lnTo>
                <a:lnTo>
                  <a:pt x="95" y="143"/>
                </a:lnTo>
                <a:lnTo>
                  <a:pt x="95" y="147"/>
                </a:lnTo>
                <a:lnTo>
                  <a:pt x="120" y="158"/>
                </a:lnTo>
                <a:lnTo>
                  <a:pt x="129" y="175"/>
                </a:lnTo>
                <a:lnTo>
                  <a:pt x="135" y="179"/>
                </a:lnTo>
                <a:lnTo>
                  <a:pt x="136" y="166"/>
                </a:lnTo>
                <a:lnTo>
                  <a:pt x="143" y="171"/>
                </a:lnTo>
                <a:lnTo>
                  <a:pt x="139" y="175"/>
                </a:lnTo>
                <a:lnTo>
                  <a:pt x="141" y="187"/>
                </a:lnTo>
                <a:lnTo>
                  <a:pt x="142" y="185"/>
                </a:lnTo>
                <a:lnTo>
                  <a:pt x="145" y="225"/>
                </a:lnTo>
                <a:lnTo>
                  <a:pt x="134" y="240"/>
                </a:lnTo>
                <a:lnTo>
                  <a:pt x="134" y="244"/>
                </a:lnTo>
                <a:lnTo>
                  <a:pt x="150" y="225"/>
                </a:lnTo>
                <a:lnTo>
                  <a:pt x="154" y="227"/>
                </a:lnTo>
                <a:lnTo>
                  <a:pt x="153" y="254"/>
                </a:lnTo>
                <a:lnTo>
                  <a:pt x="151" y="252"/>
                </a:lnTo>
                <a:lnTo>
                  <a:pt x="146" y="298"/>
                </a:lnTo>
                <a:lnTo>
                  <a:pt x="147" y="299"/>
                </a:lnTo>
                <a:lnTo>
                  <a:pt x="148" y="317"/>
                </a:lnTo>
                <a:lnTo>
                  <a:pt x="151" y="328"/>
                </a:lnTo>
                <a:lnTo>
                  <a:pt x="141" y="334"/>
                </a:lnTo>
                <a:lnTo>
                  <a:pt x="139" y="326"/>
                </a:lnTo>
                <a:lnTo>
                  <a:pt x="138" y="326"/>
                </a:lnTo>
                <a:lnTo>
                  <a:pt x="140" y="340"/>
                </a:lnTo>
                <a:lnTo>
                  <a:pt x="147" y="340"/>
                </a:lnTo>
                <a:lnTo>
                  <a:pt x="155" y="332"/>
                </a:lnTo>
                <a:lnTo>
                  <a:pt x="153" y="315"/>
                </a:lnTo>
                <a:lnTo>
                  <a:pt x="160" y="250"/>
                </a:lnTo>
                <a:lnTo>
                  <a:pt x="173" y="219"/>
                </a:lnTo>
                <a:lnTo>
                  <a:pt x="176" y="217"/>
                </a:lnTo>
                <a:lnTo>
                  <a:pt x="178" y="210"/>
                </a:lnTo>
                <a:lnTo>
                  <a:pt x="172" y="183"/>
                </a:lnTo>
                <a:lnTo>
                  <a:pt x="172" y="162"/>
                </a:lnTo>
                <a:lnTo>
                  <a:pt x="167" y="181"/>
                </a:lnTo>
                <a:lnTo>
                  <a:pt x="169" y="194"/>
                </a:lnTo>
                <a:lnTo>
                  <a:pt x="165" y="179"/>
                </a:lnTo>
                <a:lnTo>
                  <a:pt x="161" y="177"/>
                </a:lnTo>
                <a:lnTo>
                  <a:pt x="162" y="152"/>
                </a:lnTo>
                <a:lnTo>
                  <a:pt x="172" y="156"/>
                </a:lnTo>
                <a:lnTo>
                  <a:pt x="175" y="149"/>
                </a:lnTo>
                <a:lnTo>
                  <a:pt x="168" y="131"/>
                </a:lnTo>
                <a:lnTo>
                  <a:pt x="162" y="122"/>
                </a:lnTo>
                <a:lnTo>
                  <a:pt x="153" y="149"/>
                </a:lnTo>
                <a:lnTo>
                  <a:pt x="156" y="191"/>
                </a:lnTo>
                <a:lnTo>
                  <a:pt x="158" y="191"/>
                </a:lnTo>
                <a:lnTo>
                  <a:pt x="159" y="183"/>
                </a:lnTo>
                <a:lnTo>
                  <a:pt x="169" y="200"/>
                </a:lnTo>
                <a:lnTo>
                  <a:pt x="165" y="225"/>
                </a:lnTo>
                <a:lnTo>
                  <a:pt x="158" y="204"/>
                </a:lnTo>
                <a:lnTo>
                  <a:pt x="151" y="192"/>
                </a:lnTo>
                <a:lnTo>
                  <a:pt x="153" y="166"/>
                </a:lnTo>
                <a:lnTo>
                  <a:pt x="146" y="152"/>
                </a:lnTo>
                <a:lnTo>
                  <a:pt x="156" y="116"/>
                </a:lnTo>
                <a:lnTo>
                  <a:pt x="162" y="74"/>
                </a:lnTo>
                <a:lnTo>
                  <a:pt x="170" y="112"/>
                </a:lnTo>
                <a:lnTo>
                  <a:pt x="176" y="76"/>
                </a:lnTo>
                <a:lnTo>
                  <a:pt x="178" y="57"/>
                </a:lnTo>
                <a:lnTo>
                  <a:pt x="169" y="51"/>
                </a:lnTo>
                <a:lnTo>
                  <a:pt x="168" y="72"/>
                </a:lnTo>
                <a:lnTo>
                  <a:pt x="162" y="24"/>
                </a:lnTo>
                <a:lnTo>
                  <a:pt x="166" y="0"/>
                </a:lnTo>
                <a:lnTo>
                  <a:pt x="299" y="59"/>
                </a:lnTo>
                <a:lnTo>
                  <a:pt x="441" y="118"/>
                </a:lnTo>
                <a:lnTo>
                  <a:pt x="486" y="135"/>
                </a:lnTo>
                <a:lnTo>
                  <a:pt x="540" y="156"/>
                </a:lnTo>
                <a:lnTo>
                  <a:pt x="569" y="166"/>
                </a:lnTo>
                <a:lnTo>
                  <a:pt x="569" y="173"/>
                </a:lnTo>
                <a:lnTo>
                  <a:pt x="568" y="183"/>
                </a:lnTo>
                <a:lnTo>
                  <a:pt x="566" y="196"/>
                </a:lnTo>
                <a:lnTo>
                  <a:pt x="555" y="309"/>
                </a:lnTo>
                <a:lnTo>
                  <a:pt x="552" y="340"/>
                </a:lnTo>
                <a:lnTo>
                  <a:pt x="550" y="355"/>
                </a:lnTo>
                <a:lnTo>
                  <a:pt x="549" y="361"/>
                </a:lnTo>
                <a:lnTo>
                  <a:pt x="549" y="364"/>
                </a:lnTo>
                <a:lnTo>
                  <a:pt x="549" y="368"/>
                </a:lnTo>
                <a:lnTo>
                  <a:pt x="543" y="414"/>
                </a:lnTo>
                <a:lnTo>
                  <a:pt x="541" y="439"/>
                </a:lnTo>
                <a:lnTo>
                  <a:pt x="536" y="490"/>
                </a:lnTo>
                <a:lnTo>
                  <a:pt x="534" y="511"/>
                </a:lnTo>
                <a:lnTo>
                  <a:pt x="533" y="513"/>
                </a:lnTo>
                <a:lnTo>
                  <a:pt x="531" y="538"/>
                </a:lnTo>
                <a:lnTo>
                  <a:pt x="523" y="613"/>
                </a:lnTo>
                <a:lnTo>
                  <a:pt x="522" y="622"/>
                </a:lnTo>
                <a:lnTo>
                  <a:pt x="519" y="655"/>
                </a:lnTo>
                <a:lnTo>
                  <a:pt x="519" y="662"/>
                </a:lnTo>
                <a:lnTo>
                  <a:pt x="517" y="678"/>
                </a:lnTo>
                <a:close/>
              </a:path>
            </a:pathLst>
          </a:custGeom>
          <a:solidFill>
            <a:srgbClr val="00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38360" y="1552680"/>
            <a:ext cx="49320" cy="36360"/>
          </a:xfrm>
          <a:custGeom>
            <a:avLst/>
            <a:gdLst/>
            <a:ahLst/>
            <a:rect l="l" t="t" r="r" b="b"/>
            <a:pathLst>
              <a:path w="31" h="48">
                <a:moveTo>
                  <a:pt x="3" y="0"/>
                </a:moveTo>
                <a:lnTo>
                  <a:pt x="7" y="21"/>
                </a:lnTo>
                <a:lnTo>
                  <a:pt x="10" y="25"/>
                </a:lnTo>
                <a:lnTo>
                  <a:pt x="12" y="6"/>
                </a:lnTo>
                <a:lnTo>
                  <a:pt x="31" y="13"/>
                </a:lnTo>
                <a:lnTo>
                  <a:pt x="21" y="48"/>
                </a:lnTo>
                <a:lnTo>
                  <a:pt x="7" y="46"/>
                </a:lnTo>
                <a:lnTo>
                  <a:pt x="0" y="33"/>
                </a:lnTo>
                <a:lnTo>
                  <a:pt x="3" y="0"/>
                </a:lnTo>
                <a:close/>
              </a:path>
            </a:pathLst>
          </a:custGeom>
          <a:solidFill>
            <a:srgbClr val="00ff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4419720"/>
            <a:ext cx="2048040" cy="1673280"/>
          </a:xfrm>
          <a:custGeom>
            <a:avLst/>
            <a:gdLst/>
            <a:ahLst/>
            <a:rect l="l" t="t" r="r" b="b"/>
            <a:pathLst>
              <a:path w="1290" h="2109">
                <a:moveTo>
                  <a:pt x="213" y="1725"/>
                </a:moveTo>
                <a:lnTo>
                  <a:pt x="211" y="1754"/>
                </a:lnTo>
                <a:lnTo>
                  <a:pt x="214" y="1754"/>
                </a:lnTo>
                <a:lnTo>
                  <a:pt x="237" y="1750"/>
                </a:lnTo>
                <a:lnTo>
                  <a:pt x="248" y="1744"/>
                </a:lnTo>
                <a:lnTo>
                  <a:pt x="259" y="1729"/>
                </a:lnTo>
                <a:lnTo>
                  <a:pt x="268" y="1721"/>
                </a:lnTo>
                <a:lnTo>
                  <a:pt x="272" y="1719"/>
                </a:lnTo>
                <a:lnTo>
                  <a:pt x="279" y="1700"/>
                </a:lnTo>
                <a:lnTo>
                  <a:pt x="287" y="1704"/>
                </a:lnTo>
                <a:lnTo>
                  <a:pt x="289" y="1696"/>
                </a:lnTo>
                <a:lnTo>
                  <a:pt x="301" y="1683"/>
                </a:lnTo>
                <a:lnTo>
                  <a:pt x="317" y="1681"/>
                </a:lnTo>
                <a:lnTo>
                  <a:pt x="324" y="1668"/>
                </a:lnTo>
                <a:lnTo>
                  <a:pt x="335" y="1647"/>
                </a:lnTo>
                <a:lnTo>
                  <a:pt x="340" y="1637"/>
                </a:lnTo>
                <a:lnTo>
                  <a:pt x="342" y="1628"/>
                </a:lnTo>
                <a:lnTo>
                  <a:pt x="369" y="1586"/>
                </a:lnTo>
                <a:lnTo>
                  <a:pt x="386" y="1574"/>
                </a:lnTo>
                <a:lnTo>
                  <a:pt x="421" y="1547"/>
                </a:lnTo>
                <a:lnTo>
                  <a:pt x="432" y="1538"/>
                </a:lnTo>
                <a:lnTo>
                  <a:pt x="447" y="1496"/>
                </a:lnTo>
                <a:lnTo>
                  <a:pt x="460" y="1494"/>
                </a:lnTo>
                <a:lnTo>
                  <a:pt x="472" y="1471"/>
                </a:lnTo>
                <a:lnTo>
                  <a:pt x="472" y="1458"/>
                </a:lnTo>
                <a:lnTo>
                  <a:pt x="471" y="1442"/>
                </a:lnTo>
                <a:lnTo>
                  <a:pt x="461" y="1439"/>
                </a:lnTo>
                <a:lnTo>
                  <a:pt x="462" y="1412"/>
                </a:lnTo>
                <a:lnTo>
                  <a:pt x="474" y="1412"/>
                </a:lnTo>
                <a:lnTo>
                  <a:pt x="474" y="1398"/>
                </a:lnTo>
                <a:lnTo>
                  <a:pt x="491" y="1362"/>
                </a:lnTo>
                <a:lnTo>
                  <a:pt x="518" y="1311"/>
                </a:lnTo>
                <a:lnTo>
                  <a:pt x="533" y="1337"/>
                </a:lnTo>
                <a:lnTo>
                  <a:pt x="525" y="1368"/>
                </a:lnTo>
                <a:lnTo>
                  <a:pt x="516" y="1419"/>
                </a:lnTo>
                <a:lnTo>
                  <a:pt x="522" y="1454"/>
                </a:lnTo>
                <a:lnTo>
                  <a:pt x="551" y="1454"/>
                </a:lnTo>
                <a:lnTo>
                  <a:pt x="605" y="1423"/>
                </a:lnTo>
                <a:lnTo>
                  <a:pt x="619" y="1389"/>
                </a:lnTo>
                <a:lnTo>
                  <a:pt x="646" y="1383"/>
                </a:lnTo>
                <a:lnTo>
                  <a:pt x="682" y="1416"/>
                </a:lnTo>
                <a:lnTo>
                  <a:pt x="705" y="1383"/>
                </a:lnTo>
                <a:lnTo>
                  <a:pt x="741" y="1368"/>
                </a:lnTo>
                <a:lnTo>
                  <a:pt x="789" y="1416"/>
                </a:lnTo>
                <a:lnTo>
                  <a:pt x="779" y="1435"/>
                </a:lnTo>
                <a:lnTo>
                  <a:pt x="787" y="1448"/>
                </a:lnTo>
                <a:lnTo>
                  <a:pt x="792" y="1446"/>
                </a:lnTo>
                <a:lnTo>
                  <a:pt x="804" y="1429"/>
                </a:lnTo>
                <a:lnTo>
                  <a:pt x="857" y="1431"/>
                </a:lnTo>
                <a:lnTo>
                  <a:pt x="914" y="1475"/>
                </a:lnTo>
                <a:lnTo>
                  <a:pt x="914" y="1479"/>
                </a:lnTo>
                <a:lnTo>
                  <a:pt x="1015" y="1595"/>
                </a:lnTo>
                <a:lnTo>
                  <a:pt x="1013" y="1607"/>
                </a:lnTo>
                <a:lnTo>
                  <a:pt x="1061" y="1691"/>
                </a:lnTo>
                <a:lnTo>
                  <a:pt x="1059" y="1715"/>
                </a:lnTo>
                <a:lnTo>
                  <a:pt x="1063" y="1723"/>
                </a:lnTo>
                <a:lnTo>
                  <a:pt x="1068" y="1735"/>
                </a:lnTo>
                <a:lnTo>
                  <a:pt x="1069" y="1748"/>
                </a:lnTo>
                <a:lnTo>
                  <a:pt x="1072" y="1757"/>
                </a:lnTo>
                <a:lnTo>
                  <a:pt x="1082" y="1819"/>
                </a:lnTo>
                <a:lnTo>
                  <a:pt x="1115" y="1914"/>
                </a:lnTo>
                <a:lnTo>
                  <a:pt x="1122" y="1927"/>
                </a:lnTo>
                <a:lnTo>
                  <a:pt x="1128" y="1945"/>
                </a:lnTo>
                <a:lnTo>
                  <a:pt x="1122" y="1960"/>
                </a:lnTo>
                <a:lnTo>
                  <a:pt x="1137" y="1979"/>
                </a:lnTo>
                <a:lnTo>
                  <a:pt x="1144" y="1958"/>
                </a:lnTo>
                <a:lnTo>
                  <a:pt x="1151" y="2103"/>
                </a:lnTo>
                <a:lnTo>
                  <a:pt x="1264" y="2109"/>
                </a:lnTo>
                <a:lnTo>
                  <a:pt x="1289" y="2048"/>
                </a:lnTo>
                <a:lnTo>
                  <a:pt x="1285" y="2013"/>
                </a:lnTo>
                <a:lnTo>
                  <a:pt x="1290" y="1979"/>
                </a:lnTo>
                <a:lnTo>
                  <a:pt x="1289" y="1954"/>
                </a:lnTo>
                <a:lnTo>
                  <a:pt x="1255" y="1916"/>
                </a:lnTo>
                <a:lnTo>
                  <a:pt x="1237" y="1889"/>
                </a:lnTo>
                <a:lnTo>
                  <a:pt x="1212" y="1801"/>
                </a:lnTo>
                <a:lnTo>
                  <a:pt x="1185" y="1706"/>
                </a:lnTo>
                <a:lnTo>
                  <a:pt x="1180" y="1673"/>
                </a:lnTo>
                <a:lnTo>
                  <a:pt x="1148" y="1607"/>
                </a:lnTo>
                <a:lnTo>
                  <a:pt x="1126" y="1559"/>
                </a:lnTo>
                <a:lnTo>
                  <a:pt x="1127" y="1553"/>
                </a:lnTo>
                <a:lnTo>
                  <a:pt x="1111" y="1505"/>
                </a:lnTo>
                <a:lnTo>
                  <a:pt x="1103" y="1511"/>
                </a:lnTo>
                <a:lnTo>
                  <a:pt x="1083" y="1523"/>
                </a:lnTo>
                <a:lnTo>
                  <a:pt x="1075" y="1538"/>
                </a:lnTo>
                <a:lnTo>
                  <a:pt x="1073" y="1559"/>
                </a:lnTo>
                <a:lnTo>
                  <a:pt x="1069" y="1570"/>
                </a:lnTo>
                <a:lnTo>
                  <a:pt x="1035" y="1591"/>
                </a:lnTo>
                <a:lnTo>
                  <a:pt x="1032" y="1555"/>
                </a:lnTo>
                <a:lnTo>
                  <a:pt x="997" y="1482"/>
                </a:lnTo>
                <a:lnTo>
                  <a:pt x="979" y="1450"/>
                </a:lnTo>
                <a:lnTo>
                  <a:pt x="985" y="1417"/>
                </a:lnTo>
                <a:lnTo>
                  <a:pt x="964" y="1416"/>
                </a:lnTo>
                <a:lnTo>
                  <a:pt x="936" y="1414"/>
                </a:lnTo>
                <a:lnTo>
                  <a:pt x="918" y="1410"/>
                </a:lnTo>
                <a:lnTo>
                  <a:pt x="928" y="1228"/>
                </a:lnTo>
                <a:lnTo>
                  <a:pt x="954" y="778"/>
                </a:lnTo>
                <a:lnTo>
                  <a:pt x="972" y="480"/>
                </a:lnTo>
                <a:lnTo>
                  <a:pt x="979" y="346"/>
                </a:lnTo>
                <a:lnTo>
                  <a:pt x="908" y="268"/>
                </a:lnTo>
                <a:lnTo>
                  <a:pt x="858" y="277"/>
                </a:lnTo>
                <a:lnTo>
                  <a:pt x="700" y="161"/>
                </a:lnTo>
                <a:lnTo>
                  <a:pt x="635" y="159"/>
                </a:lnTo>
                <a:lnTo>
                  <a:pt x="618" y="105"/>
                </a:lnTo>
                <a:lnTo>
                  <a:pt x="484" y="0"/>
                </a:lnTo>
                <a:lnTo>
                  <a:pt x="405" y="33"/>
                </a:lnTo>
                <a:lnTo>
                  <a:pt x="290" y="61"/>
                </a:lnTo>
                <a:lnTo>
                  <a:pt x="208" y="187"/>
                </a:lnTo>
                <a:lnTo>
                  <a:pt x="129" y="174"/>
                </a:lnTo>
                <a:lnTo>
                  <a:pt x="99" y="229"/>
                </a:lnTo>
                <a:lnTo>
                  <a:pt x="142" y="283"/>
                </a:lnTo>
                <a:lnTo>
                  <a:pt x="182" y="350"/>
                </a:lnTo>
                <a:lnTo>
                  <a:pt x="188" y="394"/>
                </a:lnTo>
                <a:lnTo>
                  <a:pt x="221" y="440"/>
                </a:lnTo>
                <a:lnTo>
                  <a:pt x="190" y="464"/>
                </a:lnTo>
                <a:lnTo>
                  <a:pt x="162" y="453"/>
                </a:lnTo>
                <a:lnTo>
                  <a:pt x="81" y="478"/>
                </a:lnTo>
                <a:lnTo>
                  <a:pt x="32" y="503"/>
                </a:lnTo>
                <a:lnTo>
                  <a:pt x="24" y="508"/>
                </a:lnTo>
                <a:lnTo>
                  <a:pt x="74" y="676"/>
                </a:lnTo>
                <a:lnTo>
                  <a:pt x="157" y="699"/>
                </a:lnTo>
                <a:lnTo>
                  <a:pt x="190" y="739"/>
                </a:lnTo>
                <a:lnTo>
                  <a:pt x="211" y="716"/>
                </a:lnTo>
                <a:lnTo>
                  <a:pt x="250" y="768"/>
                </a:lnTo>
                <a:lnTo>
                  <a:pt x="249" y="783"/>
                </a:lnTo>
                <a:lnTo>
                  <a:pt x="253" y="814"/>
                </a:lnTo>
                <a:lnTo>
                  <a:pt x="214" y="841"/>
                </a:lnTo>
                <a:lnTo>
                  <a:pt x="200" y="814"/>
                </a:lnTo>
                <a:lnTo>
                  <a:pt x="186" y="814"/>
                </a:lnTo>
                <a:lnTo>
                  <a:pt x="185" y="850"/>
                </a:lnTo>
                <a:lnTo>
                  <a:pt x="143" y="839"/>
                </a:lnTo>
                <a:lnTo>
                  <a:pt x="131" y="831"/>
                </a:lnTo>
                <a:lnTo>
                  <a:pt x="90" y="885"/>
                </a:lnTo>
                <a:lnTo>
                  <a:pt x="78" y="919"/>
                </a:lnTo>
                <a:lnTo>
                  <a:pt x="53" y="946"/>
                </a:lnTo>
                <a:lnTo>
                  <a:pt x="39" y="999"/>
                </a:lnTo>
                <a:lnTo>
                  <a:pt x="57" y="1072"/>
                </a:lnTo>
                <a:lnTo>
                  <a:pt x="68" y="1089"/>
                </a:lnTo>
                <a:lnTo>
                  <a:pt x="59" y="1118"/>
                </a:lnTo>
                <a:lnTo>
                  <a:pt x="54" y="1127"/>
                </a:lnTo>
                <a:lnTo>
                  <a:pt x="58" y="1137"/>
                </a:lnTo>
                <a:lnTo>
                  <a:pt x="95" y="1246"/>
                </a:lnTo>
                <a:lnTo>
                  <a:pt x="163" y="1253"/>
                </a:lnTo>
                <a:lnTo>
                  <a:pt x="168" y="1295"/>
                </a:lnTo>
                <a:lnTo>
                  <a:pt x="163" y="1301"/>
                </a:lnTo>
                <a:lnTo>
                  <a:pt x="164" y="1368"/>
                </a:lnTo>
                <a:lnTo>
                  <a:pt x="150" y="1377"/>
                </a:lnTo>
                <a:lnTo>
                  <a:pt x="166" y="1406"/>
                </a:lnTo>
                <a:lnTo>
                  <a:pt x="180" y="1398"/>
                </a:lnTo>
                <a:lnTo>
                  <a:pt x="184" y="1396"/>
                </a:lnTo>
                <a:lnTo>
                  <a:pt x="184" y="1412"/>
                </a:lnTo>
                <a:lnTo>
                  <a:pt x="193" y="1416"/>
                </a:lnTo>
                <a:lnTo>
                  <a:pt x="196" y="1414"/>
                </a:lnTo>
                <a:lnTo>
                  <a:pt x="209" y="1383"/>
                </a:lnTo>
                <a:lnTo>
                  <a:pt x="223" y="1395"/>
                </a:lnTo>
                <a:lnTo>
                  <a:pt x="231" y="1404"/>
                </a:lnTo>
                <a:lnTo>
                  <a:pt x="246" y="1400"/>
                </a:lnTo>
                <a:lnTo>
                  <a:pt x="256" y="1452"/>
                </a:lnTo>
                <a:lnTo>
                  <a:pt x="259" y="1456"/>
                </a:lnTo>
                <a:lnTo>
                  <a:pt x="266" y="1458"/>
                </a:lnTo>
                <a:lnTo>
                  <a:pt x="275" y="1452"/>
                </a:lnTo>
                <a:lnTo>
                  <a:pt x="275" y="1448"/>
                </a:lnTo>
                <a:lnTo>
                  <a:pt x="295" y="1448"/>
                </a:lnTo>
                <a:lnTo>
                  <a:pt x="305" y="1482"/>
                </a:lnTo>
                <a:lnTo>
                  <a:pt x="296" y="1549"/>
                </a:lnTo>
                <a:lnTo>
                  <a:pt x="254" y="1610"/>
                </a:lnTo>
                <a:lnTo>
                  <a:pt x="249" y="1614"/>
                </a:lnTo>
                <a:lnTo>
                  <a:pt x="235" y="1628"/>
                </a:lnTo>
                <a:lnTo>
                  <a:pt x="206" y="1647"/>
                </a:lnTo>
                <a:lnTo>
                  <a:pt x="129" y="1693"/>
                </a:lnTo>
                <a:lnTo>
                  <a:pt x="105" y="1721"/>
                </a:lnTo>
                <a:lnTo>
                  <a:pt x="66" y="1759"/>
                </a:lnTo>
                <a:lnTo>
                  <a:pt x="29" y="1765"/>
                </a:lnTo>
                <a:lnTo>
                  <a:pt x="18" y="1771"/>
                </a:lnTo>
                <a:lnTo>
                  <a:pt x="2" y="1794"/>
                </a:lnTo>
                <a:lnTo>
                  <a:pt x="0" y="1801"/>
                </a:lnTo>
                <a:lnTo>
                  <a:pt x="9" y="1830"/>
                </a:lnTo>
                <a:lnTo>
                  <a:pt x="17" y="1830"/>
                </a:lnTo>
                <a:lnTo>
                  <a:pt x="32" y="1815"/>
                </a:lnTo>
                <a:lnTo>
                  <a:pt x="72" y="1822"/>
                </a:lnTo>
                <a:lnTo>
                  <a:pt x="74" y="1796"/>
                </a:lnTo>
                <a:lnTo>
                  <a:pt x="94" y="1796"/>
                </a:lnTo>
                <a:lnTo>
                  <a:pt x="93" y="1838"/>
                </a:lnTo>
                <a:lnTo>
                  <a:pt x="119" y="1830"/>
                </a:lnTo>
                <a:lnTo>
                  <a:pt x="133" y="1805"/>
                </a:lnTo>
                <a:lnTo>
                  <a:pt x="152" y="1765"/>
                </a:lnTo>
                <a:lnTo>
                  <a:pt x="159" y="1761"/>
                </a:lnTo>
                <a:lnTo>
                  <a:pt x="159" y="1800"/>
                </a:lnTo>
                <a:lnTo>
                  <a:pt x="177" y="1794"/>
                </a:lnTo>
                <a:lnTo>
                  <a:pt x="177" y="1838"/>
                </a:lnTo>
                <a:lnTo>
                  <a:pt x="204" y="1824"/>
                </a:lnTo>
                <a:lnTo>
                  <a:pt x="213" y="1849"/>
                </a:lnTo>
                <a:lnTo>
                  <a:pt x="218" y="1842"/>
                </a:lnTo>
                <a:lnTo>
                  <a:pt x="213" y="1792"/>
                </a:lnTo>
                <a:lnTo>
                  <a:pt x="193" y="1767"/>
                </a:lnTo>
                <a:lnTo>
                  <a:pt x="213" y="1725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71560" y="5554800"/>
            <a:ext cx="204840" cy="190440"/>
          </a:xfrm>
          <a:custGeom>
            <a:avLst/>
            <a:gdLst/>
            <a:ahLst/>
            <a:rect l="l" t="t" r="r" b="b"/>
            <a:pathLst>
              <a:path w="129" h="241">
                <a:moveTo>
                  <a:pt x="5" y="138"/>
                </a:moveTo>
                <a:lnTo>
                  <a:pt x="13" y="155"/>
                </a:lnTo>
                <a:lnTo>
                  <a:pt x="13" y="211"/>
                </a:lnTo>
                <a:lnTo>
                  <a:pt x="0" y="232"/>
                </a:lnTo>
                <a:lnTo>
                  <a:pt x="3" y="241"/>
                </a:lnTo>
                <a:lnTo>
                  <a:pt x="35" y="239"/>
                </a:lnTo>
                <a:lnTo>
                  <a:pt x="41" y="228"/>
                </a:lnTo>
                <a:lnTo>
                  <a:pt x="41" y="216"/>
                </a:lnTo>
                <a:lnTo>
                  <a:pt x="96" y="155"/>
                </a:lnTo>
                <a:lnTo>
                  <a:pt x="102" y="163"/>
                </a:lnTo>
                <a:lnTo>
                  <a:pt x="111" y="136"/>
                </a:lnTo>
                <a:lnTo>
                  <a:pt x="106" y="83"/>
                </a:lnTo>
                <a:lnTo>
                  <a:pt x="123" y="81"/>
                </a:lnTo>
                <a:lnTo>
                  <a:pt x="129" y="75"/>
                </a:lnTo>
                <a:lnTo>
                  <a:pt x="129" y="50"/>
                </a:lnTo>
                <a:lnTo>
                  <a:pt x="121" y="50"/>
                </a:lnTo>
                <a:lnTo>
                  <a:pt x="114" y="37"/>
                </a:lnTo>
                <a:lnTo>
                  <a:pt x="118" y="27"/>
                </a:lnTo>
                <a:lnTo>
                  <a:pt x="107" y="0"/>
                </a:lnTo>
                <a:lnTo>
                  <a:pt x="13" y="117"/>
                </a:lnTo>
                <a:lnTo>
                  <a:pt x="5" y="138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5821200"/>
            <a:ext cx="296640" cy="100080"/>
          </a:xfrm>
          <a:custGeom>
            <a:avLst/>
            <a:gdLst/>
            <a:ahLst/>
            <a:rect l="l" t="t" r="r" b="b"/>
            <a:pathLst>
              <a:path w="187" h="126">
                <a:moveTo>
                  <a:pt x="129" y="23"/>
                </a:moveTo>
                <a:lnTo>
                  <a:pt x="125" y="19"/>
                </a:lnTo>
                <a:lnTo>
                  <a:pt x="107" y="13"/>
                </a:lnTo>
                <a:lnTo>
                  <a:pt x="94" y="21"/>
                </a:lnTo>
                <a:lnTo>
                  <a:pt x="93" y="24"/>
                </a:lnTo>
                <a:lnTo>
                  <a:pt x="91" y="26"/>
                </a:lnTo>
                <a:lnTo>
                  <a:pt x="90" y="30"/>
                </a:lnTo>
                <a:lnTo>
                  <a:pt x="90" y="38"/>
                </a:lnTo>
                <a:lnTo>
                  <a:pt x="92" y="40"/>
                </a:lnTo>
                <a:lnTo>
                  <a:pt x="92" y="47"/>
                </a:lnTo>
                <a:lnTo>
                  <a:pt x="91" y="51"/>
                </a:lnTo>
                <a:lnTo>
                  <a:pt x="88" y="51"/>
                </a:lnTo>
                <a:lnTo>
                  <a:pt x="87" y="61"/>
                </a:lnTo>
                <a:lnTo>
                  <a:pt x="84" y="63"/>
                </a:lnTo>
                <a:lnTo>
                  <a:pt x="82" y="63"/>
                </a:lnTo>
                <a:lnTo>
                  <a:pt x="79" y="66"/>
                </a:lnTo>
                <a:lnTo>
                  <a:pt x="76" y="65"/>
                </a:lnTo>
                <a:lnTo>
                  <a:pt x="69" y="68"/>
                </a:lnTo>
                <a:lnTo>
                  <a:pt x="66" y="68"/>
                </a:lnTo>
                <a:lnTo>
                  <a:pt x="68" y="66"/>
                </a:lnTo>
                <a:lnTo>
                  <a:pt x="69" y="59"/>
                </a:lnTo>
                <a:lnTo>
                  <a:pt x="68" y="55"/>
                </a:lnTo>
                <a:lnTo>
                  <a:pt x="61" y="45"/>
                </a:lnTo>
                <a:lnTo>
                  <a:pt x="53" y="44"/>
                </a:lnTo>
                <a:lnTo>
                  <a:pt x="44" y="49"/>
                </a:lnTo>
                <a:lnTo>
                  <a:pt x="39" y="65"/>
                </a:lnTo>
                <a:lnTo>
                  <a:pt x="32" y="68"/>
                </a:lnTo>
                <a:lnTo>
                  <a:pt x="23" y="78"/>
                </a:lnTo>
                <a:lnTo>
                  <a:pt x="20" y="84"/>
                </a:lnTo>
                <a:lnTo>
                  <a:pt x="7" y="99"/>
                </a:lnTo>
                <a:lnTo>
                  <a:pt x="4" y="105"/>
                </a:lnTo>
                <a:lnTo>
                  <a:pt x="1" y="116"/>
                </a:lnTo>
                <a:lnTo>
                  <a:pt x="0" y="124"/>
                </a:lnTo>
                <a:lnTo>
                  <a:pt x="4" y="126"/>
                </a:lnTo>
                <a:lnTo>
                  <a:pt x="20" y="116"/>
                </a:lnTo>
                <a:lnTo>
                  <a:pt x="22" y="118"/>
                </a:lnTo>
                <a:lnTo>
                  <a:pt x="31" y="110"/>
                </a:lnTo>
                <a:lnTo>
                  <a:pt x="36" y="116"/>
                </a:lnTo>
                <a:lnTo>
                  <a:pt x="40" y="110"/>
                </a:lnTo>
                <a:lnTo>
                  <a:pt x="41" y="99"/>
                </a:lnTo>
                <a:lnTo>
                  <a:pt x="47" y="93"/>
                </a:lnTo>
                <a:lnTo>
                  <a:pt x="55" y="89"/>
                </a:lnTo>
                <a:lnTo>
                  <a:pt x="64" y="95"/>
                </a:lnTo>
                <a:lnTo>
                  <a:pt x="73" y="97"/>
                </a:lnTo>
                <a:lnTo>
                  <a:pt x="89" y="86"/>
                </a:lnTo>
                <a:lnTo>
                  <a:pt x="103" y="87"/>
                </a:lnTo>
                <a:lnTo>
                  <a:pt x="110" y="82"/>
                </a:lnTo>
                <a:lnTo>
                  <a:pt x="119" y="70"/>
                </a:lnTo>
                <a:lnTo>
                  <a:pt x="131" y="61"/>
                </a:lnTo>
                <a:lnTo>
                  <a:pt x="137" y="53"/>
                </a:lnTo>
                <a:lnTo>
                  <a:pt x="137" y="42"/>
                </a:lnTo>
                <a:lnTo>
                  <a:pt x="176" y="44"/>
                </a:lnTo>
                <a:lnTo>
                  <a:pt x="187" y="26"/>
                </a:lnTo>
                <a:lnTo>
                  <a:pt x="187" y="21"/>
                </a:lnTo>
                <a:lnTo>
                  <a:pt x="182" y="17"/>
                </a:lnTo>
                <a:lnTo>
                  <a:pt x="156" y="0"/>
                </a:lnTo>
                <a:lnTo>
                  <a:pt x="140" y="2"/>
                </a:lnTo>
                <a:lnTo>
                  <a:pt x="133" y="9"/>
                </a:lnTo>
                <a:lnTo>
                  <a:pt x="129" y="23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1040" y="4819680"/>
            <a:ext cx="176040" cy="108000"/>
          </a:xfrm>
          <a:custGeom>
            <a:avLst/>
            <a:gdLst/>
            <a:ahLst/>
            <a:rect l="l" t="t" r="r" b="b"/>
            <a:pathLst>
              <a:path w="111" h="135">
                <a:moveTo>
                  <a:pt x="0" y="51"/>
                </a:moveTo>
                <a:lnTo>
                  <a:pt x="9" y="0"/>
                </a:lnTo>
                <a:lnTo>
                  <a:pt x="67" y="49"/>
                </a:lnTo>
                <a:lnTo>
                  <a:pt x="111" y="101"/>
                </a:lnTo>
                <a:lnTo>
                  <a:pt x="99" y="133"/>
                </a:lnTo>
                <a:lnTo>
                  <a:pt x="73" y="135"/>
                </a:lnTo>
                <a:lnTo>
                  <a:pt x="0" y="51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1920" y="5872320"/>
            <a:ext cx="322200" cy="63360"/>
          </a:xfrm>
          <a:custGeom>
            <a:avLst/>
            <a:gdLst/>
            <a:ahLst/>
            <a:rect l="l" t="t" r="r" b="b"/>
            <a:pathLst>
              <a:path w="203" h="80">
                <a:moveTo>
                  <a:pt x="0" y="36"/>
                </a:moveTo>
                <a:lnTo>
                  <a:pt x="12" y="49"/>
                </a:lnTo>
                <a:lnTo>
                  <a:pt x="42" y="64"/>
                </a:lnTo>
                <a:lnTo>
                  <a:pt x="46" y="68"/>
                </a:lnTo>
                <a:lnTo>
                  <a:pt x="57" y="63"/>
                </a:lnTo>
                <a:lnTo>
                  <a:pt x="72" y="61"/>
                </a:lnTo>
                <a:lnTo>
                  <a:pt x="74" y="59"/>
                </a:lnTo>
                <a:lnTo>
                  <a:pt x="83" y="59"/>
                </a:lnTo>
                <a:lnTo>
                  <a:pt x="95" y="51"/>
                </a:lnTo>
                <a:lnTo>
                  <a:pt x="124" y="53"/>
                </a:lnTo>
                <a:lnTo>
                  <a:pt x="145" y="61"/>
                </a:lnTo>
                <a:lnTo>
                  <a:pt x="157" y="59"/>
                </a:lnTo>
                <a:lnTo>
                  <a:pt x="175" y="76"/>
                </a:lnTo>
                <a:lnTo>
                  <a:pt x="199" y="80"/>
                </a:lnTo>
                <a:lnTo>
                  <a:pt x="203" y="74"/>
                </a:lnTo>
                <a:lnTo>
                  <a:pt x="202" y="66"/>
                </a:lnTo>
                <a:lnTo>
                  <a:pt x="180" y="49"/>
                </a:lnTo>
                <a:lnTo>
                  <a:pt x="170" y="49"/>
                </a:lnTo>
                <a:lnTo>
                  <a:pt x="161" y="45"/>
                </a:lnTo>
                <a:lnTo>
                  <a:pt x="166" y="34"/>
                </a:lnTo>
                <a:lnTo>
                  <a:pt x="165" y="21"/>
                </a:lnTo>
                <a:lnTo>
                  <a:pt x="156" y="11"/>
                </a:lnTo>
                <a:lnTo>
                  <a:pt x="148" y="17"/>
                </a:lnTo>
                <a:lnTo>
                  <a:pt x="143" y="28"/>
                </a:lnTo>
                <a:lnTo>
                  <a:pt x="109" y="36"/>
                </a:lnTo>
                <a:lnTo>
                  <a:pt x="93" y="24"/>
                </a:lnTo>
                <a:lnTo>
                  <a:pt x="89" y="22"/>
                </a:lnTo>
                <a:lnTo>
                  <a:pt x="88" y="17"/>
                </a:lnTo>
                <a:lnTo>
                  <a:pt x="81" y="11"/>
                </a:lnTo>
                <a:lnTo>
                  <a:pt x="64" y="17"/>
                </a:lnTo>
                <a:lnTo>
                  <a:pt x="56" y="17"/>
                </a:lnTo>
                <a:lnTo>
                  <a:pt x="42" y="11"/>
                </a:lnTo>
                <a:lnTo>
                  <a:pt x="26" y="17"/>
                </a:lnTo>
                <a:lnTo>
                  <a:pt x="15" y="1"/>
                </a:lnTo>
                <a:lnTo>
                  <a:pt x="2" y="0"/>
                </a:lnTo>
                <a:lnTo>
                  <a:pt x="0" y="36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17440" y="5267160"/>
            <a:ext cx="109800" cy="66960"/>
          </a:xfrm>
          <a:custGeom>
            <a:avLst/>
            <a:gdLst/>
            <a:ahLst/>
            <a:rect l="l" t="t" r="r" b="b"/>
            <a:pathLst>
              <a:path w="69" h="84">
                <a:moveTo>
                  <a:pt x="0" y="16"/>
                </a:moveTo>
                <a:lnTo>
                  <a:pt x="52" y="0"/>
                </a:lnTo>
                <a:lnTo>
                  <a:pt x="64" y="18"/>
                </a:lnTo>
                <a:lnTo>
                  <a:pt x="69" y="60"/>
                </a:lnTo>
                <a:lnTo>
                  <a:pt x="69" y="83"/>
                </a:lnTo>
                <a:lnTo>
                  <a:pt x="40" y="84"/>
                </a:lnTo>
                <a:lnTo>
                  <a:pt x="7" y="42"/>
                </a:lnTo>
                <a:lnTo>
                  <a:pt x="0" y="16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5320" y="5845320"/>
            <a:ext cx="73080" cy="34920"/>
          </a:xfrm>
          <a:custGeom>
            <a:avLst/>
            <a:gdLst/>
            <a:ahLst/>
            <a:rect l="l" t="t" r="r" b="b"/>
            <a:pathLst>
              <a:path w="46" h="44">
                <a:moveTo>
                  <a:pt x="0" y="19"/>
                </a:moveTo>
                <a:lnTo>
                  <a:pt x="1" y="15"/>
                </a:lnTo>
                <a:lnTo>
                  <a:pt x="17" y="0"/>
                </a:lnTo>
                <a:lnTo>
                  <a:pt x="38" y="6"/>
                </a:lnTo>
                <a:lnTo>
                  <a:pt x="46" y="21"/>
                </a:lnTo>
                <a:lnTo>
                  <a:pt x="46" y="27"/>
                </a:lnTo>
                <a:lnTo>
                  <a:pt x="31" y="40"/>
                </a:lnTo>
                <a:lnTo>
                  <a:pt x="21" y="44"/>
                </a:lnTo>
                <a:lnTo>
                  <a:pt x="18" y="35"/>
                </a:lnTo>
                <a:lnTo>
                  <a:pt x="6" y="33"/>
                </a:lnTo>
                <a:lnTo>
                  <a:pt x="0" y="19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14320" y="5878440"/>
            <a:ext cx="46080" cy="38160"/>
          </a:xfrm>
          <a:custGeom>
            <a:avLst/>
            <a:gdLst/>
            <a:ahLst/>
            <a:rect l="l" t="t" r="r" b="b"/>
            <a:pathLst>
              <a:path w="29" h="48">
                <a:moveTo>
                  <a:pt x="0" y="38"/>
                </a:moveTo>
                <a:lnTo>
                  <a:pt x="2" y="44"/>
                </a:lnTo>
                <a:lnTo>
                  <a:pt x="7" y="48"/>
                </a:lnTo>
                <a:lnTo>
                  <a:pt x="11" y="42"/>
                </a:lnTo>
                <a:lnTo>
                  <a:pt x="19" y="46"/>
                </a:lnTo>
                <a:lnTo>
                  <a:pt x="23" y="46"/>
                </a:lnTo>
                <a:lnTo>
                  <a:pt x="26" y="36"/>
                </a:lnTo>
                <a:lnTo>
                  <a:pt x="29" y="17"/>
                </a:lnTo>
                <a:lnTo>
                  <a:pt x="29" y="12"/>
                </a:lnTo>
                <a:lnTo>
                  <a:pt x="25" y="2"/>
                </a:lnTo>
                <a:lnTo>
                  <a:pt x="23" y="0"/>
                </a:lnTo>
                <a:lnTo>
                  <a:pt x="19" y="4"/>
                </a:lnTo>
                <a:lnTo>
                  <a:pt x="9" y="14"/>
                </a:lnTo>
                <a:lnTo>
                  <a:pt x="6" y="15"/>
                </a:lnTo>
                <a:lnTo>
                  <a:pt x="0" y="38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76160" y="6114960"/>
            <a:ext cx="69840" cy="30240"/>
          </a:xfrm>
          <a:custGeom>
            <a:avLst/>
            <a:gdLst/>
            <a:ahLst/>
            <a:rect l="l" t="t" r="r" b="b"/>
            <a:pathLst>
              <a:path w="44" h="38">
                <a:moveTo>
                  <a:pt x="0" y="19"/>
                </a:moveTo>
                <a:lnTo>
                  <a:pt x="2" y="30"/>
                </a:lnTo>
                <a:lnTo>
                  <a:pt x="13" y="38"/>
                </a:lnTo>
                <a:lnTo>
                  <a:pt x="44" y="13"/>
                </a:lnTo>
                <a:lnTo>
                  <a:pt x="43" y="2"/>
                </a:lnTo>
                <a:lnTo>
                  <a:pt x="35" y="0"/>
                </a:lnTo>
                <a:lnTo>
                  <a:pt x="0" y="19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66840" y="5830920"/>
            <a:ext cx="44280" cy="30240"/>
          </a:xfrm>
          <a:custGeom>
            <a:avLst/>
            <a:gdLst/>
            <a:ahLst/>
            <a:rect l="l" t="t" r="r" b="b"/>
            <a:pathLst>
              <a:path w="28" h="36">
                <a:moveTo>
                  <a:pt x="0" y="15"/>
                </a:moveTo>
                <a:lnTo>
                  <a:pt x="7" y="0"/>
                </a:lnTo>
                <a:lnTo>
                  <a:pt x="24" y="15"/>
                </a:lnTo>
                <a:lnTo>
                  <a:pt x="28" y="25"/>
                </a:lnTo>
                <a:lnTo>
                  <a:pt x="12" y="36"/>
                </a:lnTo>
                <a:lnTo>
                  <a:pt x="0" y="15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0120" y="5878440"/>
            <a:ext cx="33120" cy="23760"/>
          </a:xfrm>
          <a:custGeom>
            <a:avLst/>
            <a:gdLst/>
            <a:ahLst/>
            <a:rect l="l" t="t" r="r" b="b"/>
            <a:pathLst>
              <a:path w="21" h="31">
                <a:moveTo>
                  <a:pt x="1" y="2"/>
                </a:moveTo>
                <a:lnTo>
                  <a:pt x="4" y="0"/>
                </a:lnTo>
                <a:lnTo>
                  <a:pt x="12" y="2"/>
                </a:lnTo>
                <a:lnTo>
                  <a:pt x="21" y="19"/>
                </a:lnTo>
                <a:lnTo>
                  <a:pt x="20" y="31"/>
                </a:lnTo>
                <a:lnTo>
                  <a:pt x="5" y="31"/>
                </a:lnTo>
                <a:lnTo>
                  <a:pt x="0" y="25"/>
                </a:lnTo>
                <a:lnTo>
                  <a:pt x="1" y="2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3480" y="5905440"/>
            <a:ext cx="30240" cy="22320"/>
          </a:xfrm>
          <a:custGeom>
            <a:avLst/>
            <a:gdLst/>
            <a:ahLst/>
            <a:rect l="l" t="t" r="r" b="b"/>
            <a:pathLst>
              <a:path w="19" h="26">
                <a:moveTo>
                  <a:pt x="0" y="15"/>
                </a:moveTo>
                <a:lnTo>
                  <a:pt x="4" y="3"/>
                </a:lnTo>
                <a:lnTo>
                  <a:pt x="13" y="0"/>
                </a:lnTo>
                <a:lnTo>
                  <a:pt x="19" y="15"/>
                </a:lnTo>
                <a:lnTo>
                  <a:pt x="10" y="26"/>
                </a:lnTo>
                <a:lnTo>
                  <a:pt x="1" y="22"/>
                </a:lnTo>
                <a:lnTo>
                  <a:pt x="0" y="15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4480" y="5902200"/>
            <a:ext cx="25560" cy="23760"/>
          </a:xfrm>
          <a:custGeom>
            <a:avLst/>
            <a:gdLst/>
            <a:ahLst/>
            <a:rect l="l" t="t" r="r" b="b"/>
            <a:pathLst>
              <a:path w="16" h="28">
                <a:moveTo>
                  <a:pt x="0" y="11"/>
                </a:moveTo>
                <a:lnTo>
                  <a:pt x="11" y="0"/>
                </a:lnTo>
                <a:lnTo>
                  <a:pt x="16" y="7"/>
                </a:lnTo>
                <a:lnTo>
                  <a:pt x="14" y="15"/>
                </a:lnTo>
                <a:lnTo>
                  <a:pt x="5" y="28"/>
                </a:lnTo>
                <a:lnTo>
                  <a:pt x="0" y="23"/>
                </a:lnTo>
                <a:lnTo>
                  <a:pt x="0" y="11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4280" y="5853240"/>
            <a:ext cx="30240" cy="12600"/>
          </a:xfrm>
          <a:custGeom>
            <a:avLst/>
            <a:gdLst/>
            <a:ahLst/>
            <a:rect l="l" t="t" r="r" b="b"/>
            <a:pathLst>
              <a:path w="19" h="15">
                <a:moveTo>
                  <a:pt x="0" y="9"/>
                </a:moveTo>
                <a:lnTo>
                  <a:pt x="2" y="2"/>
                </a:lnTo>
                <a:lnTo>
                  <a:pt x="14" y="0"/>
                </a:lnTo>
                <a:lnTo>
                  <a:pt x="19" y="9"/>
                </a:lnTo>
                <a:lnTo>
                  <a:pt x="14" y="15"/>
                </a:lnTo>
                <a:lnTo>
                  <a:pt x="2" y="15"/>
                </a:lnTo>
                <a:lnTo>
                  <a:pt x="0" y="9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24000" y="3629160"/>
            <a:ext cx="897120" cy="1011240"/>
          </a:xfrm>
          <a:custGeom>
            <a:avLst/>
            <a:gdLst/>
            <a:ahLst/>
            <a:rect l="l" t="t" r="r" b="b"/>
            <a:pathLst>
              <a:path w="565" h="1274">
                <a:moveTo>
                  <a:pt x="0" y="882"/>
                </a:moveTo>
                <a:lnTo>
                  <a:pt x="11" y="858"/>
                </a:lnTo>
                <a:lnTo>
                  <a:pt x="28" y="856"/>
                </a:lnTo>
                <a:lnTo>
                  <a:pt x="35" y="804"/>
                </a:lnTo>
                <a:lnTo>
                  <a:pt x="28" y="798"/>
                </a:lnTo>
                <a:lnTo>
                  <a:pt x="19" y="779"/>
                </a:lnTo>
                <a:lnTo>
                  <a:pt x="24" y="724"/>
                </a:lnTo>
                <a:lnTo>
                  <a:pt x="32" y="714"/>
                </a:lnTo>
                <a:lnTo>
                  <a:pt x="47" y="663"/>
                </a:lnTo>
                <a:lnTo>
                  <a:pt x="52" y="609"/>
                </a:lnTo>
                <a:lnTo>
                  <a:pt x="56" y="603"/>
                </a:lnTo>
                <a:lnTo>
                  <a:pt x="60" y="586"/>
                </a:lnTo>
                <a:lnTo>
                  <a:pt x="77" y="573"/>
                </a:lnTo>
                <a:lnTo>
                  <a:pt x="86" y="560"/>
                </a:lnTo>
                <a:lnTo>
                  <a:pt x="89" y="548"/>
                </a:lnTo>
                <a:lnTo>
                  <a:pt x="71" y="514"/>
                </a:lnTo>
                <a:lnTo>
                  <a:pt x="72" y="502"/>
                </a:lnTo>
                <a:lnTo>
                  <a:pt x="66" y="453"/>
                </a:lnTo>
                <a:lnTo>
                  <a:pt x="57" y="422"/>
                </a:lnTo>
                <a:lnTo>
                  <a:pt x="59" y="393"/>
                </a:lnTo>
                <a:lnTo>
                  <a:pt x="67" y="344"/>
                </a:lnTo>
                <a:lnTo>
                  <a:pt x="67" y="239"/>
                </a:lnTo>
                <a:lnTo>
                  <a:pt x="72" y="214"/>
                </a:lnTo>
                <a:lnTo>
                  <a:pt x="69" y="166"/>
                </a:lnTo>
                <a:lnTo>
                  <a:pt x="90" y="162"/>
                </a:lnTo>
                <a:lnTo>
                  <a:pt x="109" y="195"/>
                </a:lnTo>
                <a:lnTo>
                  <a:pt x="130" y="164"/>
                </a:lnTo>
                <a:lnTo>
                  <a:pt x="141" y="32"/>
                </a:lnTo>
                <a:lnTo>
                  <a:pt x="144" y="0"/>
                </a:lnTo>
                <a:lnTo>
                  <a:pt x="171" y="8"/>
                </a:lnTo>
                <a:lnTo>
                  <a:pt x="199" y="15"/>
                </a:lnTo>
                <a:lnTo>
                  <a:pt x="240" y="27"/>
                </a:lnTo>
                <a:lnTo>
                  <a:pt x="242" y="29"/>
                </a:lnTo>
                <a:lnTo>
                  <a:pt x="253" y="30"/>
                </a:lnTo>
                <a:lnTo>
                  <a:pt x="270" y="36"/>
                </a:lnTo>
                <a:lnTo>
                  <a:pt x="337" y="53"/>
                </a:lnTo>
                <a:lnTo>
                  <a:pt x="358" y="59"/>
                </a:lnTo>
                <a:lnTo>
                  <a:pt x="366" y="61"/>
                </a:lnTo>
                <a:lnTo>
                  <a:pt x="379" y="65"/>
                </a:lnTo>
                <a:lnTo>
                  <a:pt x="400" y="69"/>
                </a:lnTo>
                <a:lnTo>
                  <a:pt x="421" y="74"/>
                </a:lnTo>
                <a:lnTo>
                  <a:pt x="443" y="78"/>
                </a:lnTo>
                <a:lnTo>
                  <a:pt x="444" y="80"/>
                </a:lnTo>
                <a:lnTo>
                  <a:pt x="484" y="90"/>
                </a:lnTo>
                <a:lnTo>
                  <a:pt x="516" y="97"/>
                </a:lnTo>
                <a:lnTo>
                  <a:pt x="527" y="99"/>
                </a:lnTo>
                <a:lnTo>
                  <a:pt x="565" y="107"/>
                </a:lnTo>
                <a:lnTo>
                  <a:pt x="562" y="158"/>
                </a:lnTo>
                <a:lnTo>
                  <a:pt x="559" y="210"/>
                </a:lnTo>
                <a:lnTo>
                  <a:pt x="553" y="313"/>
                </a:lnTo>
                <a:lnTo>
                  <a:pt x="548" y="409"/>
                </a:lnTo>
                <a:lnTo>
                  <a:pt x="547" y="416"/>
                </a:lnTo>
                <a:lnTo>
                  <a:pt x="541" y="527"/>
                </a:lnTo>
                <a:lnTo>
                  <a:pt x="539" y="563"/>
                </a:lnTo>
                <a:lnTo>
                  <a:pt x="539" y="567"/>
                </a:lnTo>
                <a:lnTo>
                  <a:pt x="536" y="605"/>
                </a:lnTo>
                <a:lnTo>
                  <a:pt x="534" y="647"/>
                </a:lnTo>
                <a:lnTo>
                  <a:pt x="529" y="726"/>
                </a:lnTo>
                <a:lnTo>
                  <a:pt x="527" y="772"/>
                </a:lnTo>
                <a:lnTo>
                  <a:pt x="527" y="775"/>
                </a:lnTo>
                <a:lnTo>
                  <a:pt x="527" y="777"/>
                </a:lnTo>
                <a:lnTo>
                  <a:pt x="520" y="888"/>
                </a:lnTo>
                <a:lnTo>
                  <a:pt x="519" y="900"/>
                </a:lnTo>
                <a:lnTo>
                  <a:pt x="518" y="930"/>
                </a:lnTo>
                <a:lnTo>
                  <a:pt x="515" y="976"/>
                </a:lnTo>
                <a:lnTo>
                  <a:pt x="515" y="982"/>
                </a:lnTo>
                <a:lnTo>
                  <a:pt x="512" y="1033"/>
                </a:lnTo>
                <a:lnTo>
                  <a:pt x="511" y="1049"/>
                </a:lnTo>
                <a:lnTo>
                  <a:pt x="500" y="1230"/>
                </a:lnTo>
                <a:lnTo>
                  <a:pt x="500" y="1234"/>
                </a:lnTo>
                <a:lnTo>
                  <a:pt x="497" y="1274"/>
                </a:lnTo>
                <a:lnTo>
                  <a:pt x="370" y="1245"/>
                </a:lnTo>
                <a:lnTo>
                  <a:pt x="314" y="1232"/>
                </a:lnTo>
                <a:lnTo>
                  <a:pt x="291" y="1209"/>
                </a:lnTo>
                <a:lnTo>
                  <a:pt x="289" y="1207"/>
                </a:lnTo>
                <a:lnTo>
                  <a:pt x="278" y="1194"/>
                </a:lnTo>
                <a:lnTo>
                  <a:pt x="277" y="1194"/>
                </a:lnTo>
                <a:lnTo>
                  <a:pt x="123" y="1033"/>
                </a:lnTo>
                <a:lnTo>
                  <a:pt x="11" y="913"/>
                </a:lnTo>
                <a:lnTo>
                  <a:pt x="0" y="882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2400" y="5726160"/>
            <a:ext cx="192240" cy="216000"/>
          </a:xfrm>
          <a:custGeom>
            <a:avLst/>
            <a:gdLst/>
            <a:ahLst/>
            <a:rect l="l" t="t" r="r" b="b"/>
            <a:pathLst>
              <a:path w="121" h="273">
                <a:moveTo>
                  <a:pt x="0" y="100"/>
                </a:moveTo>
                <a:lnTo>
                  <a:pt x="15" y="193"/>
                </a:lnTo>
                <a:lnTo>
                  <a:pt x="11" y="231"/>
                </a:lnTo>
                <a:lnTo>
                  <a:pt x="16" y="250"/>
                </a:lnTo>
                <a:lnTo>
                  <a:pt x="37" y="273"/>
                </a:lnTo>
                <a:lnTo>
                  <a:pt x="52" y="233"/>
                </a:lnTo>
                <a:lnTo>
                  <a:pt x="78" y="203"/>
                </a:lnTo>
                <a:lnTo>
                  <a:pt x="83" y="207"/>
                </a:lnTo>
                <a:lnTo>
                  <a:pt x="101" y="191"/>
                </a:lnTo>
                <a:lnTo>
                  <a:pt x="115" y="170"/>
                </a:lnTo>
                <a:lnTo>
                  <a:pt x="121" y="155"/>
                </a:lnTo>
                <a:lnTo>
                  <a:pt x="111" y="142"/>
                </a:lnTo>
                <a:lnTo>
                  <a:pt x="104" y="128"/>
                </a:lnTo>
                <a:lnTo>
                  <a:pt x="103" y="111"/>
                </a:lnTo>
                <a:lnTo>
                  <a:pt x="94" y="107"/>
                </a:lnTo>
                <a:lnTo>
                  <a:pt x="94" y="84"/>
                </a:lnTo>
                <a:lnTo>
                  <a:pt x="85" y="65"/>
                </a:lnTo>
                <a:lnTo>
                  <a:pt x="61" y="37"/>
                </a:lnTo>
                <a:lnTo>
                  <a:pt x="42" y="25"/>
                </a:lnTo>
                <a:lnTo>
                  <a:pt x="30" y="6"/>
                </a:lnTo>
                <a:lnTo>
                  <a:pt x="18" y="0"/>
                </a:lnTo>
                <a:lnTo>
                  <a:pt x="22" y="54"/>
                </a:lnTo>
                <a:lnTo>
                  <a:pt x="0" y="100"/>
                </a:lnTo>
                <a:close/>
              </a:path>
            </a:pathLst>
          </a:custGeom>
          <a:solidFill>
            <a:srgbClr val="0000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97360" y="5597640"/>
            <a:ext cx="106200" cy="74520"/>
          </a:xfrm>
          <a:custGeom>
            <a:avLst/>
            <a:gdLst/>
            <a:ahLst/>
            <a:rect l="l" t="t" r="r" b="b"/>
            <a:pathLst>
              <a:path w="67" h="93">
                <a:moveTo>
                  <a:pt x="0" y="32"/>
                </a:moveTo>
                <a:lnTo>
                  <a:pt x="0" y="11"/>
                </a:lnTo>
                <a:lnTo>
                  <a:pt x="9" y="0"/>
                </a:lnTo>
                <a:lnTo>
                  <a:pt x="23" y="28"/>
                </a:lnTo>
                <a:lnTo>
                  <a:pt x="36" y="19"/>
                </a:lnTo>
                <a:lnTo>
                  <a:pt x="44" y="21"/>
                </a:lnTo>
                <a:lnTo>
                  <a:pt x="55" y="44"/>
                </a:lnTo>
                <a:lnTo>
                  <a:pt x="65" y="49"/>
                </a:lnTo>
                <a:lnTo>
                  <a:pt x="67" y="69"/>
                </a:lnTo>
                <a:lnTo>
                  <a:pt x="53" y="86"/>
                </a:lnTo>
                <a:lnTo>
                  <a:pt x="46" y="84"/>
                </a:lnTo>
                <a:lnTo>
                  <a:pt x="35" y="93"/>
                </a:lnTo>
                <a:lnTo>
                  <a:pt x="26" y="93"/>
                </a:lnTo>
                <a:lnTo>
                  <a:pt x="22" y="61"/>
                </a:lnTo>
                <a:lnTo>
                  <a:pt x="0" y="32"/>
                </a:lnTo>
                <a:close/>
              </a:path>
            </a:pathLst>
          </a:custGeom>
          <a:solidFill>
            <a:srgbClr val="0000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5486400"/>
            <a:ext cx="92160" cy="71280"/>
          </a:xfrm>
          <a:custGeom>
            <a:avLst/>
            <a:gdLst/>
            <a:ahLst/>
            <a:rect l="l" t="t" r="r" b="b"/>
            <a:pathLst>
              <a:path w="58" h="90">
                <a:moveTo>
                  <a:pt x="0" y="21"/>
                </a:moveTo>
                <a:lnTo>
                  <a:pt x="14" y="79"/>
                </a:lnTo>
                <a:lnTo>
                  <a:pt x="34" y="79"/>
                </a:lnTo>
                <a:lnTo>
                  <a:pt x="42" y="86"/>
                </a:lnTo>
                <a:lnTo>
                  <a:pt x="50" y="86"/>
                </a:lnTo>
                <a:lnTo>
                  <a:pt x="54" y="90"/>
                </a:lnTo>
                <a:lnTo>
                  <a:pt x="58" y="75"/>
                </a:lnTo>
                <a:lnTo>
                  <a:pt x="53" y="67"/>
                </a:lnTo>
                <a:lnTo>
                  <a:pt x="47" y="48"/>
                </a:lnTo>
                <a:lnTo>
                  <a:pt x="40" y="41"/>
                </a:lnTo>
                <a:lnTo>
                  <a:pt x="42" y="35"/>
                </a:lnTo>
                <a:lnTo>
                  <a:pt x="33" y="4"/>
                </a:lnTo>
                <a:lnTo>
                  <a:pt x="24" y="0"/>
                </a:lnTo>
                <a:lnTo>
                  <a:pt x="12" y="21"/>
                </a:lnTo>
                <a:lnTo>
                  <a:pt x="0" y="21"/>
                </a:lnTo>
                <a:close/>
              </a:path>
            </a:pathLst>
          </a:custGeom>
          <a:solidFill>
            <a:srgbClr val="0000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30560" y="5518080"/>
            <a:ext cx="74880" cy="57240"/>
          </a:xfrm>
          <a:custGeom>
            <a:avLst/>
            <a:gdLst/>
            <a:ahLst/>
            <a:rect l="l" t="t" r="r" b="b"/>
            <a:pathLst>
              <a:path w="47" h="73">
                <a:moveTo>
                  <a:pt x="0" y="33"/>
                </a:moveTo>
                <a:lnTo>
                  <a:pt x="9" y="54"/>
                </a:lnTo>
                <a:lnTo>
                  <a:pt x="18" y="67"/>
                </a:lnTo>
                <a:lnTo>
                  <a:pt x="29" y="73"/>
                </a:lnTo>
                <a:lnTo>
                  <a:pt x="37" y="67"/>
                </a:lnTo>
                <a:lnTo>
                  <a:pt x="43" y="50"/>
                </a:lnTo>
                <a:lnTo>
                  <a:pt x="47" y="23"/>
                </a:lnTo>
                <a:lnTo>
                  <a:pt x="42" y="4"/>
                </a:lnTo>
                <a:lnTo>
                  <a:pt x="28" y="0"/>
                </a:lnTo>
                <a:lnTo>
                  <a:pt x="16" y="6"/>
                </a:lnTo>
                <a:lnTo>
                  <a:pt x="0" y="33"/>
                </a:lnTo>
                <a:close/>
              </a:path>
            </a:pathLst>
          </a:custGeom>
          <a:solidFill>
            <a:srgbClr val="0000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3760" y="5565600"/>
            <a:ext cx="90360" cy="28800"/>
          </a:xfrm>
          <a:custGeom>
            <a:avLst/>
            <a:gdLst/>
            <a:ahLst/>
            <a:rect l="l" t="t" r="r" b="b"/>
            <a:pathLst>
              <a:path w="57" h="36">
                <a:moveTo>
                  <a:pt x="28" y="7"/>
                </a:moveTo>
                <a:lnTo>
                  <a:pt x="34" y="7"/>
                </a:lnTo>
                <a:lnTo>
                  <a:pt x="36" y="9"/>
                </a:lnTo>
                <a:lnTo>
                  <a:pt x="37" y="11"/>
                </a:lnTo>
                <a:lnTo>
                  <a:pt x="57" y="13"/>
                </a:lnTo>
                <a:lnTo>
                  <a:pt x="44" y="34"/>
                </a:lnTo>
                <a:lnTo>
                  <a:pt x="41" y="36"/>
                </a:lnTo>
                <a:lnTo>
                  <a:pt x="20" y="23"/>
                </a:lnTo>
                <a:lnTo>
                  <a:pt x="0" y="24"/>
                </a:lnTo>
                <a:lnTo>
                  <a:pt x="4" y="0"/>
                </a:lnTo>
                <a:lnTo>
                  <a:pt x="28" y="7"/>
                </a:lnTo>
                <a:close/>
              </a:path>
            </a:pathLst>
          </a:custGeom>
          <a:solidFill>
            <a:srgbClr val="0000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43360" y="5614920"/>
            <a:ext cx="33480" cy="28800"/>
          </a:xfrm>
          <a:custGeom>
            <a:avLst/>
            <a:gdLst/>
            <a:ahLst/>
            <a:rect l="l" t="t" r="r" b="b"/>
            <a:pathLst>
              <a:path w="21" h="36">
                <a:moveTo>
                  <a:pt x="0" y="0"/>
                </a:moveTo>
                <a:lnTo>
                  <a:pt x="4" y="25"/>
                </a:lnTo>
                <a:lnTo>
                  <a:pt x="14" y="36"/>
                </a:lnTo>
                <a:lnTo>
                  <a:pt x="21" y="25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60600" y="5421240"/>
            <a:ext cx="24120" cy="34920"/>
          </a:xfrm>
          <a:custGeom>
            <a:avLst/>
            <a:gdLst/>
            <a:ahLst/>
            <a:rect l="l" t="t" r="r" b="b"/>
            <a:pathLst>
              <a:path w="15" h="44">
                <a:moveTo>
                  <a:pt x="0" y="29"/>
                </a:moveTo>
                <a:lnTo>
                  <a:pt x="14" y="0"/>
                </a:lnTo>
                <a:lnTo>
                  <a:pt x="15" y="23"/>
                </a:lnTo>
                <a:lnTo>
                  <a:pt x="3" y="44"/>
                </a:lnTo>
                <a:lnTo>
                  <a:pt x="0" y="29"/>
                </a:lnTo>
                <a:close/>
              </a:path>
            </a:pathLst>
          </a:custGeom>
          <a:solidFill>
            <a:srgbClr val="0000f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13120" y="3713040"/>
            <a:ext cx="920520" cy="939960"/>
          </a:xfrm>
          <a:custGeom>
            <a:avLst/>
            <a:gdLst/>
            <a:ahLst/>
            <a:rect l="l" t="t" r="r" b="b"/>
            <a:pathLst>
              <a:path w="580" h="1182">
                <a:moveTo>
                  <a:pt x="17" y="1169"/>
                </a:moveTo>
                <a:lnTo>
                  <a:pt x="77" y="1182"/>
                </a:lnTo>
                <a:lnTo>
                  <a:pt x="81" y="1089"/>
                </a:lnTo>
                <a:lnTo>
                  <a:pt x="163" y="1104"/>
                </a:lnTo>
                <a:lnTo>
                  <a:pt x="233" y="1115"/>
                </a:lnTo>
                <a:lnTo>
                  <a:pt x="224" y="1091"/>
                </a:lnTo>
                <a:lnTo>
                  <a:pt x="227" y="1087"/>
                </a:lnTo>
                <a:lnTo>
                  <a:pt x="225" y="1073"/>
                </a:lnTo>
                <a:lnTo>
                  <a:pt x="227" y="1070"/>
                </a:lnTo>
                <a:lnTo>
                  <a:pt x="249" y="1073"/>
                </a:lnTo>
                <a:lnTo>
                  <a:pt x="260" y="1075"/>
                </a:lnTo>
                <a:lnTo>
                  <a:pt x="271" y="1075"/>
                </a:lnTo>
                <a:lnTo>
                  <a:pt x="283" y="1077"/>
                </a:lnTo>
                <a:lnTo>
                  <a:pt x="338" y="1087"/>
                </a:lnTo>
                <a:lnTo>
                  <a:pt x="363" y="1091"/>
                </a:lnTo>
                <a:lnTo>
                  <a:pt x="379" y="1092"/>
                </a:lnTo>
                <a:lnTo>
                  <a:pt x="387" y="1092"/>
                </a:lnTo>
                <a:lnTo>
                  <a:pt x="430" y="1098"/>
                </a:lnTo>
                <a:lnTo>
                  <a:pt x="439" y="1100"/>
                </a:lnTo>
                <a:lnTo>
                  <a:pt x="460" y="1102"/>
                </a:lnTo>
                <a:lnTo>
                  <a:pt x="464" y="1102"/>
                </a:lnTo>
                <a:lnTo>
                  <a:pt x="485" y="1104"/>
                </a:lnTo>
                <a:lnTo>
                  <a:pt x="486" y="1104"/>
                </a:lnTo>
                <a:lnTo>
                  <a:pt x="487" y="1104"/>
                </a:lnTo>
                <a:lnTo>
                  <a:pt x="496" y="1106"/>
                </a:lnTo>
                <a:lnTo>
                  <a:pt x="519" y="1108"/>
                </a:lnTo>
                <a:lnTo>
                  <a:pt x="523" y="1108"/>
                </a:lnTo>
                <a:lnTo>
                  <a:pt x="541" y="1110"/>
                </a:lnTo>
                <a:lnTo>
                  <a:pt x="546" y="1112"/>
                </a:lnTo>
                <a:lnTo>
                  <a:pt x="547" y="1092"/>
                </a:lnTo>
                <a:lnTo>
                  <a:pt x="548" y="1060"/>
                </a:lnTo>
                <a:lnTo>
                  <a:pt x="549" y="1012"/>
                </a:lnTo>
                <a:lnTo>
                  <a:pt x="549" y="1003"/>
                </a:lnTo>
                <a:lnTo>
                  <a:pt x="550" y="982"/>
                </a:lnTo>
                <a:lnTo>
                  <a:pt x="551" y="942"/>
                </a:lnTo>
                <a:lnTo>
                  <a:pt x="552" y="913"/>
                </a:lnTo>
                <a:lnTo>
                  <a:pt x="553" y="879"/>
                </a:lnTo>
                <a:lnTo>
                  <a:pt x="555" y="827"/>
                </a:lnTo>
                <a:lnTo>
                  <a:pt x="555" y="823"/>
                </a:lnTo>
                <a:lnTo>
                  <a:pt x="555" y="800"/>
                </a:lnTo>
                <a:lnTo>
                  <a:pt x="556" y="794"/>
                </a:lnTo>
                <a:lnTo>
                  <a:pt x="556" y="787"/>
                </a:lnTo>
                <a:lnTo>
                  <a:pt x="557" y="766"/>
                </a:lnTo>
                <a:lnTo>
                  <a:pt x="557" y="758"/>
                </a:lnTo>
                <a:lnTo>
                  <a:pt x="558" y="733"/>
                </a:lnTo>
                <a:lnTo>
                  <a:pt x="559" y="697"/>
                </a:lnTo>
                <a:lnTo>
                  <a:pt x="560" y="645"/>
                </a:lnTo>
                <a:lnTo>
                  <a:pt x="561" y="636"/>
                </a:lnTo>
                <a:lnTo>
                  <a:pt x="561" y="632"/>
                </a:lnTo>
                <a:lnTo>
                  <a:pt x="561" y="609"/>
                </a:lnTo>
                <a:lnTo>
                  <a:pt x="562" y="594"/>
                </a:lnTo>
                <a:lnTo>
                  <a:pt x="563" y="542"/>
                </a:lnTo>
                <a:lnTo>
                  <a:pt x="564" y="519"/>
                </a:lnTo>
                <a:lnTo>
                  <a:pt x="564" y="516"/>
                </a:lnTo>
                <a:lnTo>
                  <a:pt x="564" y="500"/>
                </a:lnTo>
                <a:lnTo>
                  <a:pt x="565" y="491"/>
                </a:lnTo>
                <a:lnTo>
                  <a:pt x="565" y="464"/>
                </a:lnTo>
                <a:lnTo>
                  <a:pt x="566" y="453"/>
                </a:lnTo>
                <a:lnTo>
                  <a:pt x="566" y="435"/>
                </a:lnTo>
                <a:lnTo>
                  <a:pt x="566" y="422"/>
                </a:lnTo>
                <a:lnTo>
                  <a:pt x="568" y="363"/>
                </a:lnTo>
                <a:lnTo>
                  <a:pt x="568" y="361"/>
                </a:lnTo>
                <a:lnTo>
                  <a:pt x="569" y="338"/>
                </a:lnTo>
                <a:lnTo>
                  <a:pt x="569" y="336"/>
                </a:lnTo>
                <a:lnTo>
                  <a:pt x="569" y="330"/>
                </a:lnTo>
                <a:lnTo>
                  <a:pt x="570" y="273"/>
                </a:lnTo>
                <a:lnTo>
                  <a:pt x="573" y="179"/>
                </a:lnTo>
                <a:lnTo>
                  <a:pt x="576" y="181"/>
                </a:lnTo>
                <a:lnTo>
                  <a:pt x="578" y="135"/>
                </a:lnTo>
                <a:lnTo>
                  <a:pt x="579" y="103"/>
                </a:lnTo>
                <a:lnTo>
                  <a:pt x="580" y="76"/>
                </a:lnTo>
                <a:lnTo>
                  <a:pt x="572" y="76"/>
                </a:lnTo>
                <a:lnTo>
                  <a:pt x="552" y="74"/>
                </a:lnTo>
                <a:lnTo>
                  <a:pt x="547" y="74"/>
                </a:lnTo>
                <a:lnTo>
                  <a:pt x="494" y="69"/>
                </a:lnTo>
                <a:lnTo>
                  <a:pt x="463" y="67"/>
                </a:lnTo>
                <a:lnTo>
                  <a:pt x="416" y="61"/>
                </a:lnTo>
                <a:lnTo>
                  <a:pt x="397" y="57"/>
                </a:lnTo>
                <a:lnTo>
                  <a:pt x="392" y="57"/>
                </a:lnTo>
                <a:lnTo>
                  <a:pt x="349" y="50"/>
                </a:lnTo>
                <a:lnTo>
                  <a:pt x="346" y="50"/>
                </a:lnTo>
                <a:lnTo>
                  <a:pt x="336" y="48"/>
                </a:lnTo>
                <a:lnTo>
                  <a:pt x="324" y="48"/>
                </a:lnTo>
                <a:lnTo>
                  <a:pt x="285" y="42"/>
                </a:lnTo>
                <a:lnTo>
                  <a:pt x="205" y="27"/>
                </a:lnTo>
                <a:lnTo>
                  <a:pt x="203" y="27"/>
                </a:lnTo>
                <a:lnTo>
                  <a:pt x="200" y="25"/>
                </a:lnTo>
                <a:lnTo>
                  <a:pt x="199" y="25"/>
                </a:lnTo>
                <a:lnTo>
                  <a:pt x="145" y="15"/>
                </a:lnTo>
                <a:lnTo>
                  <a:pt x="124" y="11"/>
                </a:lnTo>
                <a:lnTo>
                  <a:pt x="99" y="8"/>
                </a:lnTo>
                <a:lnTo>
                  <a:pt x="93" y="6"/>
                </a:lnTo>
                <a:lnTo>
                  <a:pt x="68" y="0"/>
                </a:lnTo>
                <a:lnTo>
                  <a:pt x="65" y="51"/>
                </a:lnTo>
                <a:lnTo>
                  <a:pt x="62" y="103"/>
                </a:lnTo>
                <a:lnTo>
                  <a:pt x="56" y="206"/>
                </a:lnTo>
                <a:lnTo>
                  <a:pt x="51" y="302"/>
                </a:lnTo>
                <a:lnTo>
                  <a:pt x="50" y="309"/>
                </a:lnTo>
                <a:lnTo>
                  <a:pt x="44" y="420"/>
                </a:lnTo>
                <a:lnTo>
                  <a:pt x="42" y="456"/>
                </a:lnTo>
                <a:lnTo>
                  <a:pt x="42" y="460"/>
                </a:lnTo>
                <a:lnTo>
                  <a:pt x="39" y="498"/>
                </a:lnTo>
                <a:lnTo>
                  <a:pt x="37" y="540"/>
                </a:lnTo>
                <a:lnTo>
                  <a:pt x="32" y="619"/>
                </a:lnTo>
                <a:lnTo>
                  <a:pt x="30" y="665"/>
                </a:lnTo>
                <a:lnTo>
                  <a:pt x="30" y="668"/>
                </a:lnTo>
                <a:lnTo>
                  <a:pt x="30" y="670"/>
                </a:lnTo>
                <a:lnTo>
                  <a:pt x="23" y="781"/>
                </a:lnTo>
                <a:lnTo>
                  <a:pt x="22" y="793"/>
                </a:lnTo>
                <a:lnTo>
                  <a:pt x="21" y="823"/>
                </a:lnTo>
                <a:lnTo>
                  <a:pt x="18" y="869"/>
                </a:lnTo>
                <a:lnTo>
                  <a:pt x="18" y="875"/>
                </a:lnTo>
                <a:lnTo>
                  <a:pt x="15" y="926"/>
                </a:lnTo>
                <a:lnTo>
                  <a:pt x="14" y="942"/>
                </a:lnTo>
                <a:lnTo>
                  <a:pt x="3" y="1123"/>
                </a:lnTo>
                <a:lnTo>
                  <a:pt x="3" y="1127"/>
                </a:lnTo>
                <a:lnTo>
                  <a:pt x="0" y="1167"/>
                </a:lnTo>
                <a:lnTo>
                  <a:pt x="17" y="1169"/>
                </a:lnTo>
                <a:close/>
              </a:path>
            </a:pathLst>
          </a:custGeom>
          <a:solidFill>
            <a:srgbClr val="00808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334120" y="5410080"/>
            <a:ext cx="3133080" cy="902160"/>
            <a:chOff x="5334120" y="5410080"/>
            <a:chExt cx="3133080" cy="902160"/>
          </a:xfrm>
        </p:grpSpPr>
        <p:sp>
          <p:nvSpPr>
            <p:cNvPr id="157" name=""/>
            <p:cNvSpPr/>
            <p:nvPr/>
          </p:nvSpPr>
          <p:spPr>
            <a:xfrm>
              <a:off x="6705720" y="5410080"/>
              <a:ext cx="76320" cy="4572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9"/>
                  </a:moveTo>
                  <a:lnTo>
                    <a:pt x="27" y="36"/>
                  </a:lnTo>
                  <a:lnTo>
                    <a:pt x="28" y="26"/>
                  </a:lnTo>
                  <a:lnTo>
                    <a:pt x="39" y="30"/>
                  </a:lnTo>
                  <a:lnTo>
                    <a:pt x="48" y="23"/>
                  </a:lnTo>
                  <a:lnTo>
                    <a:pt x="39" y="7"/>
                  </a:lnTo>
                  <a:lnTo>
                    <a:pt x="27" y="0"/>
                  </a:lnTo>
                  <a:lnTo>
                    <a:pt x="27" y="13"/>
                  </a:lnTo>
                  <a:lnTo>
                    <a:pt x="25" y="21"/>
                  </a:lnTo>
                  <a:lnTo>
                    <a:pt x="18" y="15"/>
                  </a:lnTo>
                  <a:lnTo>
                    <a:pt x="4" y="34"/>
                  </a:lnTo>
                  <a:lnTo>
                    <a:pt x="5" y="51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72320" y="5412960"/>
              <a:ext cx="6480" cy="504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0"/>
                  </a:moveTo>
                  <a:lnTo>
                    <a:pt x="2" y="6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34120" y="5651280"/>
              <a:ext cx="192240" cy="183960"/>
            </a:xfrm>
            <a:prstGeom prst="rect">
              <a:avLst/>
            </a:prstGeom>
            <a:solidFill>
              <a:srgbClr val="00808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99800" y="5632200"/>
              <a:ext cx="1715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oundation Progra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034840" y="5632200"/>
              <a:ext cx="41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38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34120" y="5884560"/>
              <a:ext cx="192240" cy="184320"/>
            </a:xfrm>
            <a:prstGeom prst="rect">
              <a:avLst/>
            </a:prstGeom>
            <a:solidFill>
              <a:srgbClr val="00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97640" y="5865480"/>
              <a:ext cx="221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eacher Allocation Syste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48240" y="5865480"/>
              <a:ext cx="318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6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4120" y="6117840"/>
              <a:ext cx="192240" cy="184320"/>
            </a:xfrm>
            <a:prstGeom prst="rect">
              <a:avLst/>
            </a:prstGeom>
            <a:solidFill>
              <a:srgbClr val="0000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03400" y="609876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t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148240" y="6098760"/>
              <a:ext cx="318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6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71600" y="38088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Foundation Formu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Became popular starting in the 1920s and 1930s replacing “Flat Grant” programs. 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Allows states to target funding to low wealth &amp; high needs districts.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Flexibility: 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In how funds are distributed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How funds are used by districts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Relative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ease of use.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907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99"/>
                </a:solidFill>
                <a:latin typeface="Times New Roman"/>
              </a:rPr>
              <a:t>How A Foundation Formula Opera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99"/>
                </a:solidFill>
                <a:latin typeface="Times New Roman"/>
              </a:rPr>
              <a:t>Step 1 – Determining The Foundation Pay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Determine a per student foundation funding am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ccff"/>
                </a:solidFill>
                <a:latin typeface="Times New Roman"/>
              </a:rPr>
              <a:t>The foundation number </a:t>
            </a:r>
            <a:r>
              <a:rPr b="0" i="1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should</a:t>
            </a:r>
            <a:r>
              <a:rPr b="0" i="1" lang="en-US" sz="2400" spc="-1" strike="noStrike">
                <a:solidFill>
                  <a:srgbClr val="ccccff"/>
                </a:solidFill>
                <a:latin typeface="Times New Roman"/>
              </a:rPr>
              <a:t> equate to the amount of funding needed to educate a general education student in an average wealth district to state stand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Adjust the foundation amount based on the local school district’s ability to p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ccff"/>
                </a:solidFill>
                <a:latin typeface="Times New Roman"/>
              </a:rPr>
              <a:t>The state and local school district share the cost of the foundation amo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How A Foundation Formula Operates</a:t>
            </a:r>
            <a:br>
              <a:rPr sz="2400"/>
            </a:b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Step 1 – Determining The Foundation Payment</a:t>
            </a:r>
            <a:br>
              <a:rPr sz="2400"/>
            </a:br>
            <a:endParaRPr b="0" lang="en-US" sz="24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Multiply this new number by a district’s weighted student count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ccff"/>
              </a:solidFill>
              <a:latin typeface="Arial Black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ccccff"/>
                </a:solidFill>
                <a:latin typeface="Times New Roman"/>
              </a:rPr>
              <a:t>Students with special needs often require additional funding - this can be achieved in a foundation formula by providing students with additional weights.  These may include students who are enrolled in the following programs: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lvl="3" marL="1752480" indent="-3808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Special Education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lvl="3" marL="1752480" indent="-3808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At-risk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lvl="3" marL="1752480" indent="-3808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English language learners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lvl="3" marL="1752480" indent="-3808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Early learning programs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Adjust for other financial considerations such as regional cost or district size.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53352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99"/>
                </a:solidFill>
                <a:latin typeface="Times New Roman"/>
              </a:rPr>
              <a:t>How A Foundation Formula Opera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99"/>
                </a:solidFill>
                <a:latin typeface="Times New Roman"/>
              </a:rPr>
              <a:t>Step 2 – Determining Full State Fund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440" y="22096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Once you determine the foundation payment, add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Categorical funding for specific programs or services, add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Funding for capital outlay, food services and transportation.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71600" y="38088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Teacher Alloca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Guarantees that funding will be used to provide a minimum number of teachers.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These formulas tend to have stronger language about the amount of local funding that is required.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Control Expenditures: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Limit expenditures for administration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Target funding toward teachers.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cc99"/>
                </a:solidFill>
                <a:latin typeface="Times New Roman"/>
              </a:rPr>
              <a:t>Education Commission of the States</a:t>
            </a:r>
            <a:endParaRPr b="0" lang="en-US" sz="30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The only nationwide education interstate compact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Founded in 1965 to enlighten, equip and engage education policy makers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Forty-nine states, three territories and the District of Columbia current membership. Each member state or territory is represented by seven commissioners -- the governor and six other individuals, typically legislators, chief state school officers, state and local school board members, superintendents, higher education officials and business leaders.</a:t>
            </a:r>
            <a:r>
              <a:rPr b="0" lang="en-US" sz="3200" spc="-1" strike="noStrike">
                <a:solidFill>
                  <a:srgbClr val="cccc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Web Site: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ecs.org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Defining a Successful Formula</a:t>
            </a:r>
            <a:endParaRPr b="0" lang="en-US" sz="4400" spc="-1" strike="noStrike">
              <a:solidFill>
                <a:srgbClr val="00cc9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hat Makes a Quality Funding Formula</a:t>
            </a: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</a:rPr>
              <a:t>Adequate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Ensure that state and local funds are able to meet the state’s educational goals.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</a:rPr>
              <a:t>Just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Every student in the state receives the funding that he/she needs to achieve state standards.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hat Makes a Quality Funding Formula</a:t>
            </a: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</a:rPr>
              <a:t>Flexible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One size fits all” never works.  Districts all have different needs and different resources.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</a:rPr>
              <a:t>Straightforward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Districts and schools should know how much funding they will be getting in the coming year.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</a:rPr>
              <a:t>Produces Educational Results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Times New Roman"/>
              </a:rPr>
              <a:t>Does Any State Have A Perfect Formula?</a:t>
            </a:r>
            <a:endParaRPr b="0" lang="en-US" sz="4000" spc="-1" strike="noStrike">
              <a:solidFill>
                <a:srgbClr val="00cc9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NO</a:t>
            </a:r>
            <a:endParaRPr b="0" lang="en-US" sz="4400" spc="-1" strike="noStrike">
              <a:solidFill>
                <a:srgbClr val="00cc9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33720" y="8377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Have Any States Come Close to Creating a High Quality Formula?</a:t>
            </a:r>
            <a:endParaRPr b="0" lang="en-US" sz="28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Arkansas</a:t>
            </a: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Maryland</a:t>
            </a: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Wyoming</a:t>
            </a: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How Did Maryland Change Their System?</a:t>
            </a:r>
            <a:endParaRPr b="0" lang="en-US" sz="28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Four years ago the state established the Thornton Commission to review the equity and adequacy of its school finance system.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The Commission hired consultants to undertake two different school finance studies.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The recommendations of the studies were adopted by the legislature and passed into law in 2006.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aryland</a:t>
            </a:r>
            <a:endParaRPr b="0" lang="en-US" sz="28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Adequate: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The state undertook two different studies to make sure that educational funding was adequate to meet their educational goals.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Just: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Adjustments are made on each district’s base figure for: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At-risk students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Students with disabilities 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Regional cost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aryland</a:t>
            </a:r>
            <a:endParaRPr b="0" lang="en-US" sz="28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Flexible: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The new system uses a two-tiered approach.  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Times New Roman"/>
              </a:rPr>
              <a:t>The two finance studies that were undertaken for the commission recommended two funding figures.</a:t>
            </a:r>
            <a:endParaRPr b="0" lang="en-US" sz="1800" spc="-1" strike="noStrike">
              <a:solidFill>
                <a:srgbClr val="ccccff"/>
              </a:solidFill>
              <a:latin typeface="Arial Black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Times New Roman"/>
              </a:rPr>
              <a:t>Every district is guaranteed the lower figure – and each is allowed to increase the local spending up to the amount of the higher figure.</a:t>
            </a:r>
            <a:endParaRPr b="0" lang="en-US" sz="1800" spc="-1" strike="noStrike">
              <a:solidFill>
                <a:srgbClr val="ccccff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Straightforward: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27 categorical programs were eliminated. 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Produces Educational Results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Districts must now enter into agreements with the state about standards for student performance. 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Questions &amp; Comments</a:t>
            </a: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838080" y="4038120"/>
            <a:ext cx="7315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Michael Griffith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School Finance Analyst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Education Commission of the States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Denver, Colorado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mgriffith@ecs.org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School finance facts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School finance formulas currently in use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Defining what a successful formula is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Does a perfect formula exist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Additional Work by Mr. Griffith</a:t>
            </a: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4800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Michael Griffith</a:t>
            </a:r>
            <a:endParaRPr b="0" lang="en-US" sz="2400" spc="-1" strike="noStrike">
              <a:solidFill>
                <a:srgbClr val="ccccff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School Finance Analyst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Education Commission of the States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Denver, Colorado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mgriffith@ecs.org</a:t>
            </a:r>
            <a:endParaRPr b="0" lang="en-US" sz="2000" spc="-1" strike="noStrike">
              <a:solidFill>
                <a:srgbClr val="ccccff"/>
              </a:solidFill>
              <a:latin typeface="Arial Black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2514600"/>
            <a:ext cx="781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e Funding Programs for High-Cost Special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y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st Per-Day for Extended School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bruary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6668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School Finance Facts</a:t>
            </a:r>
            <a:endParaRPr b="0" lang="en-US" sz="44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District Information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2004-05)</a:t>
            </a:r>
            <a:endParaRPr b="0" lang="en-US" sz="2400" spc="-1" strike="noStrike">
              <a:solidFill>
                <a:srgbClr val="00cc99"/>
              </a:solidFill>
              <a:latin typeface="Arial Black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80880" y="1981080"/>
          <a:ext cx="8229600" cy="4038840"/>
        </p:xfrm>
        <a:graphic>
          <a:graphicData uri="http://schemas.openxmlformats.org/drawingml/2006/table">
            <a:tbl>
              <a:tblPr/>
              <a:tblGrid>
                <a:gridCol w="2309760"/>
                <a:gridCol w="2846520"/>
                <a:gridCol w="3073320"/>
              </a:tblGrid>
              <a:tr h="39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umber of Distri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vg # of Students Per 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Arial"/>
                        </a:rPr>
                        <a:t>Rhode Is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Arial"/>
                        </a:rPr>
                        <a:t>4,1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onnectic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2,852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Ma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231 (90es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800(1900es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Massachuset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2,364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ew Hampshi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,144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Vermo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2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2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Arial"/>
                        </a:rPr>
                        <a:t>United Sta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Arial"/>
                        </a:rPr>
                        <a:t>15,3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Arial"/>
                        </a:rPr>
                        <a:t>2,9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School Finance Facts</a:t>
            </a: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Average per student spending (2005-06):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National: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$  9,022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New England: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$11,603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Rhode Island: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$11,089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Spending varied from $5,347 (UT) to $13,781 (NJ).</a:t>
            </a: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Funding Sources for education (2005-06):</a:t>
            </a:r>
            <a:endParaRPr b="0" lang="en-US" sz="2800" spc="-1" strike="noStrike">
              <a:solidFill>
                <a:srgbClr val="00cc99"/>
              </a:solidFill>
              <a:latin typeface="Arial Black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04920" y="2057400"/>
          <a:ext cx="8076960" cy="3276720"/>
        </p:xfrm>
        <a:graphic>
          <a:graphicData uri="http://schemas.openxmlformats.org/drawingml/2006/table">
            <a:tbl>
              <a:tblPr/>
              <a:tblGrid>
                <a:gridCol w="3200400"/>
                <a:gridCol w="1676160"/>
                <a:gridCol w="1676520"/>
                <a:gridCol w="1523880"/>
              </a:tblGrid>
              <a:tr h="611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Stat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Loc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Fed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cccff"/>
                          </a:solidFill>
                          <a:latin typeface="Times New Roman"/>
                          <a:ea typeface="Arial"/>
                        </a:rPr>
                        <a:t>Rhode Isl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cccff"/>
                          </a:solidFill>
                          <a:latin typeface="Times New Roman"/>
                          <a:ea typeface="Arial"/>
                        </a:rPr>
                        <a:t>36.5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cccff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0" lang="en-US" sz="2600" spc="-1" strike="noStrike">
                          <a:solidFill>
                            <a:srgbClr val="ccccff"/>
                          </a:solidFill>
                          <a:latin typeface="Times New Roman"/>
                          <a:ea typeface="Arial"/>
                        </a:rPr>
                        <a:t>60.2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cccff"/>
                          </a:solidFill>
                          <a:latin typeface="Times New Roman"/>
                          <a:ea typeface="Arial"/>
                        </a:rPr>
                        <a:t>3.4%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ew England Stat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48.0%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45.6%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6.4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cccff"/>
                          </a:solidFill>
                          <a:latin typeface="Times New Roman"/>
                          <a:ea typeface="Arial"/>
                        </a:rPr>
                        <a:t>United Stat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cccff"/>
                          </a:solidFill>
                          <a:latin typeface="Times New Roman"/>
                          <a:ea typeface="Arial"/>
                        </a:rPr>
                        <a:t>47.6%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cccff"/>
                          </a:solidFill>
                          <a:latin typeface="Times New Roman"/>
                          <a:ea typeface="Arial"/>
                        </a:rPr>
                        <a:t>43.3%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cccff"/>
                          </a:solidFill>
                          <a:latin typeface="Times New Roman"/>
                          <a:ea typeface="Arial"/>
                        </a:rPr>
                        <a:t>9.1%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Adjusting Expenditures</a:t>
            </a:r>
            <a:endParaRPr b="0" lang="en-US" sz="3200" spc="-1" strike="noStrike">
              <a:solidFill>
                <a:srgbClr val="00cc99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23623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If Rhode Island contributed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</a:rPr>
              <a:t>47.6%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 of the funding to public education (the national average) it would equate to an additional $176 million in annual state spending.</a:t>
            </a: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(08-09 Budget 690 million) (total state budget 6.9 billion)</a:t>
            </a:r>
            <a:endParaRPr b="0" lang="en-US" sz="3200" spc="-1" strike="noStrike">
              <a:solidFill>
                <a:srgbClr val="cccc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State &amp; Local Revenue For Public Schools</a:t>
            </a:r>
            <a:br>
              <a:rPr sz="2800"/>
            </a:b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Per $1,000 of Personal Income</a:t>
            </a:r>
            <a:endParaRPr b="0" lang="en-US" sz="2400" spc="-1" strike="noStrike">
              <a:solidFill>
                <a:srgbClr val="00cc99"/>
              </a:solidFill>
              <a:latin typeface="Arial Black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438280" y="1905120"/>
          <a:ext cx="4343400" cy="4039920"/>
        </p:xfrm>
        <a:graphic>
          <a:graphicData uri="http://schemas.openxmlformats.org/drawingml/2006/table">
            <a:tbl>
              <a:tblPr/>
              <a:tblGrid>
                <a:gridCol w="2743200"/>
                <a:gridCol w="160020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Arial"/>
                        </a:rPr>
                        <a:t>Rhode Is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Arial"/>
                        </a:rPr>
                        <a:t>$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onnectic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$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Ma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$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Massachuset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$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ew Hampshi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$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Vermo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$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Arial"/>
                        </a:rPr>
                        <a:t>National Ave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Arial"/>
                        </a:rPr>
                        <a:t>$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4T14:23:43Z</dcterms:created>
  <dc:creator>Kindle Merrell</dc:creator>
  <dc:description/>
  <dc:language>en-US</dc:language>
  <cp:lastModifiedBy>Thomas</cp:lastModifiedBy>
  <dcterms:modified xsi:type="dcterms:W3CDTF">2009-01-09T20:32:22Z</dcterms:modified>
  <cp:revision>23</cp:revision>
  <dc:subject/>
  <dc:title>PowerPoint Presentation</dc:title>
</cp:coreProperties>
</file>