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BB2D7-CBFF-496E-B55B-3791646A1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1F756-F168-4F33-A83C-A16D38EA1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A3250-FB11-4E31-BF6E-5068AB064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9126D-6CD8-4AEC-B377-2684CCBB4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F2499-71D5-4916-80E1-EFDED7378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69EEB-66C4-4E23-8EE3-1FA181B96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46C80-EB72-4860-B6F0-B19329195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9B27F-D395-4A0B-89C0-53DB5A4A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98AF1-C19A-4F74-BBE6-B952F8923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0E93-E39D-4A09-9CE1-429AC1493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103D-1570-46E1-BA27-89C67FA8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9AB4-AED7-424E-ABFB-BC6146DED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9410-C18B-4735-B3EB-9813CD9B1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ef Descriptions of Principal State Aid Program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TRICT POWER EQUALIZING</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s to </a:t>
            </a:r>
            <a:r>
              <a:rPr b="1" lang="en-US" sz="2000" spc="-1" strike="noStrike">
                <a:solidFill>
                  <a:srgbClr val="000000"/>
                </a:solidFill>
                <a:latin typeface="Arial"/>
              </a:rPr>
              <a:t>equalize the ability </a:t>
            </a:r>
            <a:r>
              <a:rPr b="0" lang="en-US" sz="2000" spc="-1" strike="noStrike">
                <a:solidFill>
                  <a:srgbClr val="000000"/>
                </a:solidFill>
                <a:latin typeface="Arial"/>
              </a:rPr>
              <a:t>of school districts to raise money from local taxes. It is based on the “wealth neutrality” principle, i.e., the quality of a child’s education should be determined by the wealth of the state as a whole rather than the wealth of the district in which he/she happens to resid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ssumed that a given tax rate should raise the same amount of money in every local school distri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about how much money to spend per pupil is determined locally but each district that chooses to spend a given amount per pupil would have the same local tax r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ccomplished by either establishing a schedule of tax rates with a given amount per pupil guaranteed to a district for each level of tax effort or by guaranteeing that a specified amount of tax base (GTB) will be available to support each pup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gram was first described by Harlan Updegraf in 1922 and popularized by Coons, Clune, and Sugarman in 19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 (GTB Metho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Revenue/Pupil = District Tax Rate x District Assessed Property Valu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Share = Guaranteed Tax Base/ Pupil x District Tax Rate – Local Revenue/Pupil</a:t>
            </a:r>
            <a:endParaRPr b="0" lang="en-US" sz="3200" spc="-1" strike="noStrike">
              <a:solidFill>
                <a:srgbClr val="000000"/>
              </a:solidFill>
              <a:latin typeface="Arial"/>
            </a:endParaRPr>
          </a:p>
        </p:txBody>
      </p:sp>
      <p:sp>
        <p:nvSpPr>
          <p:cNvPr id="63" name=""/>
          <p:cNvSpPr/>
          <p:nvPr/>
        </p:nvSpPr>
        <p:spPr>
          <a:xfrm>
            <a:off x="0" y="5392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istrict’s local tax base/pupil exceeds the state guaranteed tax base per pupil, the district will receive no state aid and could be required to remit to the state any revenue greater than the amount guaranteed if “negative aid” (also called “recapture of excess wealth”) has been adop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izes the ability of local districts to pay for education and can be used with weightings that reflect districts’ varying cost of meeting special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local control of education because the district determines the expenditure per pup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axpayer equity, that is, equal tax yield for equal tax eff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ly, the state may recapture from wealthy districts any funds they raise in excess of the guaranteed amount for a given levy rate. This is referred to as “recapture of excess wealth” or “negative a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equalize expenditure per pupil (because local districts decide how much to spe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guaranteed tax base is too low, the amount of revenue per pupil will not be sufficient to enable a district to maintain a sound basic educational pro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it is very difficult to enact the “negative aid” provision, primarily because it results in diverting the proceeds of a local tax to state uses. Negative aid has been declared to violate the state constitution in at least one state (W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egative aid is adopted it reduces the incentive for wealthy districts to levy higher tax r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negative aid, a power equalizing program does not equalize spending per pup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ll State Fund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assumes complete responsibility for financing local schools. The same amount of state aid per pupil, perhaps with adjustments for special needs, would be distributed to all school distri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ould be no local property tax (or any other local tax) to support education under a complete state funding pr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pure full state funding local districts would not be permitted to supplement state funds with local revenue, although some writers have proposed permitting a very limited local add-on to the state money that would be funded by local tax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lan was first proposed by Henry Morrison in 1930 and reiterated by James B. Conant in the 1960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waii has used full state funding since it attained stateh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id Per Pupil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tal State Appropriation for Education/Total Number of Pupils in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s all local district disparities in taxing and spen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fair treatment of pupils and taxpay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ll pupils have equal education opportunities (as measured by expenditure per pupi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Local taxpayers will pay no local property tax, although the overall tax impact will depend upon the revenue sources the state adopts to fund the full cost of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s local wealth and local tax effort as factors in determining the expenditure per pupil in local school distri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enable local school administrators to spend more time on curriculum and instructional issues rather than on local fiscal mat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loss of local fiscal control (and likely the loss of local control of educational program decis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tate regulation is likely to accompany full state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ake local educational preferences into accou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vel of funding may be inadequate to support a sound basic educational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re are provisions for dealing with special needs, such as pupil weightings, there will not be equality of educational opportunity for pupils.</a:t>
            </a:r>
            <a:endParaRPr b="0" lang="en-US" sz="2400" spc="-1" strike="noStrike">
              <a:solidFill>
                <a:srgbClr val="000000"/>
              </a:solidFill>
              <a:latin typeface="Arial"/>
            </a:endParaRPr>
          </a:p>
        </p:txBody>
      </p:sp>
      <p:sp>
        <p:nvSpPr>
          <p:cNvPr id="76" name=""/>
          <p:cNvSpPr/>
          <p:nvPr/>
        </p:nvSpPr>
        <p:spPr>
          <a:xfrm>
            <a:off x="0" y="5715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initially, there will be substantial shifts in the tax burden borne by citizens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with some experiencing much higher taxes and others enjoying lower tax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sources of revenue the state uses to fund the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LAT GRA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d distributed without regard to the amount of money raised locally or the wealth of the local school distri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district receives a uniform amount of money per pupil or other funding unit such as teachers, lunches served, etc.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at grant is the earliest form of state aid, dating back to the mid 19</a:t>
            </a:r>
            <a:r>
              <a:rPr b="0" lang="en-US" sz="2000" spc="-1" strike="noStrike" baseline="30000">
                <a:solidFill>
                  <a:srgbClr val="000000"/>
                </a:solidFill>
                <a:latin typeface="Arial"/>
              </a:rPr>
              <a:t>th</a:t>
            </a:r>
            <a:r>
              <a:rPr b="0" lang="en-US" sz="2000" spc="-1" strike="noStrike">
                <a:solidFill>
                  <a:srgbClr val="000000"/>
                </a:solidFill>
                <a:latin typeface="Arial"/>
              </a:rPr>
              <a:t> century when policymakers were looking for some way to enforce state statutes and regul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 grants provided a simple and effective mechanism because if local districts failed to follow state requirements their aid would be withdraw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dom large enough to support the entire educational program so local districts typically supplement the flat grant with local revenue from property taxes or other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id per Pupil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tal Flat Grant Appropriation by the State/Number of Pupils in the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48"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istricts are treated the same—each receives a uniform amount of money per pupi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spent for any legal educational purpose the district wishes to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used in conjunction with other state aid pla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does not reduce the variation in expenditure per pupil among local school districts in the state unless it provides a very large percentage of the total revenu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ly popular because it usually provides something for nearly every district, provides a visible way to respond to emerging problems, and permits legislators to identify exactly how much money their constituent districts will rece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 the flat grant is not based on the district’s wealth or tax effort. Rich districts receive the same amount per pupil as poor districts and districts levying a high property tax rate receive the same amount per pupil as those levying a small tax r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does not recognize (or equalize) differences in districts’ wealth, need, or cost of providing needed educational programs and serv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does not reduce the disparity in expenditure per pupil among districts in the st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s the flat grant is sufficient to support the adequate minimum educational program required by a state’s constitution. (In fact, the amount of money determined by the political process is too often inadequate to support such an educational pr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UNDATION PROGRAM</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a </a:t>
            </a:r>
            <a:r>
              <a:rPr b="1" lang="en-US" sz="2000" spc="-1" strike="noStrike">
                <a:solidFill>
                  <a:srgbClr val="000000"/>
                </a:solidFill>
                <a:latin typeface="Arial"/>
              </a:rPr>
              <a:t>minimum local tax rate </a:t>
            </a:r>
            <a:r>
              <a:rPr b="0" lang="en-US" sz="2000" spc="-1" strike="noStrike">
                <a:solidFill>
                  <a:srgbClr val="000000"/>
                </a:solidFill>
                <a:latin typeface="Arial"/>
              </a:rPr>
              <a:t>and a </a:t>
            </a:r>
            <a:r>
              <a:rPr b="1" lang="en-US" sz="2000" spc="-1" strike="noStrike">
                <a:solidFill>
                  <a:srgbClr val="000000"/>
                </a:solidFill>
                <a:latin typeface="Arial"/>
              </a:rPr>
              <a:t>minimum level of expenditure per pupil </a:t>
            </a:r>
            <a:r>
              <a:rPr b="0" lang="en-US" sz="2000" spc="-1" strike="noStrike">
                <a:solidFill>
                  <a:srgbClr val="000000"/>
                </a:solidFill>
                <a:latin typeface="Arial"/>
              </a:rPr>
              <a:t>(the foundation amount) for all local school districts in the st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quired local tax rate does not produce sufficient funds to allow the district to spend at the foundation amount per pupil, the state provides the funds needed in order for the district to spend at the foundation amou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does not typically specify a maximum tax rate or spending level, permitting school districts to spend more than the foundation amount per pupil if they wish to do so. It is assumed that the foundation amount is large enough to provide every pupil with a sound basic educational pr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ndation program was first described by George Strayer and Robert Haig in 192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undation Program = Number of Pupils x Foundation Program Am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ocal Share = Required Tax Rate x District’s Assessed Property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ate Share = Foundation Program – Local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zes expenditures among districts at the foundation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s uniform statewide standards for minimum school tax rate and expenditure le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for local control through the option to levy more than the minimum tax rate and to spend at higher a higher level per pupil than the foundation program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more state aid to poor districts than to wealthy districts (which may receive no foundation program aid if their local tax levy provides enough money to spend at the foundation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s to equalize expenditure per pupil among districts and can be used with pupil weightings to reflect the cost of educating pupils with “special nee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ndation program amount established by a legislature is frequently not high enough to support a sound basic educational program. The amount should be adjusted regularly to reflect changes in the cost of a sound basic educational program but legislatures often fail to make the needed changes in a timely fash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lthy districts may be able to produce more than the amount of revenue needed to spend at the foundation program amount with their required local tax rate. This enables them to either levy less than the required tax rate or to levy the required rate and have a higher level of expenditure per pupil than the foundation program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onal to levy more than the required local tax rate is disequalizing. It creates even wider disparities in spending because wealthy districts can raise large amounts of additional revenue with a small increase in their local tax rate while poor districts raise relatively little revenue even with very high local tax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8:16:40Z</dcterms:created>
  <dc:creator>Administrator</dc:creator>
  <dc:description/>
  <dc:language>en-US</dc:language>
  <cp:lastModifiedBy>Administrator</cp:lastModifiedBy>
  <dcterms:modified xsi:type="dcterms:W3CDTF">2009-02-06T18:30:21Z</dcterms:modified>
  <cp:revision>4</cp:revision>
  <dc:subject/>
  <dc:title>Brief Descriptions of Principal State Aid Programs</dc:title>
</cp:coreProperties>
</file>